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A508-3654-44B1-867E-0D268638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E8A8-2A25-4173-A737-7F09EDA1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00FA-A9D8-4C4B-8248-66AA81C7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CE33-1A87-4494-92D6-3A9474A9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DCE-DCB6-4EA4-8F35-06C22CB4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6F2E-FFF5-496F-8C39-82E4077A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0C92-89A6-46D2-B8FB-7A415F75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F4EC-DBA4-42A8-90A0-1768BA64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61E4-DD65-4402-86AF-F73986C2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0949-FFCB-40A8-9A16-D8182359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D1D0-EB9C-4DDE-952A-D8CA399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C443-5C90-42DF-9A2D-67AA653D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A395-C6B1-46C3-9B37-E22BD954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E0DF-DA62-4A0C-901B-C8C47DC1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70F2-E0C0-460A-9036-C64E599D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0589-B8DB-4687-87C7-ECB3FB6E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7A93-7AE5-47E3-B83D-BA72550E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CF70-8908-48F9-96E8-5D006DAB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7DC0-5BA3-4E16-8F2E-198C5209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72E4-4EEA-407B-A043-FF19D452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70EB-D999-4136-94F5-B62F89B9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E220-CED9-4FA2-942F-E90A7AD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5FCD-4F19-429C-9CE8-F9D12ED6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1D2B-6D5D-4B50-AC29-CA8265A6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6958-1570-44C0-9FEE-A0867C82A9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8FEC-6C02-4E0B-9B8C-3275C4B3A9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Одноатомные спирты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Физические свойств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лекулы спиртов, подобно молекуле воды, имеют угловое строение. Угол R−O−H в молекуле метанола равен 108,5°. Атом кислорода гидроксильной группы находится в состоянии 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s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³-гибридизации. Спирты имеют существенно более высокие температуры плавления и кипения, чем можно было бы предполагать на основании физических свойств родственных соединений. Так, из ряда монозамещённых производных метана, метанол имеет необычно высокую температуру кипения, несмотря на относительно небольшую молекулярную массу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втор : Ваня Чумак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Спирты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ирты- органические соединения, содержащие одну или более гидроксильных групп (гидроксил, 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−OH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, непосредственно связанных с насыщенным (находящимся в состоянии 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sp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³-гибридизации) атомом углерода. Спирты можно рассматривать как производные воды (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H−O−H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, в которых один атом водорода замещен на органическую функциональную группу: 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R−O−H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Классификация спиртов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По числу гидроксильных групп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дноатомные спирты (метанол)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 двухатомные спирты (этиленгликоль)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трехатомные спирты (глицерин)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 четырёхатомные спирты (пентаэритрит)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— многоатомные спирты (пятиатомный спирт: ксилит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Классификация спирт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В зависимости от насыщенности углеводородного заместител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ельные (насыщенные) спирты (бутанол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непредельные (ненасыщенные) спирты (аллиловый спирт, пропаргиловый спирт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ароматические спирты (бензиловый спирт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Классификация спирт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В зависимости от наличия или отсутствия цикла в углеводородном заместител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циклические (алифатические) спирты (этанол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алициклические спирты (циклогексанол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Классификация спирт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В зависимости от числа заместителей при α-углеродном атом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рвичные спирты (этанол)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— вторичные спирты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пропанол-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— третичные спирты (2-метилпропанол-2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Номенклатура спиртов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адикало-функциональная номенклатур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В рамках данной номенклатуры название образуется от названия класса соединения (спирт) с добавлением названий радикалов, присоединённых к гидроксильной группе, например: этиловый спирт C2H5OH, гексиловый спирт C6H13OH, аллиловый спирт СH2=CH-CH2O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Номенклатура спиртов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ациональная номенклатур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(карбинольная номенклатура) спиртов рассматривает их как производные метанола CH3OH, называемого в данном случае карбинолом: диметилкарбинол (СH3)2СНOH, трифенилкарбинол (С6H5)3CO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Номенклатура спиртов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ивиальная номенклатур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В популярной и научной литературе можно нередко встретить исторические, или тривиальные, названия спиртов, которые вследствие сложившейся традиции используются вместо систематических названий[. Тривиальные названия обычно происходят от названия природного источника получения того или иного спирта. Так, например, метанол называют древесным спиртом, этанол — винным спиртом, гераниол содержится в гераниевом масле, а цетиловый спирт ранее получали из жира кашалотов. Некоторые спирты получили тривиальные названия из-за своих физических свойств (глицерин от др.-греч. glykeros, сладкий). Спирты, производные от природных углеводов, сохраняют корень тривиального названия соответствующих углеводов (маннит, ксилит ,сорбит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8:06:54Z</dcterms:created>
  <dc:creator>юля и ник</dc:creator>
  <dc:description/>
  <dc:language>en-US</dc:language>
  <cp:lastModifiedBy>юля и ник</cp:lastModifiedBy>
  <dcterms:modified xsi:type="dcterms:W3CDTF">2015-02-25T18:24:44Z</dcterms:modified>
  <cp:revision>2</cp:revision>
  <dc:subject/>
  <dc:title>Одноатомные спирты </dc:title>
</cp:coreProperties>
</file>