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9C2-3795-4B16-8EE4-37DABED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090-C2EC-4A61-A515-EAA26861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E0E-AE75-47B1-B3DF-85FDBFE2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E2A-4E00-4115-833A-3FA8B9B3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4CE6-9697-4535-8EC1-058AF13B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6A6A-35E2-4410-88C6-6A9B442C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59E8-9539-4A99-A7F4-01F7904E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4BAF-E6F8-479A-A396-426737B1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A8FA-01DE-47C7-A917-AED872A0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E6C0-9EEC-42C3-8FB1-1B44A2E3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E195-665D-423E-8F7A-7017BDD9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F4D-B38F-4D4C-8D28-12835C6B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6683-E127-4E3D-A7BA-395E273F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F29D-077B-4139-A322-4095CE3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6BB5-FEC0-41BC-83B1-DE89935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597A-C1F0-4776-A440-7FA97246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D2DB-8A36-4442-BC3D-021D4AAF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32C-983A-4642-AD46-07838D8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D61-FB5A-4F2E-BBCD-1E0AE388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F04-9B68-434C-BAF7-FD3DF63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938-F982-4069-9F61-887B7C2C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B9A-8DEA-479A-9318-9E2F682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575-D943-4DAE-9016-838344A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10B-F718-47E8-B3A5-36907D83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120F-DFF2-413E-B7BA-C8ED40A3603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3755-EC0E-4429-9EA2-470199629EA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50000">
              <a:srgbClr val="ffcc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032"/>
                </a:solidFill>
                <a:latin typeface="Times New Roman"/>
              </a:rPr>
              <a:t>Муниципальное образовательное</a:t>
            </a:r>
            <a:br>
              <a:rPr sz="1800"/>
            </a:br>
            <a:r>
              <a:rPr b="1" lang="ru-RU" sz="1800" spc="-1" strike="noStrike">
                <a:solidFill>
                  <a:srgbClr val="320032"/>
                </a:solidFill>
                <a:latin typeface="Times New Roman"/>
              </a:rPr>
              <a:t> казён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320032"/>
                </a:solidFill>
                <a:latin typeface="Times New Roman"/>
              </a:rPr>
              <a:t>Новомеловатская общеобразовательная школа </a:t>
            </a:r>
            <a:br>
              <a:rPr sz="1800"/>
            </a:br>
            <a:r>
              <a:rPr b="1" lang="ru-RU" sz="1800" spc="-1" strike="noStrike">
                <a:solidFill>
                  <a:srgbClr val="320032"/>
                </a:solidFill>
                <a:latin typeface="Times New Roman"/>
              </a:rPr>
              <a:t>Калачеевского района Воронежской области</a:t>
            </a:r>
            <a:br>
              <a:rPr sz="1800"/>
            </a:br>
            <a:br>
              <a:rPr sz="3200"/>
            </a:br>
            <a:r>
              <a:rPr b="1" lang="ru-RU" sz="2400" spc="-1" strike="noStrike">
                <a:solidFill>
                  <a:srgbClr val="320032"/>
                </a:solidFill>
                <a:latin typeface="Times New Roman"/>
              </a:rPr>
              <a:t>Разработка урока </a:t>
            </a:r>
            <a:br>
              <a:rPr sz="2400"/>
            </a:br>
            <a:r>
              <a:rPr b="1" lang="ru-RU" sz="2400" spc="-1" strike="noStrike">
                <a:solidFill>
                  <a:srgbClr val="320032"/>
                </a:solidFill>
                <a:latin typeface="Times New Roman"/>
              </a:rPr>
              <a:t>учителя </a:t>
            </a:r>
            <a:r>
              <a:rPr b="1" lang="en-US" sz="2400" spc="-1" strike="noStrike">
                <a:solidFill>
                  <a:srgbClr val="320032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20032"/>
                </a:solidFill>
                <a:latin typeface="Times New Roman"/>
              </a:rPr>
              <a:t> категории</a:t>
            </a:r>
            <a:br>
              <a:rPr sz="2400"/>
            </a:br>
            <a:r>
              <a:rPr b="1" lang="ru-RU" sz="2400" spc="-1" strike="noStrike">
                <a:solidFill>
                  <a:srgbClr val="320032"/>
                </a:solidFill>
                <a:latin typeface="Times New Roman"/>
              </a:rPr>
              <a:t> русского языка и литературы Тертышниковой Т. 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20032"/>
                </a:solidFill>
                <a:latin typeface="Times New Roman"/>
              </a:rPr>
              <a:t>Урок-исследование по русскому языку в 7 классе</a:t>
            </a:r>
            <a:br>
              <a:rPr sz="2400"/>
            </a:br>
            <a:r>
              <a:rPr b="1" lang="ru-RU" sz="2400" spc="-1" strike="noStrike">
                <a:solidFill>
                  <a:srgbClr val="320032"/>
                </a:solidFill>
                <a:latin typeface="Times New Roman"/>
              </a:rPr>
              <a:t>(подготовка к сочинению по картине</a:t>
            </a:r>
            <a:br>
              <a:rPr sz="2400"/>
            </a:br>
            <a:r>
              <a:rPr b="1" lang="ru-RU" sz="2400" spc="-1" strike="noStrike">
                <a:solidFill>
                  <a:srgbClr val="320032"/>
                </a:solidFill>
                <a:latin typeface="Times New Roman"/>
              </a:rPr>
              <a:t> С.А. Григорьева «Вратарь»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320032"/>
                </a:solidFill>
                <a:latin typeface="Times New Roman"/>
              </a:rPr>
              <a:t>Хвощеватое, 2013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457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dff"/>
                </a:solidFill>
                <a:uFillTx/>
                <a:latin typeface="Aharoni"/>
              </a:rPr>
              <a:t>П Л А 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4648320" cy="525780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t">
            <a:noAutofit/>
          </a:bodyPr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               </a:t>
            </a: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СЛОЖНЫ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1. Тема и основная мысль картин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2. Описание картины С.А. Григорьева «Вратарь»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а) на пустыре в погожий осенний ден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б) бесстрашный вратар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в) мальчик в красном костюме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г) болельщики и зрител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3. Особенности композиции картин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4. Роль деталей в картин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5. Колорит картин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6. Мастерство художника: удачная композиция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выразительные дета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omic Sans MS"/>
              </a:rPr>
              <a:t>7. Мое отношение к картин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57800" y="1066680"/>
            <a:ext cx="3657600" cy="312444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               </a:t>
            </a: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ПРОСТ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1. За домом в погожий осенний ден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2. Бесстрашный вратарь и его помощни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3. Зрители 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болеют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”</a:t>
            </a: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 по-разном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4. Мастерство художни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Comic Sans MS"/>
              </a:rPr>
              <a:t>5. Моё впечатление о картин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6" descr="medium_201006100949001481506"/>
          <p:cNvPicPr/>
          <p:nvPr/>
        </p:nvPicPr>
        <p:blipFill>
          <a:blip r:embed="rId1"/>
          <a:stretch/>
        </p:blipFill>
        <p:spPr>
          <a:xfrm>
            <a:off x="5410080" y="4419720"/>
            <a:ext cx="356256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порте слагают легенд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шут о спорте стих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знаем спортивные бренд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дём олимпийские дн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10"/>
          <p:cNvPicPr/>
          <p:nvPr/>
        </p:nvPicPr>
        <p:blipFill>
          <a:blip r:embed="rId2"/>
          <a:stretch/>
        </p:blipFill>
        <p:spPr>
          <a:xfrm>
            <a:off x="304920" y="3124080"/>
            <a:ext cx="2315880" cy="3429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191319"/>
          <p:cNvPicPr/>
          <p:nvPr/>
        </p:nvPicPr>
        <p:blipFill>
          <a:blip r:embed="rId3"/>
          <a:stretch/>
        </p:blipFill>
        <p:spPr>
          <a:xfrm>
            <a:off x="6477120" y="3962520"/>
            <a:ext cx="2463840" cy="2590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2666880" y="4343400"/>
            <a:ext cx="381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старт Олимпийскому огн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февраля 2014 г. Олимпийский огонь прибудет на стадион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чи, где состоится грандиозное событие – открыт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их Олимпийских иг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0" y="13716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Эпиграф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И то мгновень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верь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неуловимо,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           Когда замрет восторженный народ, -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           Удар в ворота! Мяч стрелой и … мимо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           Мяч пролетит стрелой мимо ворот.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                                  (Николай Отрад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52280" y="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Тема: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«Подготовка к сочинению – описанию картины С.А. Григорьева «Вратарь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0_630c4_aecb0fa1_XL"/>
          <p:cNvPicPr/>
          <p:nvPr/>
        </p:nvPicPr>
        <p:blipFill>
          <a:blip r:embed="rId2"/>
          <a:stretch/>
        </p:blipFill>
        <p:spPr>
          <a:xfrm>
            <a:off x="457200" y="4114800"/>
            <a:ext cx="3200400" cy="2251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omic Sans MS"/>
              </a:rPr>
              <a:t>В МИРЕ СПОР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4" descr="2477791_original"/>
          <p:cNvPicPr/>
          <p:nvPr/>
        </p:nvPicPr>
        <p:blipFill>
          <a:blip r:embed="rId3"/>
          <a:stretch/>
        </p:blipFill>
        <p:spPr>
          <a:xfrm>
            <a:off x="457200" y="1523880"/>
            <a:ext cx="3276720" cy="239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283507_sport_futbol_myach_oboi_2560x1600_(www"/>
          <p:cNvPicPr/>
          <p:nvPr/>
        </p:nvPicPr>
        <p:blipFill>
          <a:blip r:embed="rId4"/>
          <a:stretch/>
        </p:blipFill>
        <p:spPr>
          <a:xfrm>
            <a:off x="4800600" y="1523880"/>
            <a:ext cx="3886200" cy="242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yashin"/>
          <p:cNvPicPr/>
          <p:nvPr/>
        </p:nvPicPr>
        <p:blipFill>
          <a:blip r:embed="rId5"/>
          <a:stretch/>
        </p:blipFill>
        <p:spPr>
          <a:xfrm>
            <a:off x="5257800" y="4111560"/>
            <a:ext cx="3403440" cy="23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58864693"/>
          <p:cNvPicPr/>
          <p:nvPr/>
        </p:nvPicPr>
        <p:blipFill>
          <a:blip r:embed="rId6"/>
          <a:stretch/>
        </p:blipFill>
        <p:spPr>
          <a:xfrm>
            <a:off x="3276720" y="1828800"/>
            <a:ext cx="2971800" cy="3505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50000">
              <a:srgbClr val="ffcc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191120" y="762120"/>
            <a:ext cx="4419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111111"/>
                </a:solidFill>
                <a:latin typeface="Comic Sans MS"/>
              </a:rPr>
              <a:t>Сергей Алексеевич Григорьев – народный художник Украины, родился в Луганске (Донбассе) в многодетной семье железнодорожника. Широкую известность приобрел как автор произведений на тему семьи и школ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grigorev"/>
          <p:cNvPicPr/>
          <p:nvPr/>
        </p:nvPicPr>
        <p:blipFill>
          <a:blip r:embed="rId1"/>
          <a:stretch/>
        </p:blipFill>
        <p:spPr>
          <a:xfrm>
            <a:off x="457200" y="914400"/>
            <a:ext cx="3235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111111"/>
                </a:solidFill>
                <a:latin typeface="Comic Sans MS"/>
              </a:rPr>
              <a:t>Лучшие полотна художника посвящены детя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9" descr="Прием в комсомол"/>
          <p:cNvPicPr/>
          <p:nvPr/>
        </p:nvPicPr>
        <p:blipFill>
          <a:blip r:embed="rId2"/>
          <a:stretch/>
        </p:blipFill>
        <p:spPr>
          <a:xfrm>
            <a:off x="914400" y="1371600"/>
            <a:ext cx="3087720" cy="2171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grigorev1"/>
          <p:cNvPicPr/>
          <p:nvPr/>
        </p:nvPicPr>
        <p:blipFill>
          <a:blip r:embed="rId3"/>
          <a:stretch/>
        </p:blipFill>
        <p:spPr>
          <a:xfrm>
            <a:off x="5029200" y="1371600"/>
            <a:ext cx="3336840" cy="2171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вочка в шубке"/>
          <p:cNvPicPr/>
          <p:nvPr/>
        </p:nvPicPr>
        <p:blipFill>
          <a:blip r:embed="rId4"/>
          <a:stretch/>
        </p:blipFill>
        <p:spPr>
          <a:xfrm>
            <a:off x="3657600" y="4038480"/>
            <a:ext cx="1859040" cy="228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Девочка с яблоком"/>
          <p:cNvPicPr/>
          <p:nvPr/>
        </p:nvPicPr>
        <p:blipFill>
          <a:blip r:embed="rId5"/>
          <a:stretch/>
        </p:blipFill>
        <p:spPr>
          <a:xfrm>
            <a:off x="6400800" y="4038480"/>
            <a:ext cx="189216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Внучка поэта"/>
          <p:cNvPicPr/>
          <p:nvPr/>
        </p:nvPicPr>
        <p:blipFill>
          <a:blip r:embed="rId6"/>
          <a:stretch/>
        </p:blipFill>
        <p:spPr>
          <a:xfrm>
            <a:off x="838080" y="4038480"/>
            <a:ext cx="1914480" cy="2266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5793120" y="35053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 в комсомо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1218600" y="35053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двой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990720" y="63244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чка поэ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5812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в шуб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326280" y="63244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яблок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870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omic Sans MS"/>
              </a:rPr>
              <a:t>картина «Вратарь»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S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61300"/>
                </a:solidFill>
                <a:uFillTx/>
                <a:latin typeface="Comic Sans MS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180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0c00"/>
                </a:solidFill>
                <a:latin typeface="Comic Sans MS"/>
              </a:rPr>
              <a:t>футбол, состязание, матч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99"/>
              </a:spcBef>
              <a:buClr>
                <a:srgbClr val="180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0c00"/>
                </a:solidFill>
                <a:latin typeface="Comic Sans MS"/>
              </a:rPr>
              <a:t>бесстрашный вратарь, кожаные перчатки, ушибленное колен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99"/>
              </a:spcBef>
              <a:buClr>
                <a:srgbClr val="180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0c00"/>
                </a:solidFill>
                <a:latin typeface="Comic Sans MS"/>
              </a:rPr>
              <a:t>завладеть мячом, атаковать ворота, прикрывать вратар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99"/>
              </a:spcBef>
              <a:buClr>
                <a:srgbClr val="180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0c00"/>
                </a:solidFill>
                <a:latin typeface="Comic Sans MS"/>
              </a:rPr>
              <a:t>пиджак, свитер, капюшон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99"/>
              </a:spcBef>
              <a:buClr>
                <a:srgbClr val="180c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0c00"/>
                </a:solidFill>
                <a:latin typeface="Comic Sans MS"/>
              </a:rPr>
              <a:t>в легкой дымке, очертания строе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79464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66"/>
                </a:solidFill>
                <a:uFillTx/>
                <a:latin typeface="Comic Sans MS"/>
              </a:rPr>
              <a:t>Слова - синони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художник, мастер живописи, автор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картина, полотно, произведение искусств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увлекательный, интересный, захватывающи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нимательно, сосредоточенн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быстрый, проворный, стремительны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броситься, кинуться, метнуться, ринуться, устреми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 Sans MS"/>
              </a:rPr>
              <a:t>Деепричастные обор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ожидая мяч, защищая ворота, слегка согнувшись, поставив руки на колени, сосредоточив внимани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 заложив руки за спину, выпятив живот, внимательно наблюдая за мяч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оказавшись здесь случайно, держа в руках папку с бумагами, затаив дыхание и приподняв голову, обнявши маленького брата, поставив руки на пояс, держа в руках куклу, согнувшись и скрестив пальцы ру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0:20:39Z</dcterms:created>
  <dc:creator>Elena</dc:creator>
  <dc:description/>
  <dc:language>en-US</dc:language>
  <cp:lastModifiedBy>Elena</cp:lastModifiedBy>
  <dcterms:modified xsi:type="dcterms:W3CDTF">2013-12-08T08:54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