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940-F0FB-42AE-9BCB-83202458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AAE-248D-49EE-BBEA-47354938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3F3-50A1-45C4-827E-15851794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537-C73D-4EC0-9A79-2D9A1257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CA36-A0E2-4D96-A506-3B6A9CE6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2905-EF01-4265-9914-4B5AF5C6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3AD4-73BE-4881-A4A9-36E4AA44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C678-E316-48F1-B358-EC9C5C1D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CF2D-8154-4923-9C5E-66408377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5632-FA5C-4326-8593-1F53C97B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DDB9-B125-4A47-B67E-8519723F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271-93E2-45D6-BF8B-2878B9E7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9AE7-CA7B-4899-97D2-1A76502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38F2-445F-4F70-8D1D-CEDAB879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C003-C8CA-490E-BCA0-029AEE8D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77E8-2745-4921-A0C6-2C6EF332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894A-F82B-4FDC-B64A-1AF1D039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908-783C-4622-8428-C951E57B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C08-0C73-4546-9E02-86D86E01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4E3-495E-4CCB-8EA7-44EB6746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058-E87D-4D18-AC3C-7931B284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66B-B1FC-44AE-A9B7-8623C47C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5FD-47B6-40F5-9CAC-A5CB716B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5DF-7E16-48EC-B92C-8D5A2FAA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0210-0683-4E60-9208-3479F331AC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1DA8-6F50-4FE7-B5D2-D3030B7139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Родительское собрани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700000" y="2781000"/>
            <a:ext cx="644364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ощрение и наказание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к метод воспитания ребенк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 семь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5" descr="MCj04398190000[1]"/>
          <p:cNvPicPr/>
          <p:nvPr/>
        </p:nvPicPr>
        <p:blipFill>
          <a:blip r:embed="rId1"/>
          <a:stretch/>
        </p:blipFill>
        <p:spPr>
          <a:xfrm>
            <a:off x="468360" y="3933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3366"/>
                </a:solidFill>
                <a:uFillTx/>
                <a:latin typeface="Arial"/>
              </a:rPr>
              <a:t>Принуждение и поощрение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как методы воспитания не всегда играют положительную роль в воспитании личности ребенка, хотя родители ими охотно пользуются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ая мудр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Верная указка не кулак, а ласка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Понуканье – не воспитание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Требования 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к поощрению и наказанию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льзя использовать методы наказания слишком часто, так как утрачивается их стимулирующая и тормозящая функц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льзя поощрять и наказывать одних и тех же детей, так как и в том и другом случаи они изолируются из коллектива сверстников, как примерные или как хулиган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ера наказания и поощрения должна соответствовать мере поступка и проступ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ельзя откладывать поощрение и наказание во времени, так как стимул утрачивает непосредственную связь с поступком и проступк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несение наказания не должно приносить нравственных страданий, а наоборот должно стимулировать воспитанника изменить собственное поведение, отношение к тем или иным сторонам действитель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олненное воспитанником наказание исчерпывает вин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казание и поощрение, высказанное публично имеет многократно большее воздействие не только на отдельного воспитанника, но и на весь детский коллекти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ельзя наказывать труд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изическое наказание критикуется и не допускается в воспитании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я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семье родился маленький ребенок, после чего поведение старшего сына резко изменилось. Все чаще и чаще он начал проявлять агрессивность по отношению к родителям. Младший брат тоже стал предметом его агрессии. В очередной раз, когда мама попросила посидеть старшего сына с малышом, он ответил: «Я в няньки не нанимался!» Родители были возмущены. Последовало наказание за провинн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я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семье было принято в конце недели отчитывались о результатах своей учебы. Если, по мнению родителей, результаты были хорошими, то дети получали поощрение в виде карманных денег. Если родителей учебные результаты детей не устраивали, то они должны были выполнять трудовую повинность по дому, по хозяйству. Работу в доме можно  было найти всегда, и дети старались учиться так, чтобы избежать любым способом наказания труд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вы шлепаете ребенка «под горячую руку», это означает, что вы хуже владеете собой, нежели требуете того от ребен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казания вынуждают ребенка опасаться потерять родительскую любовь. Он чувствует себя отверженным и начинает ревновать к брату или сестре, а порой и к родителя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згляд со стороны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ети учатся тому, что они видят вокруг себ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 живет в атмосфере критики, он учится  порица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 живет в обстановке враждебности, он учится воева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 живет в обстановке страха, он учится  боять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окружен жалостью, он учится жалеть самого себ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згляд со стороны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окружен насмешками, он учится робе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окружен ревностью, он учится завидова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живет с чувством стыда, он  учится чувствовать себя виноват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чувствует поощрение, он учится быть уверенным в себ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живет в атмосфере терпимости, он учится быть терпим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ка хвалят, он учится быть благодарн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згляд со стороны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лекарство не достигает цели, если доза слишком велика, так 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рицание и критик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достигают цели, когда они переходят  меру справедлив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.Шопенгауэ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ШОПЕНГАУЭР (Schopenhauer) Артур (1788 - 1860), немецкий философ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живет в атмосфере любви, он учится люби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чувствует одобрение окружающих, он учится любить себ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вокруг ребенка все делятся друг с другом, он учится щедр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живет среди честных и справедливых людей, он поймет, что такое правда и справедлив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сли ребенок живет с чувством безопасности, он учится верить в себя и в окружающи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згляд со стороны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ворческо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3884400"/>
                <a:gridCol w="3808440"/>
              </a:tblGrid>
              <a:tr h="159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лова, которыми вы поощряете своих дете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лова, которыми вы ругаете своих дете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32" descr="MCj04338230000[1]"/>
          <p:cNvPicPr/>
          <p:nvPr/>
        </p:nvPicPr>
        <p:blipFill>
          <a:blip r:embed="rId1"/>
          <a:stretch/>
        </p:blipFill>
        <p:spPr>
          <a:xfrm>
            <a:off x="1763640" y="4076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3" descr="MCj04244520000[1]"/>
          <p:cNvPicPr/>
          <p:nvPr/>
        </p:nvPicPr>
        <p:blipFill>
          <a:blip r:embed="rId2"/>
          <a:stretch/>
        </p:blipFill>
        <p:spPr>
          <a:xfrm>
            <a:off x="5724360" y="4292640"/>
            <a:ext cx="1851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Помните!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Быть родителями – значит все время учиться ими быть: развивать интуицию; самообучаться по мере того, как растут дети; помогать себе и им стать ближе друг к другу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начение слов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«Поощрение»: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i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«Наказание»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одобрение»                    «требовани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содействие»                  «штраф»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стимулирование»        «стимулирование»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4" descr="MCj04344110000[1]"/>
          <p:cNvPicPr/>
          <p:nvPr/>
        </p:nvPicPr>
        <p:blipFill>
          <a:blip r:embed="rId1"/>
          <a:stretch/>
        </p:blipFill>
        <p:spPr>
          <a:xfrm>
            <a:off x="7236000" y="4797360"/>
            <a:ext cx="1625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12800" y="2450160"/>
            <a:ext cx="8257320" cy="23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Поощрение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это выражение одобрительной оценки, признание качеств, поступков, поведения отдельного воспитанника или группы в цело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иды (формы) поощре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хвала (аргументированное одобр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добрение (выражение положительной оценки по отношению к поведению воспитанник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лагодарность (выражение общественного признания поступка документально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граждение (самый сильный метод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26560" y="2565360"/>
            <a:ext cx="7921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3366"/>
                </a:solidFill>
                <a:uFillTx/>
                <a:latin typeface="Arial"/>
              </a:rPr>
              <a:t>Наказание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– это выражение отрицательной оценки, осуждение действий и поступков, противоречащих нормы поведения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ормы наказа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мечан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еодобрение (аргументированное замечани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едупрежд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граничение в деятельности, лишение привилегий (временно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казание с помощью метода естественных последств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говор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тсрочка ожидаемого поощр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ОЕ НАКАЗ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000" y="2349360"/>
            <a:ext cx="8126280" cy="42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Под влиянием болевого сигнала перестраивается работа всех органов организма, — отмечает  Б. Ф. Ломов, - что приводит к повышению его реактивности. Повышение тонуса скелетной мускулатуры, сократимости и возбудимости мышц, а также увеличение чувствительности всех анализаторов. Это обеспечивает быстроту оборонительных реакций и большую, чем обычно, предусмотрительность поведения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06:09:30Z</dcterms:created>
  <dc:creator>школа</dc:creator>
  <dc:description/>
  <dc:language>en-US</dc:language>
  <cp:lastModifiedBy>Чукча</cp:lastModifiedBy>
  <dcterms:modified xsi:type="dcterms:W3CDTF">2010-02-26T20:25:26Z</dcterms:modified>
  <cp:revision>10</cp:revision>
  <dc:subject/>
  <dc:title>Родительское собрание</dc:title>
</cp:coreProperties>
</file>