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3987-5DD0-4799-B17F-68D35DF50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1657-758D-4D99-AAD8-368AFFAC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B9E0-9C83-4DA3-B35F-14E9D9488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0420-7CA4-491B-A0CB-9B0B25408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9A48-EADD-4B02-9E7C-07BB88B43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A851-0530-4279-B043-BF31DC8A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6552-E72C-407B-A73A-B5F7C5DF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23DE-4ABD-4E8E-8613-CF53EEF4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1952-7C7C-439C-9FA2-55870A26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3F0C-EB6F-4632-BE51-83E0C360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85CF-F312-44A1-BE5A-D0458D9D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F0A5-E533-40B5-861B-8F588EAC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4707-7755-44B1-AFF2-AA27E9D1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F8BA-3EBC-44E2-9D69-EF62C401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D48C-29CE-4E16-91CB-ACE80B06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648A-9E98-422A-98A7-F54E2BC5C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6B58-0B60-4033-A8BD-4ADDF0C25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45F6-4A12-4126-B2C8-203F2B10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DB8A-D278-4C39-B5F6-15282255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1991-7E7F-410D-873E-82D2643A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B5C5-78FE-4A51-9616-56971EBF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B210-6239-4A45-9727-A90757FD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7F66-FFD5-4A17-B244-DDF3D74D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D71D-5122-46E4-83C0-59BDBB21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F67F-0D43-41A0-97FB-850CC4940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13BA-B71C-4F64-80DC-55EB1C0349CB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Родительское собрание</a:t>
            </a:r>
            <a:br>
              <a:rPr sz="4000"/>
            </a:b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Тема:</a:t>
            </a:r>
            <a:br>
              <a:rPr sz="4000"/>
            </a:br>
            <a:r>
              <a:rPr b="1" i="1" lang="en-US" sz="4000" spc="-1" strike="noStrike">
                <a:solidFill>
                  <a:srgbClr val="0066ff"/>
                </a:solidFill>
                <a:latin typeface="Times New Roman"/>
              </a:rPr>
              <a:t>«Воспитание сознательной дисциплины»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06720" y="3885840"/>
            <a:ext cx="5237280" cy="29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4" name="Picture 5" descr="http://o-dosuge.ru/wp-content/uploads/2009/12/Semja.jpg"/>
          <p:cNvPicPr/>
          <p:nvPr/>
        </p:nvPicPr>
        <p:blipFill>
          <a:blip r:embed="rId1"/>
          <a:stretch/>
        </p:blipFill>
        <p:spPr>
          <a:xfrm>
            <a:off x="0" y="4221000"/>
            <a:ext cx="390672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Анкета. 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За что тебя хвалят?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16000" y="1676520"/>
            <a:ext cx="8026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За «5», за хорошие оценки -19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За помощь - 6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За хорошее поведение – 2 человека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За хороший почерк - 2 человека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За хорошие поступки – 1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За трудолюбие 1-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0000" y="25200"/>
            <a:ext cx="7883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Анкета. 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Как тебя поощряют?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87280" y="1052280"/>
            <a:ext cx="7772400" cy="544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Дают сладкое – 8 человек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Дают деньги – 4 человек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Хвалят- 4 человек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Никак – 3 человек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Дают играть на компьютере- 2 человек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Покупают игры -2 человек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Покупают всё, что захочу -2 человек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Ходят в кино – 2 человек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Дают смотреть телевизор – 1 человек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Целуют- 1 человек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Обнимают – 1 человек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Гладят по голове – 1 человек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5" name="Управляющая кнопка: домой 1"/>
          <p:cNvSpPr/>
          <p:nvPr/>
        </p:nvSpPr>
        <p:spPr>
          <a:xfrm>
            <a:off x="6732720" y="595008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13206" y="3837"/>
                </a:moveTo>
                <a:lnTo>
                  <a:pt x="15782" y="6448"/>
                </a:lnTo>
                <a:lnTo>
                  <a:pt x="15782" y="4707"/>
                </a:lnTo>
                <a:lnTo>
                  <a:pt x="17558" y="4707"/>
                </a:lnTo>
                <a:lnTo>
                  <a:pt x="17558" y="8224"/>
                </a:lnTo>
                <a:lnTo>
                  <a:pt x="20169" y="10800"/>
                </a:lnTo>
                <a:lnTo>
                  <a:pt x="18515" y="10800"/>
                </a:lnTo>
                <a:lnTo>
                  <a:pt x="18515" y="17989"/>
                </a:lnTo>
                <a:lnTo>
                  <a:pt x="7897" y="17989"/>
                </a:lnTo>
                <a:lnTo>
                  <a:pt x="7897" y="10800"/>
                </a:lnTo>
                <a:lnTo>
                  <a:pt x="6243" y="10800"/>
                </a:lnTo>
                <a:close/>
              </a:path>
              <a:path fill="darkenLess" w="26412" h="21600">
                <a:moveTo>
                  <a:pt x="15782" y="6448"/>
                </a:moveTo>
                <a:lnTo>
                  <a:pt x="15782" y="4707"/>
                </a:lnTo>
                <a:lnTo>
                  <a:pt x="17558" y="4707"/>
                </a:lnTo>
                <a:lnTo>
                  <a:pt x="17558" y="8224"/>
                </a:lnTo>
                <a:close/>
              </a:path>
              <a:path fill="darkenLess" w="26412" h="21600">
                <a:moveTo>
                  <a:pt x="12283" y="14299"/>
                </a:moveTo>
                <a:lnTo>
                  <a:pt x="14129" y="14299"/>
                </a:lnTo>
                <a:lnTo>
                  <a:pt x="14129" y="17989"/>
                </a:lnTo>
                <a:lnTo>
                  <a:pt x="18515" y="17989"/>
                </a:lnTo>
                <a:lnTo>
                  <a:pt x="18515" y="10800"/>
                </a:lnTo>
                <a:lnTo>
                  <a:pt x="7897" y="10800"/>
                </a:lnTo>
                <a:lnTo>
                  <a:pt x="7897" y="17989"/>
                </a:lnTo>
                <a:lnTo>
                  <a:pt x="12283" y="17989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115640" y="404640"/>
            <a:ext cx="7272360" cy="612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Наказание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– это отрицательная оценка поведения ребёнка в случае нарушения норм нравственности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336699"/>
                </a:solidFill>
                <a:latin typeface="Arial"/>
              </a:rPr>
              <a:t>Педагогический смысл наказания заключается в пробуждении угрызений совести, чувства неудовлетворённости своим поведением, что должно сопровождать всякое нарушение этических норм и правил.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7" name="Picture 4" descr="MCj02321000000[1]"/>
          <p:cNvPicPr/>
          <p:nvPr/>
        </p:nvPicPr>
        <p:blipFill>
          <a:blip r:embed="rId1"/>
          <a:stretch/>
        </p:blipFill>
        <p:spPr>
          <a:xfrm>
            <a:off x="7740720" y="533520"/>
            <a:ext cx="1403280" cy="39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8600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Анкета. 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За что тебя ругают?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87280" y="90792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За плохие оценки – 10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За плохое поведение – 8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Долго играю на компьютере -2 человека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За плохие дела – 1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За то, что я кричу – 2 человека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За плохой почерк – 1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За непослушание -1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За то, что я делаю всё не так 1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Анкета. 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Как тебя наказывают?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370160" y="1341360"/>
            <a:ext cx="7772400" cy="55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Никак – 8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Ставят в угол – 6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Не дают играть на компьютере -4 человека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Бьют ремнём – 4 человека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Не разговаривают – 3 человека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Пугают – 1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Не дают смотреть телевизор – 1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Управляющая кнопка: домой 1"/>
          <p:cNvSpPr/>
          <p:nvPr/>
        </p:nvSpPr>
        <p:spPr>
          <a:xfrm>
            <a:off x="7308720" y="5877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64" h="21600">
                <a:moveTo>
                  <a:pt x="12332" y="3837"/>
                </a:moveTo>
                <a:lnTo>
                  <a:pt x="14908" y="6448"/>
                </a:lnTo>
                <a:lnTo>
                  <a:pt x="14908" y="4707"/>
                </a:lnTo>
                <a:lnTo>
                  <a:pt x="16684" y="4707"/>
                </a:lnTo>
                <a:lnTo>
                  <a:pt x="16684" y="8224"/>
                </a:lnTo>
                <a:lnTo>
                  <a:pt x="19295" y="10800"/>
                </a:lnTo>
                <a:lnTo>
                  <a:pt x="17641" y="10800"/>
                </a:lnTo>
                <a:lnTo>
                  <a:pt x="17641" y="17989"/>
                </a:lnTo>
                <a:lnTo>
                  <a:pt x="7023" y="17989"/>
                </a:lnTo>
                <a:lnTo>
                  <a:pt x="7023" y="10800"/>
                </a:lnTo>
                <a:lnTo>
                  <a:pt x="5369" y="10800"/>
                </a:lnTo>
                <a:close/>
              </a:path>
              <a:path fill="darkenLess" w="24664" h="21600">
                <a:moveTo>
                  <a:pt x="14908" y="6448"/>
                </a:moveTo>
                <a:lnTo>
                  <a:pt x="14908" y="4707"/>
                </a:lnTo>
                <a:lnTo>
                  <a:pt x="16684" y="4707"/>
                </a:lnTo>
                <a:lnTo>
                  <a:pt x="16684" y="8224"/>
                </a:lnTo>
                <a:close/>
              </a:path>
              <a:path fill="darkenLess" w="24664" h="21600">
                <a:moveTo>
                  <a:pt x="11409" y="14299"/>
                </a:moveTo>
                <a:lnTo>
                  <a:pt x="13254" y="14299"/>
                </a:lnTo>
                <a:lnTo>
                  <a:pt x="13254" y="17989"/>
                </a:lnTo>
                <a:lnTo>
                  <a:pt x="17641" y="17989"/>
                </a:lnTo>
                <a:lnTo>
                  <a:pt x="17641" y="10800"/>
                </a:lnTo>
                <a:lnTo>
                  <a:pt x="7023" y="10800"/>
                </a:lnTo>
                <a:lnTo>
                  <a:pt x="7023" y="17989"/>
                </a:lnTo>
                <a:lnTo>
                  <a:pt x="11409" y="17989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700000" y="692280"/>
            <a:ext cx="6048360" cy="59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равила: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1.Обращайтесь к ребёнку с просьбой вежливо, исключайте командный тон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2. Старайтесь вызвать у ребёнка ответственное отношение к выполнению вашей просьбы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3. Обращаясь с просьбой, давайте  ребёнку инструкции её выполнения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4. Не просите ребёнка выполнить то, что ему сделать не по силам. Сначала научите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5. Не забывайте, пожалуйста, выразить родительскую признательность за выполненную просьбу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34" name="Picture 4" descr="MCj04303700000[1]"/>
          <p:cNvPicPr/>
          <p:nvPr/>
        </p:nvPicPr>
        <p:blipFill>
          <a:blip r:embed="rId1"/>
          <a:stretch/>
        </p:blipFill>
        <p:spPr>
          <a:xfrm>
            <a:off x="0" y="1773360"/>
            <a:ext cx="2712960" cy="26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Times New Roman"/>
              </a:rPr>
              <a:t>Синквэйн </a:t>
            </a:r>
            <a:r>
              <a:rPr b="0" lang="ru-RU" sz="4000" spc="-1" strike="noStrike">
                <a:solidFill>
                  <a:srgbClr val="0066ff"/>
                </a:solidFill>
                <a:latin typeface="Times New Roman"/>
              </a:rPr>
              <a:t>по теме</a:t>
            </a:r>
            <a:br>
              <a:rPr sz="4000"/>
            </a:br>
            <a:r>
              <a:rPr b="0" lang="ru-RU" sz="4000" spc="-1" strike="noStrike">
                <a:solidFill>
                  <a:srgbClr val="0066ff"/>
                </a:solidFill>
                <a:latin typeface="Times New Roman"/>
              </a:rPr>
              <a:t> «Дисциплина» 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(способ изложения своих идей и чувств в пятистрочной форме).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1 строка – тема (кто? что?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2 строка – описание темы (два прилагательных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3 строка – действие темы (три глагола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4 строка – отношение к теме (чувство, выражение фразой из четырёх слов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5 строка – синоним темы (одно слово)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37" name="Picture 5" descr="http://go1.imgsmail.ru/imgpreview?key=http%3A//900igr.net/datai/obschestvoznanie/Semja-1/0088-029-Ljubvi.png&amp;mb=imgdb_preview_108"/>
          <p:cNvPicPr/>
          <p:nvPr/>
        </p:nvPicPr>
        <p:blipFill>
          <a:blip r:embed="rId1"/>
          <a:stretch/>
        </p:blipFill>
        <p:spPr>
          <a:xfrm>
            <a:off x="6718320" y="60480"/>
            <a:ext cx="22287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71600" y="11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В «Словаре русского языка» С.И. Ожегова записано: «Дисциплина - …обязательное для всех членов какого-нибудь коллектива подчинение установленному порядку, правилам».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6" name="Picture 8" descr="Ожегов Портрет гравюра 1950е.jpg"/>
          <p:cNvPicPr/>
          <p:nvPr/>
        </p:nvPicPr>
        <p:blipFill>
          <a:blip r:embed="rId1"/>
          <a:stretch/>
        </p:blipFill>
        <p:spPr>
          <a:xfrm>
            <a:off x="3564000" y="3284640"/>
            <a:ext cx="266364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390680" y="9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«Энциклопедический словарь» -дисциплина это «определённый порядок поведения людей, отвечающий сложившимся в обществе нормам права и морали, а также требованиям той или иной организации»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8" name="Picture 3" descr="C:\Users\1\AppData\Local\Microsoft\Windows\Temporary Internet Files\Content.IE5\T89SNCHX\MP900426559[1].jpg"/>
          <p:cNvPicPr/>
          <p:nvPr/>
        </p:nvPicPr>
        <p:blipFill>
          <a:blip r:embed="rId1"/>
          <a:stretch/>
        </p:blipFill>
        <p:spPr>
          <a:xfrm>
            <a:off x="3300480" y="3724200"/>
            <a:ext cx="36972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Росс Кэмпбелл считает, что «в области воспитания детей дисциплина – это тренировка ума и характера ребёнка, чтобы он стал самостоятельным, умеющим владеть собой, достойным конструктивным членом общества»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0" name="Picture 6" descr="http://vyatsu.com/uploads/posts/2012-09/1347699440_56.jpg"/>
          <p:cNvPicPr/>
          <p:nvPr/>
        </p:nvPicPr>
        <p:blipFill>
          <a:blip r:embed="rId1"/>
          <a:srcRect l="0" t="0" r="0" b="-3181"/>
          <a:stretch/>
        </p:blipFill>
        <p:spPr>
          <a:xfrm>
            <a:off x="4859280" y="3716280"/>
            <a:ext cx="345780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3635640" y="3900600"/>
            <a:ext cx="2670840" cy="581400"/>
          </a:xfrm>
          <a:prstGeom prst="rect">
            <a:avLst/>
          </a:prstGeom>
          <a:solidFill>
            <a:srgbClr val="ff99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Дисциплина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1239840" y="2786040"/>
            <a:ext cx="3133800" cy="459720"/>
          </a:xfrm>
          <a:prstGeom prst="rect">
            <a:avLst/>
          </a:prstGeom>
          <a:solidFill>
            <a:srgbClr val="99ffcc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1. Любовь близких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6168960" y="2779560"/>
            <a:ext cx="2664000" cy="454320"/>
          </a:xfrm>
          <a:prstGeom prst="rect">
            <a:avLst/>
          </a:prstGeom>
          <a:solidFill>
            <a:srgbClr val="99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2. Поощрения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1547640" y="5479920"/>
            <a:ext cx="259272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3. Наказание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6345360" y="5157720"/>
            <a:ext cx="2374920" cy="1513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4. Просьбы устные и письменные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cxnSp>
        <p:nvCxnSpPr>
          <p:cNvPr id="107" name="Прямая со стрелкой 3"/>
          <p:cNvCxnSpPr/>
          <p:nvPr/>
        </p:nvCxnSpPr>
        <p:spPr>
          <a:xfrm flipH="1" flipV="1">
            <a:off x="2898000" y="3458520"/>
            <a:ext cx="731160" cy="432360"/>
          </a:xfrm>
          <a:prstGeom prst="straightConnector1">
            <a:avLst/>
          </a:prstGeom>
          <a:ln w="38160">
            <a:solidFill>
              <a:srgbClr val="2a5682"/>
            </a:solidFill>
            <a:miter/>
            <a:tailEnd len="med" type="arrow" w="med"/>
          </a:ln>
        </p:spPr>
      </p:cxnSp>
      <p:cxnSp>
        <p:nvCxnSpPr>
          <p:cNvPr id="108" name="Прямая со стрелкой 12"/>
          <p:cNvCxnSpPr/>
          <p:nvPr/>
        </p:nvCxnSpPr>
        <p:spPr>
          <a:xfrm>
            <a:off x="6313320" y="4494240"/>
            <a:ext cx="635760" cy="519840"/>
          </a:xfrm>
          <a:prstGeom prst="straightConnector1">
            <a:avLst/>
          </a:prstGeom>
          <a:ln w="38160">
            <a:solidFill>
              <a:srgbClr val="2a5682"/>
            </a:solidFill>
            <a:miter/>
            <a:tailEnd len="med" type="arrow" w="med"/>
          </a:ln>
        </p:spPr>
      </p:cxnSp>
      <p:cxnSp>
        <p:nvCxnSpPr>
          <p:cNvPr id="109" name="Прямая со стрелкой 13"/>
          <p:cNvCxnSpPr/>
          <p:nvPr/>
        </p:nvCxnSpPr>
        <p:spPr>
          <a:xfrm flipV="1">
            <a:off x="6311520" y="3458880"/>
            <a:ext cx="793080" cy="442080"/>
          </a:xfrm>
          <a:prstGeom prst="straightConnector1">
            <a:avLst/>
          </a:prstGeom>
          <a:ln w="38160">
            <a:solidFill>
              <a:srgbClr val="2a5682"/>
            </a:solidFill>
            <a:miter/>
            <a:tailEnd len="med" type="arrow" w="med"/>
          </a:ln>
        </p:spPr>
      </p:cxnSp>
      <p:cxnSp>
        <p:nvCxnSpPr>
          <p:cNvPr id="110" name="Прямая со стрелкой 14"/>
          <p:cNvCxnSpPr/>
          <p:nvPr/>
        </p:nvCxnSpPr>
        <p:spPr>
          <a:xfrm flipH="1">
            <a:off x="3131280" y="4493880"/>
            <a:ext cx="491400" cy="640440"/>
          </a:xfrm>
          <a:prstGeom prst="straightConnector1">
            <a:avLst/>
          </a:prstGeom>
          <a:ln w="38160">
            <a:solidFill>
              <a:srgbClr val="2a5682"/>
            </a:solidFill>
            <a:miter/>
            <a:tailEnd len="med" type="arrow" w="med"/>
          </a:ln>
        </p:spPr>
      </p:cxnSp>
      <p:pic>
        <p:nvPicPr>
          <p:cNvPr id="111" name="Picture 12" descr=""/>
          <p:cNvPicPr/>
          <p:nvPr/>
        </p:nvPicPr>
        <p:blipFill>
          <a:blip r:embed="rId1"/>
          <a:stretch/>
        </p:blipFill>
        <p:spPr>
          <a:xfrm>
            <a:off x="2806560" y="66600"/>
            <a:ext cx="359424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916000" y="333360"/>
            <a:ext cx="6227640" cy="65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Любовь близких: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1. Обеспечение возможности учиться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2. Эмоциональная уравновешенность. Умение слушать и понимать ребёнка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3. Пример взрослых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4. Обучение, просвещение.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5. Жизненный опыт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6. Моделирование ситуации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3" name="Picture 4" descr="MCj04301210000[1]"/>
          <p:cNvPicPr/>
          <p:nvPr/>
        </p:nvPicPr>
        <p:blipFill>
          <a:blip r:embed="rId1"/>
          <a:stretch/>
        </p:blipFill>
        <p:spPr>
          <a:xfrm>
            <a:off x="0" y="1700280"/>
            <a:ext cx="28432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Анкета. 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Какие качества твоего характера родителям нравятся?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258920" y="1483920"/>
            <a:ext cx="7772400" cy="53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Добрый(ая)-18 человек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Сообразительный(ая), умный(ая) -7 человек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Хороший(ая) -6 человек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Спокойный(ая) – 3 человек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Любознательный (ая)-2 человек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Весёлый(ая)-2 человек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Любовь к родным - 2 человек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Трудолюбивый(ая) – 1 человек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Послушный(ая) -1 человек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Ласковый(ая) -1 человек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Честный(ая) -1 человек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Анкета. 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Какие качества твоего характера родителям не нравятся?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258920" y="141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Непослушный(ая)- 8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Злой(ая) – 6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Грубый(ая)-4 человека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Упрямый(ая) -1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Ленивый(ая) – 1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Лживый(ая) – 1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Плаксивый(ая) -1 челове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Никакие – 3 человека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Не ответили – 3 человека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Управляющая кнопка: домой 1"/>
          <p:cNvSpPr/>
          <p:nvPr/>
        </p:nvSpPr>
        <p:spPr>
          <a:xfrm>
            <a:off x="7524720" y="6093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64" h="21600">
                <a:moveTo>
                  <a:pt x="12332" y="3837"/>
                </a:moveTo>
                <a:lnTo>
                  <a:pt x="14908" y="6448"/>
                </a:lnTo>
                <a:lnTo>
                  <a:pt x="14908" y="4707"/>
                </a:lnTo>
                <a:lnTo>
                  <a:pt x="16684" y="4707"/>
                </a:lnTo>
                <a:lnTo>
                  <a:pt x="16684" y="8224"/>
                </a:lnTo>
                <a:lnTo>
                  <a:pt x="19295" y="10800"/>
                </a:lnTo>
                <a:lnTo>
                  <a:pt x="17641" y="10800"/>
                </a:lnTo>
                <a:lnTo>
                  <a:pt x="17641" y="17989"/>
                </a:lnTo>
                <a:lnTo>
                  <a:pt x="7023" y="17989"/>
                </a:lnTo>
                <a:lnTo>
                  <a:pt x="7023" y="10800"/>
                </a:lnTo>
                <a:lnTo>
                  <a:pt x="5369" y="10800"/>
                </a:lnTo>
                <a:close/>
              </a:path>
              <a:path fill="darkenLess" w="24664" h="21600">
                <a:moveTo>
                  <a:pt x="14908" y="6448"/>
                </a:moveTo>
                <a:lnTo>
                  <a:pt x="14908" y="4707"/>
                </a:lnTo>
                <a:lnTo>
                  <a:pt x="16684" y="4707"/>
                </a:lnTo>
                <a:lnTo>
                  <a:pt x="16684" y="8224"/>
                </a:lnTo>
                <a:close/>
              </a:path>
              <a:path fill="darkenLess" w="24664" h="21600">
                <a:moveTo>
                  <a:pt x="11409" y="14299"/>
                </a:moveTo>
                <a:lnTo>
                  <a:pt x="13254" y="14299"/>
                </a:lnTo>
                <a:lnTo>
                  <a:pt x="13254" y="17989"/>
                </a:lnTo>
                <a:lnTo>
                  <a:pt x="17641" y="17989"/>
                </a:lnTo>
                <a:lnTo>
                  <a:pt x="17641" y="10800"/>
                </a:lnTo>
                <a:lnTo>
                  <a:pt x="7023" y="10800"/>
                </a:lnTo>
                <a:lnTo>
                  <a:pt x="7023" y="17989"/>
                </a:lnTo>
                <a:lnTo>
                  <a:pt x="11409" y="17989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369800" y="333360"/>
            <a:ext cx="5794200" cy="65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оощрение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– это проявление положительной оценки поведения ребёнка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336699"/>
                </a:solidFill>
                <a:latin typeface="Arial"/>
              </a:rPr>
              <a:t>Важно «вызывать» чувство удовлетворения, чтобы всё, что  связано с исполнением норм и правил высоконравственного поведения, сопровождалось положительными переживаниями.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0" name="Picture 5" descr="MCj04295730000[1]"/>
          <p:cNvPicPr/>
          <p:nvPr/>
        </p:nvPicPr>
        <p:blipFill>
          <a:blip r:embed="rId1"/>
          <a:stretch/>
        </p:blipFill>
        <p:spPr>
          <a:xfrm>
            <a:off x="7129440" y="1589040"/>
            <a:ext cx="201456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01:13:34Z</dcterms:created>
  <dc:creator>Стеценко</dc:creator>
  <dc:description/>
  <dc:language>en-US</dc:language>
  <cp:lastModifiedBy>User</cp:lastModifiedBy>
  <dcterms:modified xsi:type="dcterms:W3CDTF">2015-03-11T18:59:47Z</dcterms:modified>
  <cp:revision>16</cp:revision>
  <dc:subject/>
  <dc:title>Родительское собрание. Тема: «Воспитание сознательной дисциплины».</dc:title>
</cp:coreProperties>
</file>