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098-5C3D-4364-80B7-5F6E72D8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1E2-DB99-4663-A1BE-1B582F12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F8B-2BBD-4448-8D11-B28D38D9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BBF-51D8-45C4-8AB5-D614D50B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0DA-8975-4E9A-B76E-22A110C3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FF2-A3EC-4A91-83C5-57DA837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AA3-6B05-4904-A314-E4403154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DC7-8000-442B-90DE-1177261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108F-32EF-4D1D-B8CA-62530AD6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320E-FB1E-4528-9578-73D93C4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F8CE-20A1-47B8-AC64-DB6A2F0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6B7-AB3B-4EC7-8106-FF31C4F3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FEB3-0F01-43C9-BDCC-D77D7F8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894-71C9-4CA9-B23D-D959D5E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9B3-C0E0-4F91-8464-DFB34726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F7B3-9B94-4956-A2AF-0849CD67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4B0-A600-484E-B6A4-6D1F99B3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8382A-0B03-45DF-AFD6-749EB303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1815D-A1B4-457E-9C6B-C1ACFB7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A7098-C0D9-451A-8FC8-3A3BDFA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A3C7A-5B00-4E3A-9DD9-90433A7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7460-C145-4274-90CE-E1A8A17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B46-C7F6-45B6-BCE4-4D83E66F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1014B-D893-47D6-B288-6EBAD25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ACCAA-FB94-4F61-8D1B-5873411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90AF5-7423-45E9-9366-6AB018A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373AE-328E-469A-9935-7D2EB93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77B70-1215-48DE-8B53-29F6099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3D9D8-BF8D-413F-BC74-E56DB302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C2137-8DFD-484E-A549-08A4186C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217E-221A-46AA-AA34-6C74448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D70F-25DF-4381-8187-1633A1D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55B7-114F-42A0-9B30-E9E18855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D7F-D7A1-4BF1-9DDE-3902DB9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7CD4-EAA7-403A-AF45-CCB1DB9E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9E1E-F7E7-47EE-8120-7B367E8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5EED-9CE0-4EE9-83B8-EF50FD20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803A-CD2C-42F8-9669-89B32A6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1FB4-7DE6-4E27-9F03-1BF155FE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E234-F8F6-4DC8-A6E0-33D5A91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8F4A-D687-4B69-B4AE-45016FC8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4DB0-4297-4785-A74A-E2EFEC65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C579-4C8E-453E-884D-6153796C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D5CCE-A129-455D-9BF7-4B9FBD1A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FA6-0E98-48A1-AA1E-814CEEA0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6DF32-B578-499F-9588-C273A8C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BC2BF-4CB8-4009-8DB4-AF9C7DF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1C09B-2751-4E6F-853D-41DA894C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893E9-7D7C-4443-9F1A-7A42028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2D1F9-0EC2-4571-90FA-024E5C6C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AC33C-64B7-4A1F-A199-3C7AE64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FC12A-2286-4308-8185-A7946FB5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ECE29-B9DE-4476-9528-A7D436D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1F753-491C-4068-9259-611BDDD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9119A-147E-44CB-A64B-113638E2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9E4-DACA-4354-BE32-EF4266F9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B9BD2-54F3-46B0-BFAB-B5147465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D35FE-4D99-4332-AD74-5793A6E7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62BFC-CF6C-4363-A589-52D97B3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F3584-75CF-4170-86BE-6E658E9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AEC8E-83BD-4D11-A894-F1FFD8A1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2ADC6-FAA7-4FAF-8C3A-F6C9446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34606-4DF3-4ABD-8979-EAC02FF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40527-2E06-4217-8C25-EAA1DF0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6EDD6-2DD9-4D98-BA08-1FA328FC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20130-E6D1-45A6-B6B7-A7C1AAA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22F-4A03-4AAA-9871-C0B40DF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F9D7E-27D0-4788-B73A-9CEF847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176B5-5464-4191-BA8F-AF19129C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5FD82-8BB4-4079-AA89-DF1E3E5D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C3327-EC75-408D-88DC-D11B2A77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28A2E-AFBE-4596-8A49-CBD68CC1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0377B-B0C1-4471-9DC6-F619508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D098D-6AE3-40B1-A23A-3B89468A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92203-B78F-4C10-B2DB-F5F729F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FAAEF-70F6-4AC4-81E3-BF1CC7CC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E4B39-5861-481F-8369-DA6C150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202-14CD-4170-8E3D-2A8EEF5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80F30-E70D-4121-9590-C09BDE9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F2192-AC69-4F63-AD56-86F1583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13EA9-E624-4934-BD26-2D7AC05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21808-3351-478B-B19D-8CE273D1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96BBC-FC0F-4A07-9BB3-4D650374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E82-3C59-4401-9CEE-D6474CE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27CE-0A15-4054-A1B5-5E1FEE6487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0217-E347-41BF-B313-13D4D1E23D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F9E8-227C-4AD0-93BC-BEBF87FDBF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3AD-BACF-4B61-98CD-B4620DEAF9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DEB7-5009-4CC7-87F4-59CEBC3A45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8EC-A0D9-4B98-BD85-631992D4C7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E5E6-B4AB-4591-AC86-3645AB164D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14280"/>
            <a:ext cx="61722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5f6d"/>
                </a:solidFill>
                <a:latin typeface="Century Schoolbook"/>
              </a:rPr>
              <a:t>УЧАСТКИ ЭКОЛОГИЧЕСКОЙ ОПАСНОСТИ СЕЛА КАРА-ХОЛЬ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571720"/>
            <a:ext cx="61722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Исследовательский проект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ОЧКИ ОТБОРА ПРОБ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село Кара-Холь"/>
          <p:cNvPicPr/>
          <p:nvPr/>
        </p:nvPicPr>
        <p:blipFill>
          <a:blip r:embed="rId1"/>
          <a:stretch/>
        </p:blipFill>
        <p:spPr>
          <a:xfrm>
            <a:off x="390600" y="1547640"/>
            <a:ext cx="7540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ым этапом был анализ и оценка полученных данных. Во втором этапе я выявила самых загрязненных участков и источников  загрязн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акже я встречалась с жителями села , получала информации по исследовани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42960" y="2554200"/>
          <a:ext cx="7715160" cy="301788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25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очки отбора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сновные загрязн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епень загрязн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Берега реки Дап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«Огар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 «Сугурге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ль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 Берега реки Ала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Караганниковы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ходы животных и бытовые от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ично загрязн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ученные результаты исследования указывают на следующе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Основными источниками загрязнения являю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бытовые отходы (пластиковые бутылки, стеклянные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утылки, банки, старые одежды и др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отходы частных животноводческих хозяйств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Сильно загрязненными т.е. участками экологической опасности являются  не две, а три участки  эт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ерега реки Дапсы –отходами частных животноводческих хозяйств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участок «Огар» - бытовыми отходами в больших количества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участок «Сугурген»- бытовыми отходами и отходами частных животноводческих хозяйст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РТА УЧАСТКОВ ЭКОЛОГИЧЕСКОЙ ОПАСНОСТ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Documents and Settings\1\Рабочий стол\Мои рисунки\отходы.bmp"/>
          <p:cNvPicPr/>
          <p:nvPr/>
        </p:nvPicPr>
        <p:blipFill>
          <a:blip r:embed="rId1"/>
          <a:stretch/>
        </p:blipFill>
        <p:spPr>
          <a:xfrm>
            <a:off x="457200" y="1690560"/>
            <a:ext cx="7758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ВОДЫ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выявлены три участка экологической опасности села Кара-Холь и основные их источни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местная администрация мало уделяет внимания по выбросы бытовых отходов и благоустройству территории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дминистрации сумона провести систему мероприятий  по выбросу бытовых отходов жителями села, регулярно контролировать их и производить очистку участков экологической опасност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ести пропагандистскую работу среди жителей об экологии и о здоровом образе жиз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результатами исследований  ознакомить сотрудников инспекции по охране окружающей сред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НФОРМАЦИОННЫЕ РЕСУРСЫ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Алексеев С.В., Груздева Н.Ю. и др Практикум по экологии. М: АО МДС, 1996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Биология, экология, здоровый образ жизни Волгоград. Изд-во «Учитель» 200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Голубев И.Р., Новиков Ю. В. Окружающая среда и ее охрана. М. Просвещение  1985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Дежникова Н.С., Цветкова И.В. Экологический практикум М. Пед сообщество России, 200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. Научно-методический журнал Биология в школе № 1,2,3,4, 2007.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. Новиков Ю.В. Природа и человек М. Просвещение , 1991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7. С. Г. Мамонтов, В.Б. Захаров, Н.И. Сонин Биология Общие закономерности  9 класс М. Дрофа 2006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ВТОР : 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ХОМУШКУ ЧОЙГАНА МЕРГЕНОВН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928600"/>
            <a:ext cx="74674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: Монгуш Анюта Сергеев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ыявить участки экологической опасности села Кара-Хол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загрязненные участки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основных загрязнител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ить степень загрязнен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овать и оценить полученных дан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ь мероприятия по проек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ИПОТЕЗ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считаю что, в территории села есть две загрязненные участки («Огар» и побережья реки Дапсы) , и они загрязнены в основном бытовыми и отходами частных животноводческих хозяйст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ЭТАПЫ ПРОЕК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1 Определение и изучение участков и их загрязнителей (сентябрь, октя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2 Анализ и оценка полученных данных (ноябрь, декабрь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Этап 3 Проведение мероприятий по итогам исследований (январь, февраль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 числу антропогенных изменений почвы относится эрозия (от лат слова- разъедание). Эрозия представляет с собой разрушение и снос почвенного покрова потоками воды или ветр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х местах где производится выбросы отходов частных животноводческих хозяйств и бытовых отходов   способствует ветровой   эрозии и быстрому разрушению травяного покрова. Для восстановления слоя почвы толщиной 1 см в естественных условиях требуется 250-300 лет. Следовательно , мусорные свалки чреваты невосполнимыми потерями плодородного слоя почв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аким образом проект актуален тем, что если вовремя не принимать меры по выбрасыванию отходов , то в будущем загрязненность территории села может привести к серьезным последствиям , таким как эрозия  почвы , загрязнение  почвы, воздуха, водоемов и в конечном счете ухудшению здоровья  жителей сел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ИСАНИЕ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ло Кара-Холь лежит в юго-западной части Тувы в узком ущелье  реки Алаш. Протяженность села от районного центра 130 км. Население  составляет  около  1360 человек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территории села нет фабрик и заводов, но наблюдается загрязненность некоторых участков бытовыми отходами и отходами частных животноводческих хозяйств. Так как основным хозяйством местных жителей является  животноводство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 2-х километрах от села есть мусорная свалка , но большинство местных жителей  не вывозят свои бытовые отходы до свалки ,  а выбрасывают их не далеко от своих дом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в тех местах где много отходов животных там наблюдается высыхание и гниение стволов деревьев и растительности в целом. А также в гниющих отходах  развиваются  болезнетворные организмы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ым этапом исследовательской работы по выявлению участков экологической опасности являлось, установление географических характеристик участков, выбор точек отбора проб и изучение степени загрязненности этих участков. С сентября по октябрь был проведен ряд поисковых экспедиций по загрязненным территория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определения источников загрязнения  и степени загрязненности я отбирала пробы в пяти точка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Дапсы- территория улицы Дапс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Огар»- место особой загрязненности-свалк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Сугурген» – окрестность се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рега реки Алаш- окрестность с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раганниковые  места  улицы Анан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3:02:22Z</dcterms:created>
  <dc:creator>1</dc:creator>
  <dc:description/>
  <dc:language>en-US</dc:language>
  <cp:lastModifiedBy>1</cp:lastModifiedBy>
  <dcterms:modified xsi:type="dcterms:W3CDTF">2008-02-19T15:53:06Z</dcterms:modified>
  <cp:revision>6</cp:revision>
  <dc:subject/>
  <dc:title>Слайд 1</dc:title>
</cp:coreProperties>
</file>