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8A7-5195-4043-B176-DD387686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AE1-A4CD-4587-BDFA-F72082EE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B80-414B-4D76-A750-536DAA4D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55C-D334-4B63-A6E9-CE94CD36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1E84-71B0-463C-92D9-D18FAB7F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32F0-4DDF-44CA-94AA-BC49DF32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293E-62B0-4CCD-90D6-A246CAA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169-A798-4BF2-8A48-AF95C75F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CDEC-08CD-48FB-ADA1-ED05F714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6EC1-42B7-4E95-A95E-9A73C5CC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ABC3-6CEC-4715-9343-9A072C9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5F9-6056-4AFB-8A7A-367B93B2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E4F5-2CB8-47CE-B829-0AFC3529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F244-2430-464B-830A-FD01A583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F9C9-CA07-48FD-A9FC-A2DA6DBA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1C9F-B6CB-4CCF-91D2-08A281DD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8E86-F8F9-4E52-A008-361D077E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DF0EC-D216-41C9-9978-775EEF6A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FE0F4-0CC1-4CAF-BFAF-23DD6338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9BC5E-3571-47FF-92A6-D2BBC166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13D4B-49F2-4817-9613-96929D8E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4A159-DB38-4322-AA91-51FD6180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511-03BD-4F30-B7D2-A119BE27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1C31D-19AD-4F27-9327-4AFA56CB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740C0-34EE-49D4-A7B8-39FE316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733E5-31A4-4147-9B73-DECA2679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4876F-E87F-4D90-A9CD-9D90E94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74EBC-C333-4EE1-A42C-C76AD03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C7B0C-BC15-424D-AC93-236AB3FF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3931A-0503-4F04-9311-DED517AA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E757-BDC4-4A4E-9A20-824FE274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FA010-AB40-4C9E-B36C-A9F547A0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BBC4-3FF3-45BE-89D6-1251BC69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1BA-FC31-4628-8085-D96EFF8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26FE0-B311-48FC-9512-5E08251B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C8AE-AEBF-4B95-9B6E-55432B8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442AB-C6AC-483C-97FA-68B7AB11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ED20-7477-410E-8371-230CD54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44C1-C326-42CF-9A6B-416CD134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F868-1D1B-45A8-ADA9-FCDB1AF0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4226-4A2E-48F8-BADB-9112031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5EC5-09C5-46F5-9A8E-62D5EE3B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CD489-42DF-4FE6-BC3E-8271657D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158D6-2664-4B23-B7F9-383C0542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F8B-CE1F-4413-91F6-AEA80E11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0305A-B586-4142-AC12-70CC5163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9AB2A-9CD8-4A0C-A3C6-60E86131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A3CCD-8061-40D8-8711-323942CC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3E09F-7904-41E1-8869-AF323CAC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CCC1A-0BDB-4985-90C2-50D60BC6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DD287-B700-4DF5-8F5A-3AA0D96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85BB4-824A-4F97-8888-076A75FA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2059F-C46B-4DEC-ABF5-97DF853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341E6-4D52-4AB6-96A1-ECB5949D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81935-31CD-4B86-B193-C27440CD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7DB-A0DB-4FC6-A0E0-3840D9BE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1DEDB-8E34-41AD-9F1E-8E8A1F6F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95AEC-FDA6-4290-A5CD-B55CFA7E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E47C6-D761-4626-B5F2-524A7DA6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5D704-BA31-4F7B-AF4F-8EFD2964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552D2-8965-4C6F-B09C-AEDFA726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A5AB2-EB9F-4882-BE44-AA41C8AF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86DB9-B1F7-4A18-98BD-D56AEEC6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5D463-678C-4121-82CD-CB3F4AE0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D0C5F-49F6-43B2-8975-8B10F848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5A5FB-7978-4B24-BACC-4C27A544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AE7-7C7E-479E-8B51-43BF466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E0917-EDB5-4761-9B4B-CB321F26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B18CA-64C9-453D-9A05-B41C1DBF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160E1-7980-41EB-8A4E-5DC2674E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3436E-452A-4653-938E-70212E2D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D9F5B-3C4C-4EF3-BABE-1F600F9F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94EC0-2B5B-4EB7-92E4-4B6F6057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CAA3D-E71E-40E7-9E96-7A27E487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B4AE7-956F-44A3-9E14-500B0B14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D0260-9055-4010-A27B-20610251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276F0-BDEE-4929-9CD8-0594728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D3A-44DB-43D2-953A-DCE86841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2739F-0ABA-44B2-AD2E-18FA3CD4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3204B-CBDC-4E0E-893C-7BE5451F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09E97-2172-43C6-AE62-82D46B39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283E6-17C2-44F7-9998-8EF86CAF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69ED8-594A-4AB8-8869-C1B1C829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2BC-EB26-4CD6-B498-317ABE41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15AB-CC0C-4DB5-A487-B988C1D065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CDBA-BFA3-4C05-A6F5-DDEFC742E5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51C5-C780-45E5-AAFA-904F9F54C5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4884-20F4-42BC-8191-12A7D3520F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A3BE-4B48-4B21-94D5-A33BCEEB62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01FA-7984-435F-9FCF-DF702EB53D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60B2-7E68-4E0B-8AA6-6861C0DF3E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214280"/>
            <a:ext cx="617220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УЧАСТКИ ЭКОЛОГИЧЕСКОЙ ОПАСНОСТИ СЕЛА КАРА-ХОЛЬ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571720"/>
            <a:ext cx="61722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Исследовательский проект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ОЧКИ ОТБОРА ПРОБ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Содержимое 3" descr="село Кара-Холь"/>
          <p:cNvPicPr/>
          <p:nvPr/>
        </p:nvPicPr>
        <p:blipFill>
          <a:blip r:embed="rId1"/>
          <a:stretch/>
        </p:blipFill>
        <p:spPr>
          <a:xfrm>
            <a:off x="390600" y="1547640"/>
            <a:ext cx="7540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СЛЕДОВАТЕЛЬСКАЯ РАБОТ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торым этапом был анализ и оценка полученных данных. Во втором этапе я выявила самых загрязненных участков и источников  загрязн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акже я встречалась с жителями села , получала информации по исследованию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42960" y="2554200"/>
          <a:ext cx="7715160" cy="301788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25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Точки отбора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сновные загрязн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епень загрязн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Берега реки Дап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ходы живо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ль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«Огар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товые отход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ль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 «Сугурге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то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ль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 Берега реки Ала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ходы животных и быто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астич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 Караганниковые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ходы животных и быто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астич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ЗУЛЬТАТЫ ИССЛЕДОВА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ученные результаты исследования указывают на следующе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Основными источниками загрязнения являю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бытовые отходы (пластиковые бутылки, стеклянные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утылки, банки, старые одежды и др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отходы частных животноводческих хозяйст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Сильно загрязненными т.е. участками экологической опасности являются  не две, а три участки  это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берега реки Дапсы –отходами частных животноводческих хозяйств в больших количества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участок «Огар» - бытовыми отходами в больших количества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) участок «Сугурген»- бытовыми отходами и отходами частных животноводческих хозяйст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АРТА УЧАСТКОВ ЭКОЛОГИЧЕСКОЙ ОПАСНОСТ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C:\Documents and Settings\1\Рабочий стол\Мои рисунки\отходы.bmp"/>
          <p:cNvPicPr/>
          <p:nvPr/>
        </p:nvPicPr>
        <p:blipFill>
          <a:blip r:embed="rId1"/>
          <a:stretch/>
        </p:blipFill>
        <p:spPr>
          <a:xfrm>
            <a:off x="457200" y="1690560"/>
            <a:ext cx="7758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ВОДЫ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выявлены три участка экологической опасности села Кара-Холь и основные их источни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местная администрация мало уделяет внимания по выбросы бытовых отходов и благоустройству территории се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дминистрации сумона провести систему мероприятий  по выбросу бытовых отходов жителями села, регулярно контролировать их и производить очистку участков экологической опасност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вести пропагандистскую работу среди жителей об экологии и о здоровом образе жизн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результатами исследований  ознакомить сотрудников инспекции по охране окружающей сред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НФОРМАЦИОННЫЕ РЕСУРСЫ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Алексеев С.В., Груздева Н.Ю. и др Практикум по экологии. М: АО МДС, 1996 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Биология, экология, здоровый образ жизни Волгоград. Изд-во «Учитель» 2001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 Голубев И.Р., Новиков Ю. В. Окружающая среда и ее охрана. М. Просвещение  1985 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Дежникова Н.С., Цветкова И.В. Экологический практикум М. Пед сообщество России, 2001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. Научно-методический журнал Биология в школе № 1,2,3,4, 2007.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6. Новиков Ю.В. Природа и человек М. Просвещение , 1991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7. С. Г. Мамонтов, В.Б. Захаров, Н.И. Сонин Биология Общие закономерности  9 класс М. Дрофа 2006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ВТОР :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ХОМУШКУ ЧОЙГАНА МЕРГЕНОВН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928600"/>
            <a:ext cx="74674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 : Монгуш Анюта Сергеев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ыявить участки экологической опасности села Кара-Хол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И 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загрязненные участки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основных загрязнител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степень загрязнен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ировать и оценить полученных данн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одить мероприятия по проек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ИПОТЕЗ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считаю что, в территории села есть две загрязненные участки («Огар» и побережья реки Дапсы) , и они загрязнены в основном бытовыми и отходами частных животноводческих хозяйст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ЭТАПЫ ПРОЕКТ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 1 Определение и изучение участков и их загрязнителей (сентябрь, октябрь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 2 Анализ и оценка полученных данных (ноябрь, декабрь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 3 Проведение мероприятий по итогам исследований (январь, февраль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 числу антропогенных изменений почвы относится эрозия (от лат слова- разъедание). Эрозия представляет с собой разрушение и снос почвенного покрова потоками воды или ветр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тех местах где производится выбросы отходов частных животноводческих хозяйств и бытовых отходов   способствует ветровой   эрозии и быстрому разрушению травяного покрова. Для восстановления слоя почвы толщиной 1 см в естественных условиях требуется 250-300 лет. Следовательно , мусорные свалки чреваты невосполнимыми потерями плодородного слоя почв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аким образом проект актуален тем, что если вовремя не принимать меры по выбрасыванию отходов , то в будущем загрязненность территории села может привести к серьезным последствиям , таким как эрозия  почвы , загрязнение  почвы, воздуха, водоемов и в конечном счете ухудшению здоровья  жителей сел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ИСАНИЕ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ло Кара-Холь лежит в юго-западной части Тувы в узком ущелье  реки Алаш. Протяженность села от районного центра 130 км. Население  составляет  около  1360 человек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территории села нет фабрик и заводов, но наблюдается загрязненность некоторых участков бытовыми отходами и отходами частных животноводческих хозяйств. Так как основным хозяйством местных жителей является  животноводство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 2-х километрах от села есть мусорная свалка , но большинство местных жителей  не вывозят свои бытовые отходы до свалки ,  а выбрасывают их не далеко от своих дом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 в тех местах где много отходов животных там наблюдается высыхание и гниение стволов деревьев и растительности в целом. А также в гниющих отходах  развиваются  болезнетворные организмы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СЛЕДОВАТЕЛЬСКАЯ РАБОТ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ым этапом исследовательской работы по выявлению участков экологической опасности являлось, установление географических характеристик участков, выбор точек отбора проб и изучение степени загрязненности этих участков. С сентября по октябрь был проведен ряд поисковых экспедиций по загрязненным территория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определения источников загрязнения  и степени загрязненности я отбирала пробы в пяти точках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ерега реки Дапсы- территория улицы Дапс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Огар»- место особой загрязненности-свалка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Сугурген» – окрестность се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ерега реки Алаш- окрестность се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раганниковые  места  улицы Анан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3:02:22Z</dcterms:created>
  <dc:creator>1</dc:creator>
  <dc:description/>
  <dc:language>en-US</dc:language>
  <cp:lastModifiedBy>1</cp:lastModifiedBy>
  <dcterms:modified xsi:type="dcterms:W3CDTF">2008-02-19T15:53:06Z</dcterms:modified>
  <cp:revision>6</cp:revision>
  <dc:subject/>
  <dc:title>Слайд 1</dc:title>
</cp:coreProperties>
</file>