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8B2-409F-41E5-96A9-0B29C958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E9D-1FB3-411C-870F-1EA8E07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261-7123-4E6F-835B-BD07C18C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0D3-D6C3-457C-AF68-076298D1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E174-E084-4209-9236-492905CA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9E74-94A4-4F20-B0F1-0691F8E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529-7C0D-4ACC-BAAB-A7F6122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64EA-C64E-40BD-B571-B8BBB48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2B2-E58E-4B99-8A3F-5CBBA6F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904D-327E-46B0-91C8-D7235ED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80E-CEE3-4252-B77D-5A84A19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74D-C030-4F66-A88B-D3B511D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93D3-34BA-48E0-8DF1-F0CEAD9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A8A-4AF0-45DC-B96B-E50834E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C7C-E2D4-448D-99F7-BFD5037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4FBE-2335-4AE3-A185-2671CB9D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7769-EF3E-478D-A6EE-D55BB177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840E2-3B85-4C5F-A8F1-B65A768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16A87-5E39-409F-9E74-B2E2681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06F4E-C452-44CA-9ABC-40B8116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FCEDB-350A-4F57-B87A-3F0E3ECB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6B7FD-CC16-40A2-9E85-5B56757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52A-BE7C-4449-ADF1-48DFB35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7052D-921E-4B50-AFF8-EB9974C2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4B6BF-6137-4D56-8645-C2760423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68DE8-26EF-4C23-A17D-D9A3E58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2448D-0E0C-41A1-BA42-82EDFF6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F297D-97F8-43F2-AB82-BC0B882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5C191-A926-4DBC-94B2-2253DA4E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934B6-484D-49EF-9A7A-4FFDD575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0B97-DADA-49F0-AD4C-70E7BC25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F2A7-A709-4999-AE31-CD99627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D377-6658-4DE7-AAE1-E40FDA1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F12-4740-44A1-867C-E36A110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1139-901C-49D0-A41C-FE6E115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C991-4329-4692-BB4B-9F934A7B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76AD-1F02-4AE6-AE82-7B200419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0123-3011-4CBF-B8CC-1F62B5D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20E9-0FEE-4C9F-B4D9-D2833DC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C2DB-9BD2-40C5-BB33-8AE705A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EB9D-3DF4-4A50-9784-187B865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A70C-803A-4A83-804E-E1A16CE9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B14F7-93A4-4C4B-A7E4-547329BB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A7DAD-7168-49F1-B810-284C7B96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83B-D92D-4850-9499-869C612E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F3523-06BB-4B60-8C69-E4937BB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C2EC6-24E5-4255-A0F8-A0B2D560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D8C81-5B5F-48ED-9876-DB12405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963B9-D435-426D-B9DF-A18A84A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2B8B7-5790-4951-8E1C-96A518C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9DBD1-DACB-47DD-A77B-DF639628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1E18C-E9AC-4FF9-9938-BD76FA8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8BB1F-2ACB-410E-A071-412F51F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48C6A-F29A-46A4-8946-2327802A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7DF3E-4941-405D-9F58-FBE2C47B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6F1-0A20-4805-AF52-4848A6EC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FE9C3-DE38-43E4-9D91-5DEC886F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FA6A0-3E04-49E6-B040-C6F94CD0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8EB23-0191-40C0-95BB-FC6AFA5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A4578-5116-461C-895C-5D32AA8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3A50C-D100-4356-B2F8-03AEC666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46CAE-0DFD-4D9C-BD12-DBEC046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08587-CA83-4DDC-BF56-503A378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0AD8E-2B44-4F28-B23E-6B505E3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19744-A8CA-435B-97BE-FE9AE14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3CFE7-E948-4A50-A959-B8C37DF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AB5-26E7-4AFE-BC19-F9E3BF6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9E06D-5AFF-414D-BD32-9886C3F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16F4C-4001-4230-9C57-971F8C4A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EF492-DF38-4D0F-89D9-14F64275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57016-79DA-49FD-B925-0980FFB1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DE6C2-3DFA-4B55-AEAF-D986165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20C02-B38C-435C-9471-8EFD2BD9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120CD-13B6-4F0D-9E7F-0E466EC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B035F-83E5-4548-B4B8-DCB615A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84F0C-61DD-4B05-8336-E63C0EC8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B17DA-BACB-4889-8BE3-FAEE821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CF1-D958-48D4-B345-9C46D26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23C9B-2131-4260-8A58-20F5336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8E7E9-D542-48F2-B29E-3FB19AE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E951C-8354-4A20-BB71-488F101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98393-6C78-44F7-91E5-272FE819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76CF1-46C9-4558-8CB1-5622AC65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BE5-6E84-47C9-88F3-4FFBB84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7D2-301F-4CB6-A9F1-5699F5B77C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CFF-0764-413A-B52F-2DCE6A09EA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23E3-5111-4EFB-AC76-7F562F076B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A8B-315B-43FD-9DC1-9FB3012B9B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E89-9803-444C-B1BE-85CD2D06F1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E32E-A9F4-4240-A330-58AB343820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768-0CB5-403E-A9DC-414260DB21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14280"/>
            <a:ext cx="61722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УЧАСТКИ ЭКОЛОГИЧЕСКОЙ ОПАСНОСТИ СЕЛА КАРА-ХОЛЬ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571720"/>
            <a:ext cx="61722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Исследовательский проек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ОЧКИ ОТБОРА ПРОБ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село Кара-Холь"/>
          <p:cNvPicPr/>
          <p:nvPr/>
        </p:nvPicPr>
        <p:blipFill>
          <a:blip r:embed="rId1"/>
          <a:stretch/>
        </p:blipFill>
        <p:spPr>
          <a:xfrm>
            <a:off x="390600" y="1547640"/>
            <a:ext cx="7540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ым этапом был анализ и оценка полученных данных. Во втором этапе я выявила самых загрязненных участков и источников  загрязн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акже я встречалась с жителями села , получала информации по исследовани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42960" y="2554200"/>
          <a:ext cx="7715160" cy="301788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25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очки отбора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сновные загрязн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епень загрязн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Берега реки Дап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«Огар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 «Сугурге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 Берега реки Ал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Караганниковы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ученные результаты исследования указывают на следующе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Основными источниками загрязнения являю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бытовые отходы (пластиковые бутылки, стеклянные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утылки, банки, старые одежды и др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отходы частных животноводческих хозяйст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Сильно загрязненными т.е. участками экологической опасности являются  не две, а три участки  эт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ерега реки Дапсы –отходами частных животноводческих хозяйств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участок «Огар» - бытовыми отходами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участок «Сугурген»- бытовыми отходами и отходами частных животноводческих хозяйст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РТА УЧАСТКОВ ЭКОЛОГИЧЕСКОЙ ОПАС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Documents and Settings\1\Рабочий стол\Мои рисунки\отходы.bmp"/>
          <p:cNvPicPr/>
          <p:nvPr/>
        </p:nvPicPr>
        <p:blipFill>
          <a:blip r:embed="rId1"/>
          <a:stretch/>
        </p:blipFill>
        <p:spPr>
          <a:xfrm>
            <a:off x="457200" y="1690560"/>
            <a:ext cx="77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ВОДЫ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выявлены три участка экологической опасности села Кара-Холь и основные их источни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местная администрация мало уделяет внимания по выбросы бытовых отходов и благоустройству территории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дминистрации сумона провести систему мероприятий  по выбросу бытовых отходов жителями села, регулярно контролировать их и производить очистку участков экологической опасност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ести пропагандистскую работу среди жителей об экологии и о здоровом образе жиз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результатами исследований  ознакомить сотрудников инспекции по охране окружающей сред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ФОРМАЦИОННЫЕ РЕСУРСЫ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Алексеев С.В., Груздева Н.Ю. и др Практикум по экологии. М: АО МДС, 1996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Биология, экология, здоровый образ жизни Волгоград. Изд-во «Учитель» 200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Голубев И.Р., Новиков Ю. В. Окружающая среда и ее охрана. М. Просвещение  1985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Дежникова Н.С., Цветкова И.В. Экологический практикум М. Пед сообщество России, 200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. Научно-методический журнал Биология в школе № 1,2,3,4, 2007.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. Новиков Ю.В. Природа и человек М. Просвещение , 199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7. С. Г. Мамонтов, В.Б. Захаров, Н.И. Сонин Биология Общие закономерности  9 класс М. Дрофа 2006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ВТОР :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ОМУШКУ ЧОЙГАНА МЕРГЕНОВН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928600"/>
            <a:ext cx="74674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: Монгуш Анюта Серг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ыявить участки экологической опасности села Кара-Хол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загрязненные участки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основных загрязнител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степень загрязнен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овать и оценить полученных дан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ь мероприятия по проек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ИПОТЕЗ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считаю что, в территории села есть две загрязненные участки («Огар» и побережья реки Дапсы) , и они загрязнены в основном бытовыми и отходами частных животноводческих хозяйст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ЭТАПЫ ПРОЕК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1 Определение и изучение участков и их загрязнителей (сентябрь, октя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2 Анализ и оценка полученных данных (ноябрь, дека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3 Проведение мероприятий по итогам исследований (январь, февраль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 числу антропогенных изменений почвы относится эрозия (от лат слова- разъедание). Эрозия представляет с собой разрушение и снос почвенного покрова потоками воды или ветр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х местах где производится выбросы отходов частных животноводческих хозяйств и бытовых отходов   способствует ветровой   эрозии и быстрому разрушению травяного покрова. Для восстановления слоя почвы толщиной 1 см в естественных условиях требуется 250-300 лет. Следовательно , мусорные свалки чреваты невосполнимыми потерями плодородного слоя почв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аким образом проект актуален тем, что если вовремя не принимать меры по выбрасыванию отходов , то в будущем загрязненность территории села может привести к серьезным последствиям , таким как эрозия  почвы , загрязнение  почвы, воздуха, водоемов и в конечном счете ухудшению здоровья  жителей сел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ИСАНИЕ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ло Кара-Холь лежит в юго-западной части Тувы в узком ущелье  реки Алаш. Протяженность села от районного центра 130 км. Население  составляет  около  1360 человек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рритории села нет фабрик и заводов, но наблюдается загрязненность некоторых участков бытовыми отходами и отходами частных животноводческих хозяйств. Так как основным хозяйством местных жителей является  животноводство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 2-х километрах от села есть мусорная свалка , но большинство местных жителей  не вывозят свои бытовые отходы до свалки ,  а выбрасывают их не далеко от своих дом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в тех местах где много отходов животных там наблюдается высыхание и гниение стволов деревьев и растительности в целом. А также в гниющих отходах  развиваются  болезнетворные организмы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м этапом исследовательской работы по выявлению участков экологической опасности являлось, установление географических характеристик участков, выбор точек отбора проб и изучение степени загрязненности этих участков. С сентября по октябрь был проведен ряд поисковых экспедиций по загрязненным территория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определения источников загрязнения  и степени загрязненности я отбирала пробы в пяти точк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Дапсы- территория улицы Дапс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Огар»- место особой загрязненности-свалк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Сугурген» – окрестность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Алаш- окрестность с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раганниковые  места  улицы Анан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3:02:22Z</dcterms:created>
  <dc:creator>1</dc:creator>
  <dc:description/>
  <dc:language>en-US</dc:language>
  <cp:lastModifiedBy>1</cp:lastModifiedBy>
  <dcterms:modified xsi:type="dcterms:W3CDTF">2008-02-19T15:53:06Z</dcterms:modified>
  <cp:revision>6</cp:revision>
  <dc:subject/>
  <dc:title>Слайд 1</dc:title>
</cp:coreProperties>
</file>