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0.jpeg" ContentType="image/jpeg"/>
  <Override PartName="/ppt/media/image30.png" ContentType="image/png"/>
  <Override PartName="/ppt/media/image35.jpeg" ContentType="image/jpeg"/>
  <Override PartName="/ppt/media/image13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37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CEA8-512C-4F1D-8D69-94D2F55C93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61D8-DA89-42B8-BB2E-AC2D28CF0AD5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835-4E98-40E1-ABAE-7A11692C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1B7-55A8-41AA-A2F7-5E259274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9E2-BC1D-41AD-A7E9-D10981C8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2AB-123B-45CC-B135-489E3D48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28F1-5593-4E88-B90D-B12C0C7B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6AA8-C679-499E-8349-F97C926B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96AD-AFEA-4CE4-93F3-0DAF20A9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DD6C-80DD-4F58-8E74-5757185E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4B0A-F109-4FB5-BDCF-63951FE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05B2-2F9A-4C3B-9925-D8E13ED4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6A12-52F1-485C-BF47-CAAA3E7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108-AD9A-4519-B68D-5315622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82EA-BDC9-4C62-93BB-6E9A7C4A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CDA3-195C-457C-86A6-B7D7A1C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750B-8C8B-4428-9984-3F0499B9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D1B7-260B-4C4C-9A1F-81AC2C6F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4C36-7544-400A-99C7-A01C012A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541-31C9-45D4-B249-EB8194F8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7D2-3172-4178-8BA4-018866E4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A73-82F4-44DD-AD1D-201DB2B6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7D6-EACF-4C33-A9A8-362BA040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A56-8859-4F93-8BE3-DB6D56DA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DA2-A18F-4BB0-9FFE-A3A853FE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A37-B85E-4CCD-8B30-B89BB673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CD05-4673-40BE-85C0-B8FC707DCE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3C55-439D-48AF-910A-CEDB4821D6F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laycast.ru/uploads/2008/06/03/591720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10920" y="836280"/>
            <a:ext cx="658044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Урок благотворительности</a:t>
            </a:r>
            <a:br>
              <a:rPr sz="4800"/>
            </a:br>
            <a:r>
              <a:rPr b="1" lang="ru-RU" sz="4800" spc="-1" strike="noStrike">
                <a:solidFill>
                  <a:srgbClr val="cc9900"/>
                </a:solidFill>
                <a:latin typeface="Times New Roman"/>
              </a:rPr>
              <a:t> 9 б класс МБОУ Большемурашкинская СО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85720" y="3789360"/>
            <a:ext cx="570564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333300"/>
                </a:solidFill>
                <a:latin typeface="Arial"/>
              </a:rPr>
              <a:t>Классный руководитель Житнякова О.С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Times New Roman"/>
              </a:rPr>
              <a:t>Третьяков Павел Михайл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232080" cy="3456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87640" y="1523520"/>
            <a:ext cx="42037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оссийский меценат, основатель Третьяковской галереи - крупнейшего собрания русской национальной школы живописи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.А. Морозова - основательница Библиотеки-читальни имени И.С. Тургене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00120" y="4714560"/>
            <a:ext cx="571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0" name="Picture 2" descr="&amp;Vcy;.&amp;Acy;. &amp;Mcy;&amp;ocy;&amp;rcy;&amp;ocy;&amp;zcy;&amp;ocy;&amp;vcy;&amp;acy; - &amp;ocy;&amp;scy;&amp;ncy;&amp;ocy;&amp;vcy;&amp;acy;&amp;tcy;&amp;iecy;&amp;lcy;&amp;softcy;&amp;ncy;&amp;icy;&amp;tscy;&amp;acy; &amp;Bcy;&amp;icy;&amp;bcy;&amp;lcy;&amp;icy;&amp;ocy;&amp;tcy;&amp;iecy;&amp;kcy;&amp;icy;-&amp;chcy;&amp;icy;&amp;tcy;&amp;acy;&amp;lcy;&amp;softcy;&amp;ncy;&amp;icy; &amp;icy;&amp;mcy;&amp;iecy;&amp;ncy;&amp;icy; &amp;Icy;.&amp;Scy;. &amp;Tcy;&amp;ucy;&amp;rcy;&amp;gcy;&amp;iecy;&amp;ncy;&amp;iecy;&amp;vcy;&amp;acy;"/>
          <p:cNvPicPr/>
          <p:nvPr/>
        </p:nvPicPr>
        <p:blipFill>
          <a:blip r:embed="rId1"/>
          <a:stretch/>
        </p:blipFill>
        <p:spPr>
          <a:xfrm>
            <a:off x="5643720" y="2127240"/>
            <a:ext cx="3000240" cy="4116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www.maecenas.ru/images/11_03_5_21.jpg"/>
          <p:cNvPicPr/>
          <p:nvPr/>
        </p:nvPicPr>
        <p:blipFill>
          <a:blip r:embed="rId2"/>
          <a:stretch/>
        </p:blipFill>
        <p:spPr>
          <a:xfrm>
            <a:off x="1303200" y="2928960"/>
            <a:ext cx="3951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1285920" y="571680"/>
            <a:ext cx="7000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onstantia"/>
              </a:rPr>
              <a:t>Многие известные личности занимаются благотворительностью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onstantia"/>
              </a:rPr>
              <a:t>Так, символом целой эпохи стала жена первого президента СССР Раи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onstantia"/>
              </a:rPr>
              <a:t>Максимовна Горбачева (1932–1999). Она была председателем международной ассоциации "Гематологи мира - детям", лично патронировала Центральную детскую клиническую больницу в Москве, помогала детям с заболеваниями  крови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3" name="Picture 2" descr="http://im5-tub-ru.yandex.net/i?id=62681413-06-72&amp;n=17"/>
          <p:cNvPicPr/>
          <p:nvPr/>
        </p:nvPicPr>
        <p:blipFill>
          <a:blip r:embed="rId1"/>
          <a:stretch/>
        </p:blipFill>
        <p:spPr>
          <a:xfrm>
            <a:off x="2268360" y="3875040"/>
            <a:ext cx="38754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im0-tub-ru.yandex.net/i?id=377227098-69-72&amp;n=21"/>
          <p:cNvPicPr/>
          <p:nvPr/>
        </p:nvPicPr>
        <p:blipFill>
          <a:blip r:embed="rId1"/>
          <a:stretch/>
        </p:blipFill>
        <p:spPr>
          <a:xfrm>
            <a:off x="1285920" y="3000240"/>
            <a:ext cx="484668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im5-tub-ru.yandex.net/i?id=43102580-57-72&amp;n=21"/>
          <p:cNvPicPr/>
          <p:nvPr/>
        </p:nvPicPr>
        <p:blipFill>
          <a:blip r:embed="rId2"/>
          <a:stretch/>
        </p:blipFill>
        <p:spPr>
          <a:xfrm>
            <a:off x="6357960" y="857160"/>
            <a:ext cx="2500200" cy="400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im0-tub-ru.yandex.net/i?id=170014639-30-72&amp;n=21"/>
          <p:cNvPicPr/>
          <p:nvPr/>
        </p:nvPicPr>
        <p:blipFill>
          <a:blip r:embed="rId3"/>
          <a:stretch/>
        </p:blipFill>
        <p:spPr>
          <a:xfrm>
            <a:off x="1500120" y="255600"/>
            <a:ext cx="47865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5" descr="Картинки"/>
          <p:cNvPicPr/>
          <p:nvPr/>
        </p:nvPicPr>
        <p:blipFill>
          <a:blip r:embed="rId1"/>
          <a:stretch/>
        </p:blipFill>
        <p:spPr>
          <a:xfrm>
            <a:off x="2286000" y="642960"/>
            <a:ext cx="55008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podari-zhizn.ru/sites/default/files/imagecache/child-badge/chulpan_2.jpg"/>
          <p:cNvPicPr/>
          <p:nvPr/>
        </p:nvPicPr>
        <p:blipFill>
          <a:blip r:embed="rId1"/>
          <a:stretch/>
        </p:blipFill>
        <p:spPr>
          <a:xfrm>
            <a:off x="1428840" y="9288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&amp;Gcy;&amp;lcy;&amp;acy;&amp;vcy;&amp;ncy;&amp;acy;&amp;yacy;"/>
          <p:cNvPicPr/>
          <p:nvPr/>
        </p:nvPicPr>
        <p:blipFill>
          <a:blip r:embed="rId2"/>
          <a:stretch/>
        </p:blipFill>
        <p:spPr>
          <a:xfrm>
            <a:off x="1714680" y="3429000"/>
            <a:ext cx="7138800" cy="25002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"/>
          <p:cNvSpPr/>
          <p:nvPr/>
        </p:nvSpPr>
        <p:spPr>
          <a:xfrm>
            <a:off x="4286160" y="114300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Чулпан Хаматова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Times New Roman"/>
              </a:rPr>
              <a:t>Фонд «Подари жизнь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Подари жизнь"/>
          <p:cNvPicPr/>
          <p:nvPr/>
        </p:nvPicPr>
        <p:blipFill>
          <a:blip r:embed="rId1"/>
          <a:stretch/>
        </p:blipFill>
        <p:spPr>
          <a:xfrm>
            <a:off x="1332000" y="907920"/>
            <a:ext cx="3984480" cy="265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Акция 1 июня 2008 г."/>
          <p:cNvPicPr/>
          <p:nvPr/>
        </p:nvPicPr>
        <p:blipFill>
          <a:blip r:embed="rId2"/>
          <a:stretch/>
        </p:blipFill>
        <p:spPr>
          <a:xfrm>
            <a:off x="5508720" y="4076640"/>
            <a:ext cx="3213000" cy="24145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-455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Picture 7" descr="Фонд «Подари жизнь»"/>
          <p:cNvPicPr/>
          <p:nvPr/>
        </p:nvPicPr>
        <p:blipFill>
          <a:blip r:embed="rId3"/>
          <a:stretch/>
        </p:blipFill>
        <p:spPr>
          <a:xfrm>
            <a:off x="-4554360" y="3181320"/>
            <a:ext cx="2114280" cy="495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"/>
          <p:cNvSpPr/>
          <p:nvPr/>
        </p:nvSpPr>
        <p:spPr>
          <a:xfrm>
            <a:off x="1403280" y="3710160"/>
            <a:ext cx="4248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1 июня 2008 года,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в Международный День защиты детей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на территории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будущего Федерального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научно-клинического центра детской гематологии,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онкологии и иммунологии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состоялась благотворительная акция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фонда Дины Корзун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и Чулпан Хаматовой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«Подари жизнь».</a:t>
            </a:r>
            <a:r>
              <a:rPr b="0" lang="ru-RU" sz="16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Sh"/>
          <p:cNvPicPr/>
          <p:nvPr/>
        </p:nvPicPr>
        <p:blipFill>
          <a:blip r:embed="rId1"/>
          <a:stretch/>
        </p:blipFill>
        <p:spPr>
          <a:xfrm>
            <a:off x="234000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1143000" y="765000"/>
            <a:ext cx="7245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onstantia"/>
              </a:rPr>
              <a:t>Много лет подряд певица Анита Цой реализует программы по оказанию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onstantia"/>
              </a:rPr>
              <a:t>помощи детям, находящимся в трудной жизненной ситуации и детям,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onstantia"/>
              </a:rPr>
              <a:t>имеющим инвалидность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9" name="Picture 2" descr="http://im5-tub-ru.yandex.net/i?id=145971197-53-72&amp;n=16"/>
          <p:cNvPicPr/>
          <p:nvPr/>
        </p:nvPicPr>
        <p:blipFill>
          <a:blip r:embed="rId1"/>
          <a:stretch/>
        </p:blipFill>
        <p:spPr>
          <a:xfrm>
            <a:off x="4572000" y="371484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1285920" y="714240"/>
            <a:ext cx="70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onstantia"/>
              </a:rPr>
              <a:t>Звезда Голливуда Анджелина Джоли известна не только своими ролями, она является послом доброй воли Организации Объединенных Наций, жертвует миллионы долларов в помощь нуждающимся людям из стран третьего мира. И даже усыновила двух сирот - мальчика из Камбоджи и девочку из Эфиопии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1" name="Picture 2" descr="http://im8-tub-ru.yandex.net/i?id=369755116-43-72&amp;n=17"/>
          <p:cNvPicPr/>
          <p:nvPr/>
        </p:nvPicPr>
        <p:blipFill>
          <a:blip r:embed="rId1"/>
          <a:stretch/>
        </p:blipFill>
        <p:spPr>
          <a:xfrm>
            <a:off x="3000240" y="3500280"/>
            <a:ext cx="45370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00120" y="383040"/>
            <a:ext cx="7215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популяризация среди молодежи идей благотворительности,  милосердия, меценатства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развивать умения самостоятельного аналитического поиска информации и публичного выступлени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формировать навыки  проектно-исследовательской  деятельности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сформировать у учащихся мировоззренческую оценку событий;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воспитывать интерес к истории родного края, чувство уважения к «малой родине», патриотизм;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just"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создать условия для развития  мотивации к совершению добрых дел и гуманных поступков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5999040" cy="785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560600" y="1285920"/>
            <a:ext cx="7583400" cy="17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4"/>
          <p:cNvGraphicFramePr/>
          <p:nvPr/>
        </p:nvGraphicFramePr>
        <p:xfrm>
          <a:off x="2000160" y="2900520"/>
          <a:ext cx="6024600" cy="36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2900520"/>
                    <a:ext cx="602460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00120" y="228240"/>
            <a:ext cx="7491600" cy="6010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1060560" y="1357200"/>
            <a:ext cx="7939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482840" y="714240"/>
            <a:ext cx="662148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1571760" y="1357200"/>
            <a:ext cx="726732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Картинки"/>
          <p:cNvPicPr/>
          <p:nvPr/>
        </p:nvPicPr>
        <p:blipFill>
          <a:blip r:embed="rId3"/>
          <a:stretch/>
        </p:blipFill>
        <p:spPr>
          <a:xfrm>
            <a:off x="6286680" y="2357280"/>
            <a:ext cx="1944360" cy="1843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im5-tub-ru.yandex.net/i?id=145971197-53-72&amp;n=16"/>
          <p:cNvPicPr/>
          <p:nvPr/>
        </p:nvPicPr>
        <p:blipFill>
          <a:blip r:embed="rId4"/>
          <a:stretch/>
        </p:blipFill>
        <p:spPr>
          <a:xfrm>
            <a:off x="3929040" y="4357800"/>
            <a:ext cx="262908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im8-tub-ru.yandex.net/i?id=369755116-43-72&amp;n=17"/>
          <p:cNvPicPr/>
          <p:nvPr/>
        </p:nvPicPr>
        <p:blipFill>
          <a:blip r:embed="rId5"/>
          <a:stretch/>
        </p:blipFill>
        <p:spPr>
          <a:xfrm>
            <a:off x="2000160" y="2500200"/>
            <a:ext cx="24577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00120" y="228240"/>
            <a:ext cx="7491600" cy="6010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612800" y="428760"/>
            <a:ext cx="71866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00120" y="228240"/>
            <a:ext cx="714384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Задание 3: «Соверши и ты благоприятный поступок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7143840" cy="21099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6"/>
          <p:cNvSpPr/>
          <p:nvPr/>
        </p:nvSpPr>
        <p:spPr>
          <a:xfrm>
            <a:off x="2857680" y="3571920"/>
            <a:ext cx="421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Как бы жизнь не летела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ней своих не жалей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елай доброе дело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Ради счастья людей.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Чтобы сердце горело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А не тлело во мгле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елай доброе дело –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Тем живи на земл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33"/>
                </a:solidFill>
                <a:latin typeface="Times New Roman"/>
              </a:rPr>
              <a:t>Адреса помощ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айонный дом милосердия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Детский дом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еабилитационный центр «Остров надежды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то, если не я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0" name="Picture 4" descr="солнце"/>
          <p:cNvPicPr/>
          <p:nvPr/>
        </p:nvPicPr>
        <p:blipFill>
          <a:blip r:embed="rId1"/>
          <a:stretch/>
        </p:blipFill>
        <p:spPr>
          <a:xfrm>
            <a:off x="6811920" y="3143160"/>
            <a:ext cx="2332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1000"/>
            <a:ext cx="74916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Что такое </a:t>
            </a:r>
            <a:r>
              <a:rPr b="1" lang="ru-RU" sz="3200" spc="-1" strike="noStrike" u="sng">
                <a:solidFill>
                  <a:srgbClr val="cc9900"/>
                </a:solidFill>
                <a:uFillTx/>
                <a:latin typeface="Arial"/>
              </a:rPr>
              <a:t>«благотворительность»?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 чем ее смысл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то ей занимается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кого рассчитаны благотворительные дела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Что можем сделать мы для благотворительных целей?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74916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Times New Roman"/>
              </a:rPr>
              <a:t>Благотворитель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773280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«Иллюстрированном толковом словаре для детей и школьников» В.И.Даля </a:t>
            </a: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благотворительность –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9933"/>
                </a:solidFill>
                <a:latin typeface="Arial"/>
              </a:rPr>
              <a:t>готовность делать добро, помогать бедным, нуждающимся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«Толковый словарь» Ожегова: </a:t>
            </a: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«благотворительный»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33"/>
                </a:solidFill>
                <a:latin typeface="Arial"/>
              </a:rPr>
              <a:t>1. безвозмездный и направленный на общественную пользу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33"/>
                </a:solidFill>
                <a:latin typeface="Arial"/>
              </a:rPr>
              <a:t>2. направленный на оказание материальной помощи неимущи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рога до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Картинка 79 из 7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9120" y="428760"/>
            <a:ext cx="1905120" cy="164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cs302808.userapi.com/v302808947/5eee/RzvKrNNvB8o.jpg"/>
          <p:cNvPicPr/>
          <p:nvPr/>
        </p:nvPicPr>
        <p:blipFill>
          <a:blip r:embed="rId3"/>
          <a:stretch/>
        </p:blipFill>
        <p:spPr>
          <a:xfrm>
            <a:off x="1504800" y="1225440"/>
            <a:ext cx="2513160" cy="4632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i?id=94957982&amp;tov=6"/>
          <p:cNvPicPr/>
          <p:nvPr/>
        </p:nvPicPr>
        <p:blipFill>
          <a:blip r:embed="rId4"/>
          <a:stretch/>
        </p:blipFill>
        <p:spPr>
          <a:xfrm>
            <a:off x="4357800" y="22860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i?id=23315931&amp;tov=6"/>
          <p:cNvPicPr/>
          <p:nvPr/>
        </p:nvPicPr>
        <p:blipFill>
          <a:blip r:embed="rId5"/>
          <a:stretch/>
        </p:blipFill>
        <p:spPr>
          <a:xfrm>
            <a:off x="1571760" y="3571920"/>
            <a:ext cx="2354040" cy="273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1" descr="i?id=85294061&amp;tov=0"/>
          <p:cNvPicPr/>
          <p:nvPr/>
        </p:nvPicPr>
        <p:blipFill>
          <a:blip r:embed="rId6"/>
          <a:srcRect l="0" t="0" r="9298" b="0"/>
          <a:stretch/>
        </p:blipFill>
        <p:spPr>
          <a:xfrm>
            <a:off x="6858000" y="714240"/>
            <a:ext cx="2052720" cy="306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i?id=1370776&amp;tov=3"/>
          <p:cNvPicPr/>
          <p:nvPr/>
        </p:nvPicPr>
        <p:blipFill>
          <a:blip r:embed="rId7"/>
          <a:stretch/>
        </p:blipFill>
        <p:spPr>
          <a:xfrm>
            <a:off x="3857760" y="40719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i?id=77364556&amp;tov=5"/>
          <p:cNvPicPr/>
          <p:nvPr/>
        </p:nvPicPr>
        <p:blipFill>
          <a:blip r:embed="rId8"/>
          <a:stretch/>
        </p:blipFill>
        <p:spPr>
          <a:xfrm>
            <a:off x="6715080" y="4000680"/>
            <a:ext cx="17146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ереметьев Николай Петр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" descr="http://dostavka-portretov.ru/sheremetev-rz.gif"/>
          <p:cNvPicPr/>
          <p:nvPr/>
        </p:nvPicPr>
        <p:blipFill>
          <a:blip r:embed="rId1"/>
          <a:stretch/>
        </p:blipFill>
        <p:spPr>
          <a:xfrm>
            <a:off x="4714920" y="1071720"/>
            <a:ext cx="385776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ереметевская больница (Странноприимный дом), 19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&amp;SHcy;&amp;iecy;&amp;rcy;&amp;iecy;&amp;mcy;&amp;iecy;&amp;tcy;&amp;iecy;&amp;vcy;&amp;scy;&amp;kcy;&amp;acy;&amp;yacy; &amp;bcy;&amp;ocy;&amp;lcy;&amp;softcy;&amp;ncy;&amp;icy;&amp;tscy;&amp;acy; (&amp;Scy;&amp;tcy;&amp;rcy;&amp;acy;&amp;ncy;&amp;ncy;&amp;ocy;&amp;pcy;&amp;rcy;&amp;icy;&amp;icy;&amp;mcy;&amp;ncy;&amp;ycy;&amp;jcy; &amp;dcy;&amp;ocy;&amp;mcy;), 1910"/>
          <p:cNvPicPr/>
          <p:nvPr/>
        </p:nvPicPr>
        <p:blipFill>
          <a:blip r:embed="rId1"/>
          <a:stretch/>
        </p:blipFill>
        <p:spPr>
          <a:xfrm>
            <a:off x="1368360" y="1704960"/>
            <a:ext cx="76057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ание НИИ скорой помощи им. Н.В. Склифосовск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&amp;Zcy;&amp;dcy;&amp;acy;&amp;ncy;&amp;icy;&amp;iecy; &amp;Ncy;&amp;Icy;&amp;Icy; &amp;scy;&amp;kcy;&amp;ocy;&amp;rcy;&amp;ocy;&amp;jcy; &amp;pcy;&amp;ocy;&amp;mcy;&amp;ocy;&amp;shchcy;&amp;icy; &amp;icy;&amp;mcy;. &amp;Ncy;.&amp;Vcy;. &amp;Scy;&amp;kcy;&amp;lcy;&amp;icy;&amp;fcy;&amp;ocy;&amp;scy;&amp;ocy;&amp;vcy;&amp;scy;&amp;kcy;&amp;ocy;&amp;gcy;&amp;ocy;"/>
          <p:cNvPicPr/>
          <p:nvPr/>
        </p:nvPicPr>
        <p:blipFill>
          <a:blip r:embed="rId1"/>
          <a:stretch/>
        </p:blipFill>
        <p:spPr>
          <a:xfrm>
            <a:off x="1571760" y="1571760"/>
            <a:ext cx="67309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корев В.А. и нефтяное дело.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богатевший откупщик винных лавок, состояние которого «в наличных деньгах, акциях, имениях, делах и долгах» на 1860–1861 гг. исчислялось в 7,4 млн. рублей, Кокорев был тесно связан с наместником Кавказа А. И. Барятинским (прочившим его на пост министра финансов), с министрами финансов Ф. П. Вронченко и А. Броком, дружил с реакционным историком, публицистом и писателем-панславистом М. П. Погодиным, выступавшим за активную политику на Востоке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&amp;Kcy;&amp;ocy;&amp;kcy;&amp;ocy;&amp;rcy;&amp;iecy;&amp;vcy;.jpg"/>
          <p:cNvPicPr/>
          <p:nvPr/>
        </p:nvPicPr>
        <p:blipFill>
          <a:blip r:embed="rId1"/>
          <a:stretch/>
        </p:blipFill>
        <p:spPr>
          <a:xfrm>
            <a:off x="5214960" y="3137040"/>
            <a:ext cx="29671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03:41:14Z</dcterms:created>
  <dc:creator>Влад</dc:creator>
  <dc:description/>
  <dc:language>en-US</dc:language>
  <cp:lastModifiedBy>USER</cp:lastModifiedBy>
  <dcterms:modified xsi:type="dcterms:W3CDTF">2015-02-15T16:17:33Z</dcterms:modified>
  <cp:revision>87</cp:revision>
  <dc:subject/>
  <dc:title>Слайд 1</dc:title>
</cp:coreProperties>
</file>