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A15-B71C-4047-A5CA-08AFC207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25E-ABEC-45F0-9661-DF5E5DC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1CA-037C-4AC3-A17C-5B280186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5CD-2896-4DD3-9F40-69E4D654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1DE8-F8CE-40C0-9EB1-25C8F2E5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5436-A7F3-48C7-8254-32FE5C0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28F4-1E46-43EC-8FB7-E3455A40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5557-D017-409A-8401-53BAF8DB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C11B-98C6-49A4-B2A5-3754BA4E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5033-C286-48C6-8C14-204AB46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188-7D8F-4F65-908C-DAE3D2AF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A18-6919-4BD3-BAC5-EAE1FE94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BD1D-C383-481A-85C9-7EC234E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F22A-F53A-4A5C-B723-6427739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284-F62B-4472-8F7C-BCDE8194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143-2688-46AF-8281-F7211D92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DFB9-69E5-4A97-AF0C-6FC87969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9DC-3A0D-4646-B5E0-4CC028E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23E-3605-4913-BE39-651075F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606-26FB-49A0-B5D4-5FB9BCFA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2D1-21DE-4FC4-BB0A-7980B0F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934-EB2D-43BA-97BC-375D133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567-A1A9-42F9-A3E4-DE1C41B5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CBD-21B0-4063-AEC5-C3EEA07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DA9-FF12-4A59-A423-AC91865BE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3EC-DA22-4597-8857-D6E503282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8217"/>
                </a:solidFill>
                <a:latin typeface="Tahoma"/>
              </a:rPr>
              <a:t>ТОПЛИВНО-ЭНЕРГЕТИЧЕСКАЯ ПРОМЫШЛЕННОСТ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42667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Управляет миром!!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уктур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пливно-энергетического комплекса(ТЭК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057400"/>
            <a:ext cx="316872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н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057400"/>
            <a:ext cx="302580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1413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1413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263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068640"/>
            <a:ext cx="3240000" cy="93672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2997360"/>
            <a:ext cx="3024360" cy="107928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4005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4581360"/>
            <a:ext cx="324000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4581360"/>
            <a:ext cx="302580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1814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51814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638680"/>
            <a:ext cx="4464000" cy="57780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уктура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пливно-энергетического комплекса(ТЭК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057400"/>
            <a:ext cx="316872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н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057400"/>
            <a:ext cx="302580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413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1413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263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048120"/>
            <a:ext cx="3240000" cy="93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быча и производ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плива(уголь,нефть,га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2997360"/>
            <a:ext cx="3024360" cy="107928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электр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ЭЦ,АЭС,ГЭ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4005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636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581360"/>
            <a:ext cx="324000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зводство теп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4581360"/>
            <a:ext cx="3025800" cy="57636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ировка по ЛЭ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1814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51814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638680"/>
            <a:ext cx="4464000" cy="57780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СПОМНИ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Где находятся крупнейшие месторождения нефти, газа, угля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Этапы развития ТЭ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Угольный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– 1-я полови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ефтяной – середи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. – 1970-е г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Нефтегазовый – с 1970-х г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Когда наступит? Каким буд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280" y="228600"/>
          <a:ext cx="8839440" cy="6248520"/>
        </p:xfrm>
        <a:graphic>
          <a:graphicData uri="http://schemas.openxmlformats.org/drawingml/2006/table">
            <a:tbl>
              <a:tblPr/>
              <a:tblGrid>
                <a:gridCol w="1737000"/>
                <a:gridCol w="3749400"/>
                <a:gridCol w="335304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Вид топли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« - 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ое количество тепла, простота добычи и транспортиро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ысокая ресурсообеспечен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ое количество тепла, простота добычи, большие запасы, чем нефти. Экологически чистое топли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транспортировки. (газопровод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омные запасы (высокая ресурсообеспеченност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еплота сгорания, дороже добыча и транспортировка. Экологически грязный вид топли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ы</cp:lastModifiedBy>
  <dcterms:modified xsi:type="dcterms:W3CDTF">2010-03-07T19:47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