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7BBF-CB16-476F-94AA-E7FA316DB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8CA5-85C4-4583-9963-22F667CD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C45F-F86B-4A38-996F-348A62D60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8693-4923-4513-9EC2-A8A152042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E720-B8DF-46F1-B179-D0437F976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AA36-D671-4538-876C-FDA1AAD3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ECB4-9BE5-4B03-A3F3-5EE275B9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AE10-D33D-4938-914B-AF08694B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1BB3-2E88-4C9D-B556-61F0DE0B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DD4C6-E9CE-4814-B8E5-69B4FF7B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A0C5-CA94-484E-B639-B94D8855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6450-27B5-4FF0-8D9D-426F4AB3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B97B-6092-43AF-837F-734F4691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8D142-1FBA-4A8D-9204-008D7308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FA2D1-42EC-430D-9556-2B15ABF3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52C08-92FB-47C9-942C-F8C63BD50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F76B-14F8-4BEC-ACAE-874533EE3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36B4-78DC-4835-892A-EB84B84A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2643-F6B2-4F3A-840C-DB9476D3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6C46-EE65-41D6-9F17-B6DEDEBE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684C-F879-4F04-9002-91F0DAEE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EC11-A576-4BDD-AE20-6838C74B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B882-576E-4476-8548-F6163514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A5DF-BE47-45AC-ACC6-92D358C2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Monotype Corsiv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Monotype Corsiv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Monotype Corsiv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Monotype Corsiva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Monotype Corsiva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Monotype Corsiva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Monotype Corsiva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Monotype Corsiva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Monotype Corsiva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Monotype Corsiva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Monotype Corsiva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Monotype Corsiv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Monotype Corsiv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Monotype Corsiv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Monotype Corsiv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Monotype Corsiv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Monotype Corsiv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Monotype Corsiv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Monotype Corsiv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Monotype Corsiv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Monotype Corsiva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Monotype Corsiv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Monotype Corsiv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Monotype Corsiv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9880-01CB-40D4-87D8-9726F285BAE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Monotype Corsiva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Monotype Corsiva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Monotype Corsiva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Monotype Corsiva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Monotype Corsiva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Monotype Corsiva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Monotype Corsiva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Monotype Corsiva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Monotype Corsiva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Monotype Corsiva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Monotype Corsiva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Monotype Corsiva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Monotype Corsiva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Monotype Corsiva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Monotype Corsiva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Monotype Corsiva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Monotype Corsiva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Monotype Corsiva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Monotype Corsiva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Monotype Corsiva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Monotype Corsiva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Monotype Corsiva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Monotype Corsiv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Monotype Corsiv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CA84-C482-42B2-A4ED-441C79470821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700000" y="0"/>
            <a:ext cx="316692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7d47d"/>
                </a:solidFill>
                <a:latin typeface="Monotype Corsiva"/>
              </a:rPr>
              <a:t>Проект.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11280" y="1988640"/>
            <a:ext cx="59292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7d47d"/>
                </a:solidFill>
                <a:latin typeface="Times New Roman"/>
              </a:rPr>
              <a:t>На тему: Значение имени и фамилии  моей семь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3419640" y="5734080"/>
            <a:ext cx="424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7d47d"/>
                </a:solidFill>
                <a:latin typeface="Arial"/>
              </a:rPr>
              <a:t>Выполнила ученица 4 класса </a:t>
            </a:r>
            <a:endParaRPr b="0" lang="en-US" sz="2000" spc="-1" strike="noStrike">
              <a:solidFill>
                <a:srgbClr val="2f1311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7d47d"/>
                </a:solidFill>
                <a:latin typeface="Arial"/>
              </a:rPr>
              <a:t>Самсон Виолетта</a:t>
            </a:r>
            <a:endParaRPr b="0" lang="en-US" sz="2000" spc="-1" strike="noStrike">
              <a:solidFill>
                <a:srgbClr val="2f131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7d47d"/>
                </a:solidFill>
                <a:latin typeface="Times New Roman"/>
              </a:rPr>
              <a:t>Значение фамили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сследование истории возникновения фамилии Самсон открывает забытые страницы жизни и культуры наших предков и может поведать много любопытного о далеком прошлом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оугольник 2"/>
          <p:cNvSpPr/>
          <p:nvPr/>
        </p:nvSpPr>
        <p:spPr>
          <a:xfrm>
            <a:off x="324000" y="333360"/>
            <a:ext cx="7200720" cy="81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Monotype Corsiva"/>
              </a:rPr>
              <a:t>Кроме ветхозаветного Самсона, в христианской традиции также почитается святой Сампсон-странноприимец – римлянин, живший в 6 веке нашей эры. Сампсон (Сампсоний), происходивший из богатой и знатной семьи, раздал свое состояние бедным и открыл в Константинополе больницу и странноприимный дом, где принимал странников, больных и нищих. На Руси к Сампсону Странноприимцу также было принято взывать об исцелении от бессонницы.</a:t>
            </a:r>
            <a:endParaRPr b="0" lang="en-US" sz="2800" spc="-1" strike="noStrike">
              <a:solidFill>
                <a:srgbClr val="2f1311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Monotype Corsiva"/>
              </a:rPr>
              <a:t>Православные верили, что при образовании фамилии от крестильного имени заступничество святых покровителей будет распространяться на весь род.</a:t>
            </a:r>
            <a:endParaRPr b="0" lang="en-US" sz="2800" spc="-1" strike="noStrike">
              <a:solidFill>
                <a:srgbClr val="2f1311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7d47d"/>
                </a:solidFill>
                <a:latin typeface="Arial"/>
              </a:rPr>
              <a:t>Мое имя - Виолет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780000" y="1598760"/>
            <a:ext cx="3870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7d47d"/>
                </a:solidFill>
                <a:latin typeface="Monotype Corsiva"/>
              </a:rPr>
              <a:t>Виолетта целеустремленна, трудолюбива, чувствительна, страстна, активна и деловита. У Виолетты довольно практичный взгляд на вещи, высокий интеллект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Picture 4" descr="IMG_1786"/>
          <p:cNvPicPr/>
          <p:nvPr/>
        </p:nvPicPr>
        <p:blipFill>
          <a:blip r:embed="rId1"/>
          <a:stretch/>
        </p:blipFill>
        <p:spPr>
          <a:xfrm>
            <a:off x="324000" y="1557360"/>
            <a:ext cx="3779640" cy="4797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7d47d"/>
                </a:solidFill>
                <a:latin typeface="Arial"/>
              </a:rPr>
              <a:t>Имя моей мамы - Ларис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24000" y="1413000"/>
            <a:ext cx="37256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7d47d"/>
                </a:solidFill>
                <a:latin typeface="Times New Roman"/>
              </a:rPr>
              <a:t>Ларисе свойственны простота в общении, доброжелательность и справедливость. Она не умеет притворяться, любит порядок.  У Ларисы богато одаренная натура, может добиться больших успехов в жизн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Picture 4" descr="IMG_0284"/>
          <p:cNvPicPr/>
          <p:nvPr/>
        </p:nvPicPr>
        <p:blipFill>
          <a:blip r:embed="rId1"/>
          <a:stretch/>
        </p:blipFill>
        <p:spPr>
          <a:xfrm>
            <a:off x="324000" y="1125360"/>
            <a:ext cx="36716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7d47d"/>
                </a:solidFill>
                <a:latin typeface="Arial"/>
              </a:rPr>
              <a:t>Имя моего папы - Юрий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708000" y="1598760"/>
            <a:ext cx="3941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7d47d"/>
                </a:solidFill>
                <a:latin typeface="Monotype Corsiva"/>
              </a:rPr>
              <a:t>Юрий артистичный, благородный, сдержанный, рассудительный, спокойный, сосредоточенный на своем внутреннем мире человек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Picture 4" descr="IMG_1444"/>
          <p:cNvPicPr/>
          <p:nvPr/>
        </p:nvPicPr>
        <p:blipFill>
          <a:blip r:embed="rId1"/>
          <a:stretch/>
        </p:blipFill>
        <p:spPr>
          <a:xfrm>
            <a:off x="179280" y="1268280"/>
            <a:ext cx="32767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7d47d"/>
                </a:solidFill>
                <a:latin typeface="Arial"/>
              </a:rPr>
              <a:t>Имя моей сестры - Татьян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419280" y="1598760"/>
            <a:ext cx="4230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7d47d"/>
                </a:solidFill>
                <a:latin typeface="Arial"/>
              </a:rPr>
              <a:t>Татьяна решительна, общительна, обаятельна и уверена в себе. Она обладает тонким чувством юмора, сильной интуицией и воле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9" name="Picture 5" descr="IMG_1838"/>
          <p:cNvPicPr/>
          <p:nvPr/>
        </p:nvPicPr>
        <p:blipFill>
          <a:blip r:embed="rId1"/>
          <a:stretch/>
        </p:blipFill>
        <p:spPr>
          <a:xfrm>
            <a:off x="395280" y="1557360"/>
            <a:ext cx="3097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Имя моей бабушки - Галин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635280" y="1598760"/>
            <a:ext cx="40147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7d47d"/>
                </a:solidFill>
                <a:latin typeface="Arial"/>
              </a:rPr>
              <a:t>Галина жизнерадостна, послушна, прилежна, тверда, всегда уверена в своей правоте. Она обладает творческими способностями. Способна на подвиг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Picture 4" descr="Ну просто Джентэльмент"/>
          <p:cNvPicPr/>
          <p:nvPr/>
        </p:nvPicPr>
        <p:blipFill>
          <a:blip r:embed="rId1"/>
          <a:stretch/>
        </p:blipFill>
        <p:spPr>
          <a:xfrm>
            <a:off x="250920" y="1557360"/>
            <a:ext cx="3168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8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50920" y="2491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СПАСИБО ЗА ВНИМАНИЕ!!!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3T17:17:15Z</dcterms:created>
  <dc:creator>ТАНЮША</dc:creator>
  <dc:description/>
  <dc:language>en-US</dc:language>
  <cp:lastModifiedBy>Ольга</cp:lastModifiedBy>
  <dcterms:modified xsi:type="dcterms:W3CDTF">2015-03-11T18:26:25Z</dcterms:modified>
  <cp:revision>7</cp:revision>
  <dc:subject/>
  <dc:title>Проект. </dc:title>
</cp:coreProperties>
</file>