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34CD6-B635-4146-9679-1BB6FB1BF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212C5-F220-4B74-B153-50E594FBE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A2831-BA58-43EA-865F-AA4C35789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E8FD9-A522-4543-B577-321CF2CF2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86FD2-560E-40CE-B487-9384C3A25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C5388-CB30-43E2-88BC-B60CCFE17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D5F13-6770-4DAF-AF61-3526FB9E8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0D18C-1A4E-4D23-B2BE-3E4BEC92D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2A747-F1D0-475D-9701-F08921455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3B611-FDB3-447C-88F6-70BF9BAD8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08962-29D3-40E6-A24A-E78A91021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9BADE-85A0-45FD-B7B5-6929FF9CE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800"/>
            </a:gs>
            <a:gs pos="100000">
              <a:srgbClr val="8256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84072-004B-4CCC-BDE8-4C5A6136B36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800"/>
            </a:gs>
            <a:gs pos="100000">
              <a:srgbClr val="8256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 rot="5400000">
            <a:off x="5075640" y="2853360"/>
            <a:ext cx="5905800" cy="1008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4 ноября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68360" y="692280"/>
            <a:ext cx="6421320" cy="416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792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800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День народного единства</a:t>
            </a:r>
            <a:endParaRPr b="0" lang="en-US" sz="1800" spc="1" strike="noStrike">
              <a:ln w="0">
                <a:noFill/>
              </a:ln>
              <a:solidFill>
                <a:srgbClr val="8000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3905280"/>
            <a:ext cx="3097080" cy="29527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3995640" y="4869000"/>
            <a:ext cx="1876680" cy="113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Классный час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8 класс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8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8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8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8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3000"/>
                            </p:stCondLst>
                            <p:childTnLst>
                              <p:par>
                                <p:cTn id="2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800"/>
            </a:gs>
            <a:gs pos="100000">
              <a:srgbClr val="8256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635280" y="550800"/>
            <a:ext cx="52578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Идея увековечить подвиг ополчения Минина и Пожарского появилась не сразу. Спустя более века, в 1722 году, Пётр Великий побывал в Нижнем Новгороде на могиле Минина и сказал: "Вот истинный спаситель Отечества!"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5076720" y="3059280"/>
            <a:ext cx="4067280" cy="37987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250920" y="260280"/>
            <a:ext cx="2303280" cy="171612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0" y="1989000"/>
            <a:ext cx="25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Могила К. Мин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79280" y="2699280"/>
            <a:ext cx="3745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В то время не было известно, где похоронен Пожарский, его могилу нашли только в 1851 год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324000" y="4076640"/>
            <a:ext cx="1793880" cy="2594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050920" y="4440600"/>
            <a:ext cx="251964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Место захоронения князя Пожарского - родовая усыпальница князей Пожарских в суздальском Спасо-Евфимиевом монастыре - было установлено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в 1851 год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206" nodeType="afterEffect" fill="hold" presetClass="entr" presetID="18" presetSubtype="1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8" presetSubtype="1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4500"/>
                            </p:stCondLst>
                            <p:childTnLst>
                              <p:par>
                                <p:cTn id="21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5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6500"/>
                            </p:stCondLst>
                            <p:childTnLst>
                              <p:par>
                                <p:cTn id="21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800"/>
            </a:gs>
            <a:gs pos="100000">
              <a:srgbClr val="8256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50920" y="333360"/>
            <a:ext cx="46083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0 февраля 1818 г. в Москве на Красной площади состоялось торжественное открытие памятника двум национальным героям, Козьме Минину и князю Дмитрию Пожарскому, создавшим и возглавившим народное ополчение, которое освободило русскую землю от польских захватчик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076720" y="4368960"/>
            <a:ext cx="36720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Открытие этого памятника стало частью торжеств по случаю празднования пятилетней годовщины Отечественной войны 1812 г., которая началось с закладки Храма Христа Спасителя на Воробьевых горах (12 октября 1817 г.) в присутствии императора Александра I и гвард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5580000" y="333360"/>
            <a:ext cx="3048120" cy="30481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395280" y="2276640"/>
            <a:ext cx="2514600" cy="398448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 txBox="1"/>
          <p:nvPr/>
        </p:nvSpPr>
        <p:spPr>
          <a:xfrm>
            <a:off x="611280" y="6093000"/>
            <a:ext cx="1771560" cy="54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Александр I</a:t>
            </a:r>
            <a:endParaRPr b="0" lang="en-US" sz="2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5148360" y="3429000"/>
            <a:ext cx="3609720" cy="54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Храм Христа Спасителя</a:t>
            </a:r>
            <a:endParaRPr b="0" lang="en-US" sz="2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comb dir="horz"/>
  </p:transition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0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2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5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2000"/>
                            </p:stCondLst>
                            <p:childTnLst>
                              <p:par>
                                <p:cTn id="23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9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2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4000"/>
                            </p:stCondLst>
                            <p:childTnLst>
                              <p:par>
                                <p:cTn id="24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800"/>
            </a:gs>
            <a:gs pos="100000">
              <a:srgbClr val="8256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403280" y="547920"/>
            <a:ext cx="540072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Автором этого монумента, первого скульптурного памятника в Москве, был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Иван Петрович Мартос (1754 - 1835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6089760" y="260280"/>
            <a:ext cx="3054240" cy="439272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611280" y="1987920"/>
            <a:ext cx="4752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усский скульптор. Академик и ректор Академии художеств. За создание памятника Минину и Пожарскому Мартос получил звание действительного статского советника (один из высших гражданских чинов в России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1692360" y="4149720"/>
            <a:ext cx="3384360" cy="25383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0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"/>
                            </p:stCondLst>
                            <p:childTnLst>
                              <p:par>
                                <p:cTn id="26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1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2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3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4220"/>
                            </p:stCondLst>
                            <p:childTnLst>
                              <p:par>
                                <p:cTn id="27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7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8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9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800"/>
            </a:gs>
            <a:gs pos="100000">
              <a:srgbClr val="8256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3419640" y="407160"/>
            <a:ext cx="22320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Первоначально монумент был установлен в центре Красной площади, напротив Кремлевской стены и был превосходно связан с ансамблем Красной площади. В 1930 г. в связи с реконструкцией Красной площади, памятник был перенесен к храму Василия Блаженного, где и теперь стоит, напоминая проходящим о героическом прошлом нашей стра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3047760" cy="30477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5867280" y="189000"/>
            <a:ext cx="3048120" cy="304776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179280" y="3573360"/>
            <a:ext cx="3048120" cy="304812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5867280" y="3573360"/>
            <a:ext cx="3048120" cy="30481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0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86" dur="3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89" dur="3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92" dur="3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95" dur="3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3000"/>
                            </p:stCondLst>
                            <p:childTnLst>
                              <p:par>
                                <p:cTn id="29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9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800"/>
            </a:gs>
            <a:gs pos="100000">
              <a:srgbClr val="8256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708360" y="191880"/>
            <a:ext cx="52563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На Красной площади ты можешь увидеть не только памятник Минину и Пожарскому, но и ещё одно напоминание о подвиге их народного ополчения 1612 года. На противоположном краю площади стоит собор Казанской иконы Божией Матери. Он был освящён в 1636 году в память о героях, освободивших Москву, и восстановлен уже в наши дн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3047760" cy="30481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867280" y="3500280"/>
            <a:ext cx="3048120" cy="304812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3348000" y="3500280"/>
            <a:ext cx="2519280" cy="30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Ополченцы Минина и Пожарского шли на бой с захватчиками, вдохновлённые этой иконой, которую считали своей покровительницей. В летописях сохранилось упоминание о том, что Казанскую икону "украсил многой утварью (украшениями) боярин князь Дмитрий Михайлович Пожарский"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 rot="21204600">
            <a:off x="2195280" y="2204640"/>
            <a:ext cx="6238800" cy="965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обор Казанской иконы Божией Матери</a:t>
            </a:r>
            <a:endParaRPr b="0" lang="en-US" sz="2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179280" y="3500280"/>
            <a:ext cx="3048120" cy="30481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0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306" dur="3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309" dur="3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3000"/>
                            </p:stCondLst>
                            <p:childTnLst>
                              <p:par>
                                <p:cTn id="3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3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6000"/>
                            </p:stCondLst>
                            <p:childTnLst>
                              <p:par>
                                <p:cTn id="31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8000"/>
                            </p:stCondLst>
                            <p:childTnLst>
                              <p:par>
                                <p:cTn id="32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24" dur="3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1000"/>
                            </p:stCondLst>
                            <p:childTnLst>
                              <p:par>
                                <p:cTn id="326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800"/>
            </a:gs>
            <a:gs pos="100000">
              <a:srgbClr val="8256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87692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148360" y="187200"/>
            <a:ext cx="3743280" cy="64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Новый государственный праздник -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День народного единств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установлен в память об освобождении Москвы 4 ноября 1612 года от польско-литовской и шведской интервенц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Пример сплочённости всего народа, показанный ополчением Минина и Пожарского при освобождении Москвы, отмечается уже второй го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Эта инициатива получила законодательное оформление. Наряду с этим было упразднено государственное празднование годовщины Октябрьской революции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" dur="3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3000"/>
                            </p:stCondLst>
                            <p:childTnLst>
                              <p:par>
                                <p:cTn id="4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" dur="3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800"/>
            </a:gs>
            <a:gs pos="100000">
              <a:srgbClr val="8256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00720" y="1339920"/>
            <a:ext cx="424944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В начале XVII века Россия была захвачена польско-литовскими войсками. В тот период, названный Смутным временем, в стране отсутствовала государственность, Россия погрузилась в гражданскую войну, вплотную столкнувшись с угрозой распада, утраты независимости и самобытности. И тогда сам народ встал на защиту Отечества, осознав необходимость объединения сил перед внешними и внутренними угрозам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24000" y="1484280"/>
            <a:ext cx="4032000" cy="28605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55640" y="4508640"/>
            <a:ext cx="28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Иванов С.В. «Смутное время» 1908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0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2000"/>
                            </p:stCondLst>
                            <p:childTnLst>
                              <p:par>
                                <p:cTn id="5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2500"/>
                            </p:stCondLst>
                            <p:childTnLst>
                              <p:par>
                                <p:cTn id="5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" dur="80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" dur="80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" dur="80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800"/>
            </a:gs>
            <a:gs pos="100000">
              <a:srgbClr val="8256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68360" y="1413000"/>
            <a:ext cx="3195720" cy="35557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924360" y="981000"/>
            <a:ext cx="4895640" cy="4497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8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МИНИН Кузьма Мини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8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?-161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8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Организатор национально-освободительной борьбы русского народа против польской интервенции начало 17 в. и один из руководителей 2-го земского ополчения 1611-1612 г.г., народный герой; соратник Д. М. Пожарского. Нижегородский посадский. С сентября 1611 земский староста. В боях за Москву проявил личную храбрость. В 1612-13 член земского правительства, с 1613 думный дворяни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800"/>
            </a:gs>
            <a:gs pos="100000">
              <a:srgbClr val="8256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39640" y="1268280"/>
            <a:ext cx="3456000" cy="38466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4643280" y="765000"/>
            <a:ext cx="3961080" cy="4809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8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ПОЖАРСКИЙ Дмитрий Михайлович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8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578-164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8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Князь, боярин (с 1613), полководец, народный герой, соратник К. Минина. Участник 1-го земского ополчения 1611, один из руководителей 2-го земского ополчения и временного земского правительства. Руководил военными действиями против польских интервентов. Возглавлял ряд приказ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4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5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800"/>
            </a:gs>
            <a:gs pos="100000">
              <a:srgbClr val="8256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404640"/>
            <a:ext cx="504036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аpодное движение, возникшее в Нижнем Новгоpоде  возглавил нижегоpодcкий земcкий cтаpоcта, купец Кузьма Минин. В своих речах, обращенных к землякам, он пpизывал жителей Руси поднятьcя на боpьбу c иноземными заxватчиками за оcвобождение Отечества, за пpавоcлавную веpу, не жалеть жизни cвоей, а на cодеpжание pатныx людей отдать “вcё злато и cеpебpо и, еcли надо будет, пpодать имущеcтво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364000" y="0"/>
            <a:ext cx="3564000" cy="703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Картина изображает сцену сбора cpедcтв на cоздание нового ополчения. На площади пеpед cъезжей избой в центpе Нижнего стоит сам Кузьма Минин. Он обращается к жителям города с призывом. Перед крыльцом мы видим все принесенное нижегородцами: здесь и драгоценности, и золотая, серебряная посуда, и ткани, и обувь – сапоги, а рядом - лапти – каждый отдает то, что у него ест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Молодая женщина принесла ларец с драгоценностями, женщина постарше – свою нарядную одежду. Горожанин в левом углу картины что-то достает из кармана – возможно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последние деньги. Трогательная подробность: дети, пробравшиеся сквозь толпу, принесли свои игрушки. Всех людей на картине объединяет один порыв, единое страстное стремление внести свою лепту в дело освобождения земли русской от иноземных захватчиков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539640" y="2708280"/>
            <a:ext cx="3816360" cy="286236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324000" y="5950080"/>
            <a:ext cx="424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Кившенко А.Д. «Воззвание Козьмы Минина к нижегородцам 1611 г.»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 конец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XIX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. 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0" dur="80"/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1" dur="80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" dur="80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3140"/>
                            </p:stCondLst>
                            <p:childTnLst>
                              <p:par>
                                <p:cTn id="10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6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3640"/>
                            </p:stCondLst>
                            <p:childTnLst>
                              <p:par>
                                <p:cTn id="108" nodeType="afterEffect" fill="hold" presetClass="entr" presetID="5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0" dur="3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800"/>
            </a:gs>
            <a:gs pos="100000">
              <a:srgbClr val="8256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letter" descr="&quot;П"/>
          <p:cNvPicPr/>
          <p:nvPr/>
        </p:nvPicPr>
        <p:blipFill>
          <a:blip r:embed="rId1"/>
          <a:stretch/>
        </p:blipFill>
        <p:spPr>
          <a:xfrm>
            <a:off x="-5200560" y="1596960"/>
            <a:ext cx="771480" cy="609840"/>
          </a:xfrm>
          <a:prstGeom prst="rect">
            <a:avLst/>
          </a:prstGeom>
          <a:ln w="0">
            <a:noFill/>
          </a:ln>
        </p:spPr>
      </p:pic>
      <p:pic>
        <p:nvPicPr>
          <p:cNvPr id="60" name="_T" descr="&quot;Т"/>
          <p:cNvPicPr/>
          <p:nvPr/>
        </p:nvPicPr>
        <p:blipFill>
          <a:blip r:embed="rId2"/>
          <a:stretch/>
        </p:blipFill>
        <p:spPr>
          <a:xfrm>
            <a:off x="-5200560" y="3567240"/>
            <a:ext cx="733320" cy="609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-4121280" y="1596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0" y="3138480"/>
            <a:ext cx="4788000" cy="33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«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в, что князь Дмитрий Михайлович Пожарский в Нижегородском уезде живёт, послали к нему из Нижнего людей просить, чтобы он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л воеводой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всего войска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А в то время князь Пожарский был ранен и от раны сильно страдал, но не отверг просьбы их и пошёл в Нижний Новгород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«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гда пришёл он в Нижний, то обрадовалось всё войско приходу его и назвали его воеводой всего войска. И без промедления князь Пожарский с Козьмою Мининым и всеми ратными (военными) людьми стал заботиться об освобождении Московского государства"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("Повесть о победах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Московского государства"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03640" y="478080"/>
            <a:ext cx="3889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шли они в Кострому. Потом пришли в Ярославль. Пришли из Ярославля в Ростов, от Ростова пошли в Переславль (теперь это город Переяславль-Залесский), из Переславля - в Москву"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Сбор ополчения Минина и Пожарского и его путь к Москве в 1612 году"/>
          <p:cNvPicPr/>
          <p:nvPr/>
        </p:nvPicPr>
        <p:blipFill>
          <a:blip r:embed="rId3"/>
          <a:stretch/>
        </p:blipFill>
        <p:spPr>
          <a:xfrm>
            <a:off x="4859280" y="2781360"/>
            <a:ext cx="4103640" cy="36766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179280" y="333360"/>
            <a:ext cx="5184720" cy="26002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3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3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3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2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55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5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1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1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800"/>
            </a:gs>
            <a:gs pos="100000">
              <a:srgbClr val="8256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6443640" y="189000"/>
            <a:ext cx="2368440" cy="352404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6372360" y="3716280"/>
            <a:ext cx="252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Стена Китай - горо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5724360" y="4581360"/>
            <a:ext cx="3048120" cy="204804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250920" y="340200"/>
            <a:ext cx="60498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В1612 году полки Московского государства стояли мужественно и твёрдо, отважно бились, не щадя жизней своих, и 22 октября (4 ноября по новому стилю) Китай-город (центральную часть Москвы, прилегающую к Кремлю) взял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179280" y="2421000"/>
            <a:ext cx="4176720" cy="31320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3780000" y="5950080"/>
            <a:ext cx="2087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Сабли К. Минина и Д. Пожарског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356000" y="2492280"/>
            <a:ext cx="17287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Лисснер Э. «Изгнание польских интервентов из Московского Кремля в 1612 г.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21" presetSubtype="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3)" transition="in">
                                      <p:cBhvr additive="repl">
                                        <p:cTn id="138" dur="5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1" presetSubtype="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3)" transition="in">
                                      <p:cBhvr additive="repl">
                                        <p:cTn id="141" dur="5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1" presetSubtype="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3)" transition="in">
                                      <p:cBhvr additive="repl">
                                        <p:cTn id="144" dur="5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5500"/>
                            </p:stCondLst>
                            <p:childTnLst>
                              <p:par>
                                <p:cTn id="14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8" dur="3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8500"/>
                            </p:stCondLst>
                            <p:childTnLst>
                              <p:par>
                                <p:cTn id="15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2" dur="80"/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3" dur="80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4" dur="80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7" dur="80"/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8" dur="80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9" dur="80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2" dur="80"/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3" dur="80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4" dur="80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800"/>
            </a:gs>
            <a:gs pos="100000">
              <a:srgbClr val="8256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24000" y="619560"/>
            <a:ext cx="46083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После этого события в 1613 году Божьей милостью избрали царя Михаила Фёдоровича (Романова) на Московское государство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С этого царя начинается династия Романовых, правившая Россией до февраля 1917 г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5292720" y="692280"/>
            <a:ext cx="3352680" cy="44161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611280" y="2997360"/>
            <a:ext cx="3960720" cy="29700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1908000" y="6093000"/>
            <a:ext cx="3816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Кившенко А.Д. «Избрание Михаила Федоровича на престол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5724360" y="5373720"/>
            <a:ext cx="27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Царь Михаил Фёдорович (Романов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0" dur="1" fill="hold"/>
                                        <p:tgtEl>
                                          <p:spTgt spid="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4" dur="3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3000"/>
                            </p:stCondLst>
                            <p:childTnLst>
                              <p:par>
                                <p:cTn id="17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8" dur="3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6000"/>
                            </p:stCondLst>
                            <p:childTnLst>
                              <p:par>
                                <p:cTn id="180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82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85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8000"/>
                            </p:stCondLst>
                            <p:childTnLst>
                              <p:par>
                                <p:cTn id="187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5T09:38:18Z</dcterms:created>
  <dc:creator>User</dc:creator>
  <dc:description/>
  <dc:language>en-US</dc:language>
  <cp:lastModifiedBy>Директор</cp:lastModifiedBy>
  <dcterms:modified xsi:type="dcterms:W3CDTF">2015-03-12T18:03:46Z</dcterms:modified>
  <cp:revision>31</cp:revision>
  <dc:subject/>
  <dc:title>Слайд 1</dc:title>
</cp:coreProperties>
</file>