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85A-26E7-4EDA-BF4B-8B693ECC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C74-3BA1-4514-AF41-B5EC573E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421-E5FD-4856-A190-23FF5616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F3D-49F7-464B-834D-7A6E19FE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D9A2-63D9-40A5-9E9B-0294A1DD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B12-5FC5-445C-92E0-F92C2C92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5355-8834-4C89-AB7D-6DFAED2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6596-A6AB-4BA2-954A-93185E42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1B7E-7E4F-4A4B-9612-9CD77610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972-A718-4428-80B7-E023BE05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EC16-1285-4E39-8A5E-609DA553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6BC-0393-4D28-B217-EFBBB43B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B47F-1CA8-4379-908D-0F3152D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9BC3-2C97-47F7-95D8-D848FF7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B42A-C0E0-448A-86AA-CBD27DAA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ACD7-571B-46C4-9BEE-6D493358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1016-9383-482A-9A16-A9E1132D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3FE4-B59E-47ED-B86B-9F250A65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9FFAE-8FAF-4D51-8DAE-DCC4BFCA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F43F-9577-49F0-9D78-80287A4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6344-B586-4EF7-B0FE-740545B4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27D1-5D7D-4A6C-97F7-D0400818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506-8A90-4EC0-8EF2-F90699A2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0B55-0953-4746-B3FB-07AF6F29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9E0E-6698-4463-8D03-6E2A0EC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B82C-047D-481B-8173-1676709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B49D-6EF5-4E33-B561-B9ADAD8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0765-B98D-4ED3-B814-05442E6D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FAD4-0F86-41F4-9CE9-4ECE8ADB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8079-D153-4505-A3F5-65A1F240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B00AD-4E80-4681-9605-3A16A820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8E17-A0A6-4624-8845-90CFE2E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D32D-90A7-4B22-B245-F9344CE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573-FDF2-478D-ACB4-84326538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8255-107C-4263-9672-72F1B9B1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0613-B23B-4123-B67D-CA04691E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15F9-5EDF-4635-85DD-5F805DC0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CAE8-1C61-42A6-9F4F-8712D6F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42E7-59FE-4FE3-A86F-B1808F8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0C0A-0C80-42E5-A449-2FD6766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85D2-28F3-4F7C-860E-90EEE74F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709A-5348-4149-B3B1-9C225B95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EC4B-BE6A-4A6C-91A2-78D36D1E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36F78-4C53-411B-9076-B602B744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11E-74D7-4824-8E6C-971B0CEB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5D01-6CA6-4889-933A-552F888E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F102D-08DB-433F-83BB-ADDE1EE8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EA28-84A1-4C28-B73D-F3FF1C57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5CE8-143D-4FA1-9ECD-4DC1701C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EBC9-5E3C-4A21-9FC6-E6999B8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DC50C-974F-4FB3-9DE8-891B031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B2C8-CF9A-45BD-93D9-6B2824E7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023F2-ACA0-46C1-8952-6E39B54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4BD0-1F39-4ABA-BA28-7F0C8AFE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AB3EB-40B1-4705-A7A3-197FD715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C75-A920-4518-9D89-EAD4E2AF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C3B3-396E-4333-93EC-AF300DB1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993-CCD3-48EF-96FB-51674A4B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B1B-7ADB-47FB-B40D-6639295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2CC-1109-4500-8270-1A88E67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19D-BFF3-4CC8-A576-4F48BC984D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A3A8-FBBE-4752-A62F-A92BC5387BE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DB14-F97A-4499-9286-8F0F649E4EE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206A-16D7-4356-8D81-8BD1AE43300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77FA-D489-4279-8383-0D4EBD2B9B4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8285400" cy="13845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>
            <a:hlinkClick r:id="" action="ppaction://hlinkshowjump?jump=nextslide"/>
          </p:cNvPr>
          <p:cNvSpPr/>
          <p:nvPr/>
        </p:nvSpPr>
        <p:spPr>
          <a:xfrm>
            <a:off x="6248520" y="228600"/>
            <a:ext cx="2666880" cy="533520"/>
          </a:xfrm>
          <a:custGeom>
            <a:avLst/>
            <a:gdLst>
              <a:gd name="textAreaLeft" fmla="*/ 34560 w 2666880"/>
              <a:gd name="textAreaRight" fmla="*/ 2632320 w 2666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7913" h="21600">
                <a:moveTo>
                  <a:pt x="0" y="0"/>
                </a:moveTo>
                <a:lnTo>
                  <a:pt x="107913" y="0"/>
                </a:lnTo>
                <a:lnTo>
                  <a:pt x="107913" y="21600"/>
                </a:lnTo>
                <a:lnTo>
                  <a:pt x="0" y="21600"/>
                </a:lnTo>
                <a:close/>
              </a:path>
              <a:path fill="lightenLess" w="107913" h="21600">
                <a:moveTo>
                  <a:pt x="0" y="0"/>
                </a:moveTo>
                <a:lnTo>
                  <a:pt x="107913" y="0"/>
                </a:lnTo>
                <a:lnTo>
                  <a:pt x="106513" y="1400"/>
                </a:lnTo>
                <a:lnTo>
                  <a:pt x="1400" y="1400"/>
                </a:lnTo>
                <a:close/>
              </a:path>
              <a:path fill="darken" w="107913" h="21600">
                <a:moveTo>
                  <a:pt x="107913" y="0"/>
                </a:moveTo>
                <a:lnTo>
                  <a:pt x="107913" y="21600"/>
                </a:lnTo>
                <a:lnTo>
                  <a:pt x="106513" y="20200"/>
                </a:lnTo>
                <a:lnTo>
                  <a:pt x="106513" y="1400"/>
                </a:lnTo>
                <a:close/>
              </a:path>
              <a:path fill="darkenLess" w="107913" h="21600">
                <a:moveTo>
                  <a:pt x="107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13" y="20200"/>
                </a:lnTo>
                <a:close/>
              </a:path>
              <a:path fill="lighten" w="107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13" h="21600">
                <a:moveTo>
                  <a:pt x="46950" y="3794"/>
                </a:moveTo>
                <a:lnTo>
                  <a:pt x="60963" y="10800"/>
                </a:lnTo>
                <a:lnTo>
                  <a:pt x="469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-231840" y="639720"/>
            <a:ext cx="9333000" cy="689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152280" y="1371600"/>
            <a:ext cx="8991720" cy="64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рафический способ представления алгоритмов является более компактным и наглядным по сравнению со словесны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Cyr"/>
              </a:rPr>
              <a:t>При графическом представлении алгоритм изображается в виде последовательности связанных между собой функциональных блоков, каждый из которых соответствует выполнению одного или нескольких действ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акое графическое представление называется схемой алгоритма или блок-схемой. В блок-схеме каждому типу действий (вводу исходных данных, вычислению значений выражений, проверке условий, управлению повторением действий, окончанию обработки и т.п.) соответствует геометрическая фигура, представленная в виде блочного символа. Блочные символы соединяются линиями переходов, определяющими очередность выполнения действий. В таблице приведены наиболее часто употребляемые символы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12600" y="792000"/>
            <a:ext cx="9015480" cy="433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Мои документы\wpe16.gif"/>
          <p:cNvPicPr/>
          <p:nvPr/>
        </p:nvPicPr>
        <p:blipFill>
          <a:blip r:embed="rId2"/>
          <a:stretch/>
        </p:blipFill>
        <p:spPr>
          <a:xfrm>
            <a:off x="3808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5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6" descr="A:\HOM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152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1026" descr=""/>
          <p:cNvPicPr/>
          <p:nvPr/>
        </p:nvPicPr>
        <p:blipFill>
          <a:blip r:embed="rId1"/>
          <a:stretch/>
        </p:blipFill>
        <p:spPr>
          <a:xfrm>
            <a:off x="23760" y="-85680"/>
            <a:ext cx="9126720" cy="12380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1027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30"/>
          <p:cNvSpPr/>
          <p:nvPr/>
        </p:nvSpPr>
        <p:spPr>
          <a:xfrm>
            <a:off x="228600" y="1143000"/>
            <a:ext cx="847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деляют  следующие виды алгоритмов:линейный, разветвляющийся, циклический и комбинированный. При определении вида алгоритма пользуются ключевыми слов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8600" y="2133720"/>
          <a:ext cx="8686800" cy="4616280"/>
        </p:xfrm>
        <a:graphic>
          <a:graphicData uri="http://schemas.openxmlformats.org/drawingml/2006/table">
            <a:tbl>
              <a:tblPr/>
              <a:tblGrid>
                <a:gridCol w="4114800"/>
                <a:gridCol w="2438280"/>
                <a:gridCol w="213372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алгорит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горитм, в котором есть структура СЛЕДОВАНИЕ называется линейны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ование – расположение действий друг за дру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х слов 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горитм, в котором есть структура ВЕТВЛЕНИЕ называется разветвляющимся. Ветвление – выбор действия от какого-либо усло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…то…иначе…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…(в значении ес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горитм, в котором есть структура ЦИКЛ называется циклически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кл – неоднократное повторение каких-либо действ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…до…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…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…(в значении пока…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9" name="Group 1093"/>
          <p:cNvGrpSpPr/>
          <p:nvPr/>
        </p:nvGrpSpPr>
        <p:grpSpPr>
          <a:xfrm>
            <a:off x="7010280" y="2514600"/>
            <a:ext cx="1752840" cy="4159080"/>
            <a:chOff x="7010280" y="2514600"/>
            <a:chExt cx="1752840" cy="4159080"/>
          </a:xfrm>
        </p:grpSpPr>
        <p:pic>
          <p:nvPicPr>
            <p:cNvPr id="260" name="Picture 1080" descr="C:\Мои документы\Виды алгоритмов.files\bl3_t13.gif"/>
            <p:cNvPicPr/>
            <p:nvPr/>
          </p:nvPicPr>
          <p:blipFill>
            <a:blip r:embed="rId2"/>
            <a:stretch/>
          </p:blipFill>
          <p:spPr>
            <a:xfrm>
              <a:off x="7010280" y="2514600"/>
              <a:ext cx="1676520" cy="11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81" descr="C:\Мои документы\Виды алгоритмов.files\bl3_t14.gif"/>
            <p:cNvPicPr/>
            <p:nvPr/>
          </p:nvPicPr>
          <p:blipFill>
            <a:blip r:embed="rId3"/>
            <a:stretch/>
          </p:blipFill>
          <p:spPr>
            <a:xfrm>
              <a:off x="7010280" y="3809880"/>
              <a:ext cx="175284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082" descr="C:\Мои документы\Виды алгоритмов.files\bl3_t15.gif"/>
            <p:cNvPicPr/>
            <p:nvPr/>
          </p:nvPicPr>
          <p:blipFill>
            <a:blip r:embed="rId4"/>
            <a:stretch/>
          </p:blipFill>
          <p:spPr>
            <a:xfrm>
              <a:off x="7086600" y="5105520"/>
              <a:ext cx="1676520" cy="1568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3124080" y="2209680"/>
            <a:ext cx="2743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ей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кл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6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7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Мои документы\snegovik.bmp"/>
          <p:cNvPicPr/>
          <p:nvPr/>
        </p:nvPicPr>
        <p:blipFill>
          <a:blip r:embed="rId2"/>
          <a:stretch/>
        </p:blipFill>
        <p:spPr>
          <a:xfrm>
            <a:off x="228600" y="1905120"/>
            <a:ext cx="3448080" cy="46861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4002840" y="3929040"/>
            <a:ext cx="46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представлен алгори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пки снегов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5481720" y="2631960"/>
            <a:ext cx="285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емонстриров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горитм вет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имере вы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и маршру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6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7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Vetvlenie.avi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8006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7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8" descr="A:\HOME.GIF"/>
          <p:cNvPicPr/>
          <p:nvPr/>
        </p:nvPicPr>
        <p:blipFill>
          <a:blip r:embed="rId2"/>
          <a:stretch/>
        </p:blipFill>
        <p:spPr>
          <a:xfrm>
            <a:off x="4343400" y="15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9">
            <a:hlinkClick r:id="" action="ppaction://hlinkshowjump?jump=endshow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Законч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6429240" y="2428920"/>
            <a:ext cx="242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данном рису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емонстриро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клический алгори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имере круговор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ы в природ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4" descr="Картинка 2 из 3583"/>
          <p:cNvPicPr/>
          <p:nvPr/>
        </p:nvPicPr>
        <p:blipFill>
          <a:blip r:embed="rId3"/>
          <a:stretch/>
        </p:blipFill>
        <p:spPr>
          <a:xfrm>
            <a:off x="0" y="1928880"/>
            <a:ext cx="638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47680" y="2362320"/>
            <a:ext cx="8896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Что такое алгорит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Свойства алгоритм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Форма записи алгоритм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5" action="ppaction://hlinksldjump"/>
              </a:rPr>
              <a:t>Базовые алгоритмические структур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-244440" y="682560"/>
            <a:ext cx="9139320" cy="987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533520" y="1752480"/>
            <a:ext cx="8229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ловек ежедневно встречается с необходимостью следовать тем или иным правилам, выполнять различные инструкции и указания. Например, переходя через дорогу на перекрестке без светофора надо сначала посмотреть направо. Если машин нет, то перейти полдороги, а если машины есть, ждать, пока они пройдут, затем перейти полдороги. После этого посмотреть налево и, если машин нет, то перейти дорогу до конца, а если машины есть, ждать, пока они пройдут, а затем перейти дорогу до конц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математике для решения типовых задач мы используем определенные правила, описывающие последовательности действий. Например, правила сложения дробных чисел, решения квадратных уравнений и т. д. Обычно любые инструкции и правила представляют собой последовательность действий, которые необходимо выполнить в определенном порядке. Для решения задачи надо знать, что дано, что следует получить и какие действия и в каком порядке следует для этого выполнить. Предписание, определяющее порядок выполнения действий над данными с целью получения искомых результатов, и есть алгорит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80880" y="91440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Cyr"/>
              </a:rPr>
              <a:t>Алгоpитм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 — заранее заданное понятное и точное предписание возможному исполнителю совершить определенную последовательность действий для получения решения задачи за конечное число шагов.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28600" y="2955960"/>
            <a:ext cx="86868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вание "алгоритм" произошло от латинской формы имени величайшего среднеазиатского математика Мухаммеда ибн Муса ал-Хорезми (Alhorithmi), жившего в 783—850 гг. В своей книге "Об индийском счете" он изложил правила записи натуральных чисел с помощью арабских цифр и правила действий над ними "столбиком", знакомые теперь каждому школьнику. В XII веке эта книга была переведена на латынь и получила широкое распространение в Европе. Понятие алгоритма является не только одним из главных понятий математики, но одним из главных понятий современной науки. Более того, с наступлением эры информатики алгоритмы становятся одним из важнейших факторов циви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5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-244440" y="987480"/>
            <a:ext cx="9139320" cy="77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2280" y="1828800"/>
            <a:ext cx="876312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свойства алгоритмов следующ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Times New Roman"/>
              </a:rPr>
              <a:t>1. Понят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ля исполнителя — исполнитель алгоритма должен понимать, как его выполнять. Иными словами, имея алгоритм и произвольный вариант исходных данных, исполнитель должен знать, как надо действовать для выполнения этого алгорит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Times New Roman"/>
              </a:rPr>
              <a:t>2. Дискpет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рерывность, раздельность) — алгоpитм должен пpедставлять пpоцесс pешения задачи как последовательное выполнение пpостых (или pанее опpеделенных) шагов (этапов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Times New Roman"/>
              </a:rPr>
              <a:t>3.Опpеделен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— каждое пpавило алгоpитма должно быть четким, однозначным и не оставлять места для пpоизвола. Благодаpя этому свойству выполнение алгоpитма носит механический хаpактеp и не тpебует никаких дополнительных указаний или сведений о pешаемой задач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79520" y="1668600"/>
            <a:ext cx="820728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Times New Roman"/>
              </a:rPr>
              <a:t>4. Pезультатив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или конечность) состоит в том, что за конечное число шагов алгоpитм либо должен пpиводить к pешению задачи, либо после конечного числа шагов останавливаться из-за невозможности получить решение с выдачей соответствующего сообщения, либо неограниченно продолжаться в течение времени, отведенного для исполнения алгоритма, с выдачей промежуточных результа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Times New Roman"/>
              </a:rPr>
              <a:t>5. Массов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значает, что алгоpитм pешения задачи pазpабатывается в общем виде, т.е. он должен быть пpименим для некотоpого класса задач, pазличающихся лишь исходными данными. Пpи этом исходные данные могут выбиpаться из некотоpой области, котоpая называется областью пpименимости алгоpит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:\HOME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43400" y="15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380880" y="205740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рактике наиболее распространены следующие формы представления алгоритм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de66"/>
                </a:solidFill>
                <a:latin typeface="Times New Roman"/>
              </a:rPr>
              <a:t>словесн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запись на естественном языке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de66"/>
                </a:solidFill>
                <a:latin typeface="Times New Roman"/>
              </a:rPr>
              <a:t>графическ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изображения из графических символов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de66"/>
                </a:solidFill>
                <a:latin typeface="Times New Roman"/>
              </a:rPr>
              <a:t>псевдокод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луформализованные описания алгоритмов на условном алгоритмическом языке, включающие в себя как элементы языка программирования, так и фразы естественного языка, общепринятые математические обозначения и др.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de66"/>
                </a:solidFill>
                <a:latin typeface="Times New Roman"/>
              </a:rPr>
              <a:t>программ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тексты на языках программирования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2840" y="1047600"/>
            <a:ext cx="9107640" cy="658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4572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Cyr"/>
              </a:rPr>
              <a:t>Словесный способ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 записи алгоритмов представляет собой описание последовательных этапов обработки данных. Алгоритм задается в произвольном изложении на естественном язы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228600" y="3962520"/>
            <a:ext cx="8763120" cy="22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есный способ не имеет широкого распространения, так как такие описа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го не формализуемы;  страдают многословностью записе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ускают неоднозначность толкования отдельных предпис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6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457200" y="990720"/>
            <a:ext cx="822960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. Записать алгоритм нахожд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ьшего общего дел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ОД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ух натуральных чисел (алгоритм Эвклид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горитм может быть следующим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ть два числ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а равны, то взять любое из них в качестве ответа и остановиться, в противном случае продолжить выполнение алгорит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большее из чисел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нить большее из чисел разностью большего и меньшего из чисел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ить алгоритм с шага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ный алгоритм применим к любым натуральным числам и должен приводить к решению поставленной задач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3">
            <a:hlinkClick r:id="" action="ppaction://hlinkshowjump?jump=nextslide"/>
          </p:cNvPr>
          <p:cNvSpPr/>
          <p:nvPr/>
        </p:nvSpPr>
        <p:spPr>
          <a:xfrm>
            <a:off x="5867280" y="228600"/>
            <a:ext cx="2667240" cy="304920"/>
          </a:xfrm>
          <a:custGeom>
            <a:avLst/>
            <a:gdLst>
              <a:gd name="textAreaLeft" fmla="*/ 19440 w 2667240"/>
              <a:gd name="textAreaRight" fmla="*/ 2647800 w 2667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45" h="21600">
                <a:moveTo>
                  <a:pt x="0" y="0"/>
                </a:moveTo>
                <a:lnTo>
                  <a:pt x="188745" y="0"/>
                </a:lnTo>
                <a:lnTo>
                  <a:pt x="188745" y="21600"/>
                </a:lnTo>
                <a:lnTo>
                  <a:pt x="0" y="21600"/>
                </a:lnTo>
                <a:close/>
              </a:path>
              <a:path fill="lightenLess" w="188745" h="21600">
                <a:moveTo>
                  <a:pt x="0" y="0"/>
                </a:moveTo>
                <a:lnTo>
                  <a:pt x="188745" y="0"/>
                </a:lnTo>
                <a:lnTo>
                  <a:pt x="187345" y="1400"/>
                </a:lnTo>
                <a:lnTo>
                  <a:pt x="1400" y="1400"/>
                </a:lnTo>
                <a:close/>
              </a:path>
              <a:path fill="darken" w="188745" h="21600">
                <a:moveTo>
                  <a:pt x="188745" y="0"/>
                </a:moveTo>
                <a:lnTo>
                  <a:pt x="188745" y="21600"/>
                </a:lnTo>
                <a:lnTo>
                  <a:pt x="187345" y="20200"/>
                </a:lnTo>
                <a:lnTo>
                  <a:pt x="187345" y="1400"/>
                </a:lnTo>
                <a:close/>
              </a:path>
              <a:path fill="darkenLess" w="188745" h="21600">
                <a:moveTo>
                  <a:pt x="188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45" y="20200"/>
                </a:lnTo>
                <a:close/>
              </a:path>
              <a:path fill="lighten" w="188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8745" h="21600">
                <a:moveTo>
                  <a:pt x="87366" y="3794"/>
                </a:moveTo>
                <a:lnTo>
                  <a:pt x="101379" y="10800"/>
                </a:lnTo>
                <a:lnTo>
                  <a:pt x="873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>
            <a:hlinkClick r:id="" action="ppaction://hlinkshowjump?jump=previousslide"/>
          </p:cNvPr>
          <p:cNvSpPr/>
          <p:nvPr/>
        </p:nvSpPr>
        <p:spPr>
          <a:xfrm>
            <a:off x="228600" y="152280"/>
            <a:ext cx="3048120" cy="38124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55" h="21600">
                <a:moveTo>
                  <a:pt x="0" y="0"/>
                </a:moveTo>
                <a:lnTo>
                  <a:pt x="172555" y="0"/>
                </a:lnTo>
                <a:lnTo>
                  <a:pt x="172555" y="21600"/>
                </a:lnTo>
                <a:lnTo>
                  <a:pt x="0" y="21600"/>
                </a:lnTo>
                <a:close/>
              </a:path>
              <a:path fill="lightenLess" w="172555" h="21600">
                <a:moveTo>
                  <a:pt x="0" y="0"/>
                </a:moveTo>
                <a:lnTo>
                  <a:pt x="172555" y="0"/>
                </a:lnTo>
                <a:lnTo>
                  <a:pt x="171155" y="1400"/>
                </a:lnTo>
                <a:lnTo>
                  <a:pt x="1400" y="1400"/>
                </a:lnTo>
                <a:close/>
              </a:path>
              <a:path fill="darken" w="172555" h="21600">
                <a:moveTo>
                  <a:pt x="172555" y="0"/>
                </a:moveTo>
                <a:lnTo>
                  <a:pt x="172555" y="21600"/>
                </a:lnTo>
                <a:lnTo>
                  <a:pt x="171155" y="20200"/>
                </a:lnTo>
                <a:lnTo>
                  <a:pt x="171155" y="1400"/>
                </a:lnTo>
                <a:close/>
              </a:path>
              <a:path fill="darkenLess" w="172555" h="21600">
                <a:moveTo>
                  <a:pt x="172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55" y="20200"/>
                </a:lnTo>
                <a:close/>
              </a:path>
              <a:path fill="lighten" w="172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55" h="21600">
                <a:moveTo>
                  <a:pt x="79271" y="10800"/>
                </a:moveTo>
                <a:lnTo>
                  <a:pt x="93284" y="3794"/>
                </a:lnTo>
                <a:lnTo>
                  <a:pt x="932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01:45Z</dcterms:created>
  <dc:creator>Olga</dc:creator>
  <dc:description/>
  <dc:language>en-US</dc:language>
  <cp:lastModifiedBy>школа</cp:lastModifiedBy>
  <dcterms:modified xsi:type="dcterms:W3CDTF">2015-03-12T08:37:37Z</dcterms:modified>
  <cp:revision>24</cp:revision>
  <dc:subject/>
  <dc:title>Алгоритмы.</dc:title>
</cp:coreProperties>
</file>