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534-3FCE-434B-A7AF-E8BDA211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3A9-248D-4ED4-B5B8-98BC7775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10E-2168-467E-B68E-83659718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ED9-761A-4205-ADBA-D6942D13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3AD-14CF-40EB-BE6C-D9CC9EA2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40A-8B79-4FC7-ABA3-7580CDDE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B02-2ECC-48D1-A4F7-D7378FCC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9D4-ED09-4203-BDEC-01E5B9FB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5183-7B65-4252-8AF8-0A2E4B34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7E8-7E2E-4A7C-93C0-34628165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E7DB-E11D-40D7-A2D9-9A679AE3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9E6C-5702-488E-9A95-32EB6459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BE9E-C05E-4C50-AF4D-1B282F8D81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1219320" y="55440"/>
            <a:ext cx="10021680" cy="331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389320" y="400032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готовил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ницы 11 «Б»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БОУ СОШ №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кина Светла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шинина Дар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ный руководитель – Романова Ольга Геннадьев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b9bd5"/>
                </a:solidFill>
                <a:latin typeface="Calibri Light"/>
              </a:rPr>
              <a:t>Вениамин Александрович Сидоров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rcRect l="14984" t="0" r="0" b="0"/>
          <a:stretch/>
        </p:blipFill>
        <p:spPr>
          <a:xfrm>
            <a:off x="4043520" y="1647720"/>
            <a:ext cx="3797280" cy="3375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3721680" y="588492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ва направо: Л.М. Барков, В.А. Сидоров. 199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0600" y="182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b9bd5"/>
                </a:solidFill>
                <a:latin typeface="Calibri Light"/>
              </a:rPr>
              <a:t>Исследова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14360" y="1460520"/>
          <a:ext cx="4646520" cy="3774960"/>
        </p:xfrm>
        <a:graphic>
          <a:graphicData uri="http://schemas.openxmlformats.org/drawingml/2006/table">
            <a:tbl>
              <a:tblPr/>
              <a:tblGrid>
                <a:gridCol w="960480"/>
                <a:gridCol w="1807920"/>
                <a:gridCol w="1878120"/>
              </a:tblGrid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«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«Б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766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лыш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919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лышали, но не помнят род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6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 зн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-1962000" y="-515880"/>
            <a:ext cx="1219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51600" y="3075120"/>
          <a:ext cx="4405320" cy="2693880"/>
        </p:xfrm>
        <a:graphic>
          <a:graphicData uri="http://schemas.openxmlformats.org/drawingml/2006/table">
            <a:tbl>
              <a:tblPr/>
              <a:tblGrid>
                <a:gridCol w="2203560"/>
                <a:gridCol w="2201760"/>
              </a:tblGrid>
              <a:tr h="576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3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лыш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человек – 6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58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лышали, но не помнят род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человек – 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8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 зн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человек – 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328840" y="331920"/>
          <a:ext cx="6170760" cy="2192040"/>
        </p:xfrm>
        <a:graphic>
          <a:graphicData uri="http://schemas.openxmlformats.org/drawingml/2006/table">
            <a:tbl>
              <a:tblPr/>
              <a:tblGrid>
                <a:gridCol w="3086280"/>
                <a:gridCol w="3084480"/>
              </a:tblGrid>
              <a:tr h="468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хож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лыш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человека – 4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8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лышали, но не помнят род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человек – 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 зн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человек – 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pic>
        <p:nvPicPr>
          <p:cNvPr id="76" name="Прямоугольник 6" descr=""/>
          <p:cNvPicPr/>
          <p:nvPr/>
        </p:nvPicPr>
        <p:blipFill>
          <a:blip r:embed="rId1"/>
          <a:stretch/>
        </p:blipFill>
        <p:spPr>
          <a:xfrm>
            <a:off x="433440" y="3713040"/>
            <a:ext cx="11447280" cy="2419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b9bd5"/>
                </a:solidFill>
                <a:latin typeface="Calibri Light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Объект 2" descr=""/>
          <p:cNvPicPr/>
          <p:nvPr/>
        </p:nvPicPr>
        <p:blipFill>
          <a:blip r:embed="rId1"/>
          <a:stretch/>
        </p:blipFill>
        <p:spPr>
          <a:xfrm>
            <a:off x="731880" y="1957320"/>
            <a:ext cx="10831320" cy="4456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b9bd5"/>
                </a:solidFill>
                <a:latin typeface="Calibri Light"/>
              </a:rPr>
              <a:t>Постановка цели и задач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ознакомление с вкладом ученых Владимирского края в физи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знакомление с биографией Владимирских физиков и их вкладом в развитие физи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ление процента учащихся, знающий о заслугах Владимирских физ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87440" y="212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b9bd5"/>
                </a:solidFill>
                <a:latin typeface="Calibri Light"/>
              </a:rPr>
              <a:t>Александр Григорьевич Столет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rcRect l="0" t="0" r="0" b="14421"/>
          <a:stretch/>
        </p:blipFill>
        <p:spPr>
          <a:xfrm>
            <a:off x="4083120" y="1711440"/>
            <a:ext cx="3554280" cy="4535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316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b9bd5"/>
                </a:solidFill>
                <a:latin typeface="Calibri Light"/>
              </a:rPr>
              <a:t>Николай Егорович Жуковский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Объект 3" descr=""/>
          <p:cNvPicPr/>
          <p:nvPr/>
        </p:nvPicPr>
        <p:blipFill>
          <a:blip r:embed="rId1"/>
          <a:srcRect l="5203" t="3410" r="6729" b="3492"/>
          <a:stretch/>
        </p:blipFill>
        <p:spPr>
          <a:xfrm>
            <a:off x="6813720" y="2189160"/>
            <a:ext cx="1935000" cy="25495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5338800" y="5297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Николаю Егоровичу Жуковскому — «отцу российской авиаци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"/>
          <p:cNvPicPr/>
          <p:nvPr/>
        </p:nvPicPr>
        <p:blipFill>
          <a:blip r:embed="rId2"/>
          <a:stretch/>
        </p:blipFill>
        <p:spPr>
          <a:xfrm>
            <a:off x="1957320" y="1852560"/>
            <a:ext cx="2871720" cy="3543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-540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b9bd5"/>
                </a:solidFill>
                <a:latin typeface="Calibri Light"/>
              </a:rPr>
              <a:t>Борис Борисович Голицын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2112840" y="2127240"/>
            <a:ext cx="2600280" cy="24447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766800" y="4824360"/>
            <a:ext cx="51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юст Б.Б. Голицына перед зданием сейсмостан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5" descr=""/>
          <p:cNvPicPr/>
          <p:nvPr/>
        </p:nvPicPr>
        <p:blipFill>
          <a:blip r:embed="rId2"/>
          <a:stretch/>
        </p:blipFill>
        <p:spPr>
          <a:xfrm>
            <a:off x="7426440" y="2030400"/>
            <a:ext cx="2813040" cy="3073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b9bd5"/>
                </a:solidFill>
                <a:latin typeface="Calibri Light"/>
              </a:rPr>
              <a:t>Николай Михайлович Беляев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2398680" y="2011320"/>
            <a:ext cx="2328840" cy="29336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"/>
          <p:cNvPicPr/>
          <p:nvPr/>
        </p:nvPicPr>
        <p:blipFill>
          <a:blip r:embed="rId2"/>
          <a:stretch/>
        </p:blipFill>
        <p:spPr>
          <a:xfrm>
            <a:off x="6877080" y="2254320"/>
            <a:ext cx="1906560" cy="2697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b9bd5"/>
                </a:solidFill>
                <a:latin typeface="Calibri Light"/>
              </a:rPr>
              <a:t>Владимир Кузьмич Зворыкин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1558800" y="2268360"/>
            <a:ext cx="2098800" cy="278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253120" y="2287440"/>
          <a:ext cx="6105600" cy="3511800"/>
        </p:xfrm>
        <a:graphic>
          <a:graphicData uri="http://schemas.openxmlformats.org/drawingml/2006/table">
            <a:tbl>
              <a:tblPr/>
              <a:tblGrid>
                <a:gridCol w="3052800"/>
                <a:gridCol w="3052800"/>
              </a:tblGrid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бы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2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ил в Санкт-Петербургский технологический инстит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2-19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должал образование в Париже в Коллеж де Франс под руководством Поля Ланжев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ал кинеско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0-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ил цветное телевидени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b9bd5"/>
                </a:solidFill>
                <a:latin typeface="Calibri Light"/>
              </a:rPr>
              <a:t>Анатолий Аркадьевич</a:t>
            </a:r>
            <a:r>
              <a:rPr b="0" lang="en-US" sz="4400" spc="-1" strike="noStrike">
                <a:solidFill>
                  <a:srgbClr val="5b9bd5"/>
                </a:solidFill>
                <a:latin typeface="Calibri Light"/>
              </a:rPr>
              <a:t> </a:t>
            </a:r>
            <a:r>
              <a:rPr b="0" lang="ru-RU" sz="4400" spc="-1" strike="noStrike">
                <a:solidFill>
                  <a:srgbClr val="5b9bd5"/>
                </a:solidFill>
                <a:latin typeface="Calibri Light"/>
              </a:rPr>
              <a:t>Благонравов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Рисунок 4" descr=""/>
          <p:cNvPicPr/>
          <p:nvPr/>
        </p:nvPicPr>
        <p:blipFill>
          <a:blip r:embed="rId1"/>
          <a:stretch/>
        </p:blipFill>
        <p:spPr>
          <a:xfrm>
            <a:off x="4289400" y="1906560"/>
            <a:ext cx="3116160" cy="4365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85760" y="1717200"/>
            <a:ext cx="1595520" cy="870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b9bd5"/>
                </a:solidFill>
                <a:latin typeface="Calibri Light"/>
              </a:rPr>
              <a:t>Михаил Клавдиевич Тихонравов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1714680" y="1990800"/>
            <a:ext cx="2097000" cy="30319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5707080" y="1865160"/>
            <a:ext cx="500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честь него названы и носят его им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лица Тихонравова в городе Юбилей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лица Тихонравова в городе Владими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0-й ЦНИИ военно-космических сил им. М.К. Тихонравова в городе Юбилей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6"/>
          <p:cNvSpPr/>
          <p:nvPr/>
        </p:nvSpPr>
        <p:spPr>
          <a:xfrm>
            <a:off x="4809960" y="3925800"/>
            <a:ext cx="615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грады и титул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даль «Серп и Молот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а Ордена Лен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а ордена Красного Знаме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ден Отечественной войны 2-й степе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да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нинская прем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лен-корреспондент Международной академии астронавтики (1968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16:59:33Z</dcterms:created>
  <dc:creator>S@lnce</dc:creator>
  <dc:description/>
  <dc:language>en-US</dc:language>
  <cp:lastModifiedBy>Ольга</cp:lastModifiedBy>
  <dcterms:modified xsi:type="dcterms:W3CDTF">2015-03-12T17:04:43Z</dcterms:modified>
  <cp:revision>21</cp:revision>
  <dc:subject/>
  <dc:title>Презентация  на тему «Физики владимирского края».</dc:title>
</cp:coreProperties>
</file>