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13.png" ContentType="image/png"/>
  <Override PartName="/ppt/media/image9.wmf" ContentType="image/x-wmf"/>
  <Override PartName="/ppt/media/image14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png" ContentType="image/png"/>
  <Override PartName="/ppt/media/chimes.wav" ContentType="audio/x-wav"/>
  <Override PartName="/ppt/media/image1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B61-E4B7-453B-ACED-108970D6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3A5-AE92-4766-8FF8-0DEA2E9A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251-33B8-426D-8350-5FFBC5D3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FD1-72F6-49B3-9754-F7A8D86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76D1-C755-4CE6-89E6-F4350ED5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6E9-2E0D-4939-91F6-993E620F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C1A-9E5B-48EC-8EBD-27011C59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E67-272C-4F49-8B34-880E9FC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8B7C-4397-4FB9-BCBA-EF400116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F1E-F72A-428C-9011-C05A074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EB8B-E86C-4D46-9435-226D7E7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030-A6E8-44B9-9045-A278382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5F5-38AB-4D30-BF97-A6FF841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0020-BB43-4291-A017-1FB5B5D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B47-567A-4534-A171-11A2C84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FF2C-6004-42D7-A831-632D4DC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479D-1B85-4711-9D12-8391DD8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A88-1226-46D9-BD8B-87CC5A5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792-089B-4C9D-BDCE-D4358967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BEF-1133-487F-81EE-62E41A30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F60-F3A4-4FB9-9438-F8ABEFB4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F25-A12B-43B9-86EC-11CA81C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4E3-7EC3-4FB3-9599-2B27C0E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559-20AA-4A4E-8C47-F062B68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E3B-E997-4F57-87C4-B70D829FC9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0D6-503D-4792-87B1-DCA5D66041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6600"/>
                </a:solidFill>
                <a:latin typeface="Monotype Corsiva"/>
              </a:rPr>
              <a:t>Добро пожаловать на урок истории!!!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31320" y="22860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2c43"/>
                </a:solidFill>
                <a:latin typeface="Times New Roman"/>
              </a:rPr>
              <a:t>Стоглавый собор. Реформа мест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1233360" cy="1447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148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77120" y="990720"/>
            <a:ext cx="2381040" cy="2638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95280" y="990720"/>
            <a:ext cx="510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рковный собор 1551 г. принял</a:t>
            </a: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 Стогла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борник решений собора в виде ста глав – статей из ответов на вопросы царя Ивана 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о церковном «строени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9160" y="2286000"/>
            <a:ext cx="45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1556 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– проведена </a:t>
            </a: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реформа местного 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048120"/>
            <a:ext cx="990720" cy="914400"/>
          </a:xfrm>
          <a:prstGeom prst="ellipse">
            <a:avLst/>
          </a:prstGeom>
          <a:noFill/>
          <a:ln cap="sq" w="28440">
            <a:solidFill>
              <a:srgbClr val="ea2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3048120"/>
            <a:ext cx="990720" cy="914400"/>
          </a:xfrm>
          <a:prstGeom prst="ellipse">
            <a:avLst/>
          </a:prstGeom>
          <a:noFill/>
          <a:ln cap="sq" w="28440">
            <a:solidFill>
              <a:srgbClr val="ea2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048120"/>
            <a:ext cx="990360" cy="914400"/>
          </a:xfrm>
          <a:prstGeom prst="ellipse">
            <a:avLst/>
          </a:prstGeom>
          <a:noFill/>
          <a:ln cap="sq" w="28440">
            <a:solidFill>
              <a:srgbClr val="ea2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2680" y="3200400"/>
            <a:ext cx="8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уб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о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20040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мск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ро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98800" y="3200400"/>
            <a:ext cx="111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казч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5080" y="2666880"/>
            <a:ext cx="24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Times New Roman"/>
              </a:rPr>
              <a:t>Местное само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3962520"/>
            <a:ext cx="10666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3962520"/>
            <a:ext cx="11430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81600" y="4495680"/>
            <a:ext cx="4799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Times New Roman"/>
              </a:rPr>
              <a:t>Выборные органы имели большие прав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ершили су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ледили за соблюдением законов и поряд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Осуществляли сбор денежных на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76520" y="5715000"/>
            <a:ext cx="457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59436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чему Собор назвали Стоглавы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акие преобразования были произведены в местном управле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3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500"/>
                            </p:stCondLst>
                            <p:childTnLst>
                              <p:par>
                                <p:cTn id="139" nodeType="afterEffect" fill="hold" presetClass="entr" presetID="19" presetSubtype="10">
                                  <p:stCondLst>
                                    <p:cond delay="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657960" y="304920"/>
            <a:ext cx="33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2c43"/>
                </a:solidFill>
                <a:latin typeface="Times New Roman"/>
              </a:rPr>
              <a:t>Военная реформа 1550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8148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381040" cy="2638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81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2361960" cy="171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3814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1457280" cy="1562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91440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ысшие военные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значались люди, проявившие военный талант независимо от знатности ро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60020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Избранная тыся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ядро поместного ополчения, непосредственно  подчиненное цар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144792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1981080"/>
            <a:ext cx="457200" cy="228600"/>
          </a:xfrm>
          <a:custGeom>
            <a:avLst/>
            <a:gdLst>
              <a:gd name="textAreaLeft" fmla="*/ 188280 w 457200"/>
              <a:gd name="textAreaRight" fmla="*/ 268920 w 4572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2209680"/>
            <a:ext cx="746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трелецкие пол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мог войти любой свободный человек. Стрель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олучали из казны денежное жалованье, ручное огнестрельное оружие и обмунд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2743200"/>
            <a:ext cx="381240" cy="228600"/>
          </a:xfrm>
          <a:custGeom>
            <a:avLst/>
            <a:gdLst>
              <a:gd name="textAreaLeft" fmla="*/ 156960 w 381240"/>
              <a:gd name="textAreaRight" fmla="*/ 224280 w 3812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971800"/>
            <a:ext cx="533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«Уложение о службе» 1556 г.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определяло точные нормы обязательной службы в царском войске для всех землевладельцев. Уравнение прав вотчинников и помещиков (дворя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3886200"/>
            <a:ext cx="1295280" cy="1295280"/>
          </a:xfrm>
          <a:prstGeom prst="ellipse">
            <a:avLst/>
          </a:pr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3240" y="4191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Соста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вой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8080" y="38862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артиллерис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5360" y="44197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Городская страж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8360" y="495288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каза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43520" y="5334120"/>
            <a:ext cx="236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спомогательная служ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(саперы,обоз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152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4648320"/>
            <a:ext cx="38088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72000" y="4952520"/>
            <a:ext cx="30492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34120" y="5181120"/>
            <a:ext cx="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4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4861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61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1628640" cy="2743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30492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Monotype Corsiva"/>
              </a:rPr>
              <a:t>Ответьте на вопросы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ие причины вызвали необходимость реформ в стран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кова цель реформ Избранной рады и цар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реформы проводимые в первые годы правления Ива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цените  роль Избранной рады в правлении ца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362320" y="4572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Выводы по т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1219320"/>
            <a:ext cx="611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формы Ив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Избранной рады являлись необходимостью времени и были направлены на совершенствование системы централизованного управления стра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тели стремились достичь согласия между интересами государства и интересами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наличие Земского собора, Боярской Думы и Избранной Рады ограничивали власть царя, стремившегося к самостоятельному правл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1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370560" y="2666880"/>
            <a:ext cx="1811520" cy="350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6858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2120" y="781200"/>
            <a:ext cx="8779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еформы Избранной ра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ван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Гроз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657600"/>
            <a:ext cx="358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ок по исто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7920" y="190440"/>
            <a:ext cx="952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ть представление о первых реформа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веденных Ивано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его сподвижник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ценить роль Избранной рады в этот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ятельности ца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7840" y="2743200"/>
            <a:ext cx="6372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ство Иван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ярское правл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нежная рефор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чало самостоятельного 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енчание на цар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  Реформы Иван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14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286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. Детство Ивана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.  Боярское правление. Денежная ре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5146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84560" y="2700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9907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53 г. – смерть Ива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487520" cy="1904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248520" y="1143000"/>
            <a:ext cx="6858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670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2260800" cy="2895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14600" y="1981080"/>
            <a:ext cx="2895480" cy="580680"/>
          </a:xfrm>
          <a:prstGeom prst="rect">
            <a:avLst/>
          </a:prstGeom>
          <a:noFill/>
          <a:ln cap="sq" w="76320">
            <a:solidFill>
              <a:srgbClr val="ed2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екунский совет из боя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 3-х летним Иван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720" y="3124080"/>
            <a:ext cx="1230840" cy="398880"/>
          </a:xfrm>
          <a:prstGeom prst="rect">
            <a:avLst/>
          </a:prstGeom>
          <a:noFill/>
          <a:ln cap="sq" w="57240">
            <a:solidFill>
              <a:srgbClr val="ed2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ь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25520" y="4495680"/>
            <a:ext cx="1249200" cy="398880"/>
          </a:xfrm>
          <a:prstGeom prst="rect">
            <a:avLst/>
          </a:prstGeom>
          <a:noFill/>
          <a:ln cap="sq" w="57240">
            <a:solidFill>
              <a:srgbClr val="ed2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уй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48840" y="3124080"/>
            <a:ext cx="1488240" cy="398880"/>
          </a:xfrm>
          <a:prstGeom prst="rect">
            <a:avLst/>
          </a:prstGeom>
          <a:noFill/>
          <a:ln cap="sq" w="57240">
            <a:solidFill>
              <a:srgbClr val="ed2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ронцов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5800" y="4572000"/>
            <a:ext cx="1211040" cy="398880"/>
          </a:xfrm>
          <a:prstGeom prst="rect">
            <a:avLst/>
          </a:prstGeom>
          <a:noFill/>
          <a:ln cap="sq" w="57240">
            <a:solidFill>
              <a:srgbClr val="ed2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ин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2438280"/>
            <a:ext cx="53352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276720"/>
            <a:ext cx="759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480" y="3352680"/>
            <a:ext cx="1526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724280"/>
            <a:ext cx="2286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480" y="4800600"/>
            <a:ext cx="1526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19320" y="2286000"/>
            <a:ext cx="12189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286000"/>
            <a:ext cx="0" cy="24382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724280"/>
            <a:ext cx="759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286000"/>
            <a:ext cx="1295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286000"/>
            <a:ext cx="0" cy="25146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29040" y="4800600"/>
            <a:ext cx="152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2438280"/>
            <a:ext cx="45720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315200" y="2895480"/>
            <a:ext cx="1374840" cy="19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5054760"/>
            <a:ext cx="228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дова Васил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Елена Глинская, тяготившаяся боярской опекой, взяла управление государством в свои ру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001000" y="4876560"/>
            <a:ext cx="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7680" y="5943600"/>
            <a:ext cx="36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294e"/>
                </a:solidFill>
                <a:latin typeface="Times New Roman"/>
              </a:rPr>
              <a:t>1538 – 1547 гг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«Боярское правле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9680" y="228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нежная реформа Елены Глин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32200" cy="162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1143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d294e"/>
                </a:solidFill>
                <a:latin typeface="Times New Roman"/>
              </a:rPr>
              <a:t>Московский руб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единая для всей страны денежная еди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d294e"/>
                </a:solidFill>
                <a:latin typeface="Times New Roman"/>
              </a:rPr>
              <a:t>Копей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нета, равная одной сотой рубля, с изображением всадника с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опь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438280"/>
            <a:ext cx="549252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нежная система приобрела следующий вид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убль = 100 копейк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лтина = 50 копейк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луполтина = 25 копейк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ривна = 10 копейка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лтын = 3 копей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4800600"/>
            <a:ext cx="534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2c43"/>
                </a:solidFill>
                <a:latin typeface="Times New Roman"/>
              </a:rPr>
              <a:t>1534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– в Москве основан первый в России казенный </a:t>
            </a:r>
            <a:r>
              <a:rPr b="1" lang="ru-RU" sz="1800" spc="-1" strike="noStrike">
                <a:solidFill>
                  <a:srgbClr val="ea2c43"/>
                </a:solidFill>
                <a:latin typeface="Monotype Corsiva"/>
              </a:rPr>
              <a:t>Монетный двор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, где изготавливались монеты для всей стра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диными для всей страны стали единицы длины и ве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590920" cy="189396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4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808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1811160" cy="350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457200"/>
            <a:ext cx="5410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ван был одаренным ребенком. Он рано пристрастился к чтению. Мальчика особенно интересовали описания жизни великих царей прошлого и рассуждения о божественном происхождении царской власти. В юные годы Иван не получил систематического образования, зато в зрелом возрасте он поражал знавших его людей своими обширными познаниями. Более того, он занялся литературным трудом и оказался талантливым и весьма плодовитым писателем. Царь был хорошим оратором. Любил ссылаться в своих речах на произведения древних авторов и примеры из римской истории. У него была одна из крупнейших в Европе библиотек. В ней хранились редчайшие древние и византийские сочинения. Иван увлекался сочинительством церковной музыки, хорошо играл в шахматы. И все это сочеталось в нем с беспощадной жестокостью, болезненной подозрительностью и мститель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257800"/>
            <a:ext cx="1067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181480"/>
            <a:ext cx="4496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ea2c4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2c43"/>
                </a:solidFill>
                <a:latin typeface="Monotype Corsiva"/>
              </a:rPr>
              <a:t>Какие черты в характере Ивана </a:t>
            </a:r>
            <a:r>
              <a:rPr b="0" lang="en-US" sz="1800" spc="-1" strike="noStrike">
                <a:solidFill>
                  <a:srgbClr val="ea2c43"/>
                </a:solidFill>
                <a:latin typeface="Monotype Corsiva"/>
              </a:rPr>
              <a:t>IV</a:t>
            </a:r>
            <a:r>
              <a:rPr b="0" lang="ru-RU" sz="1800" spc="-1" strike="noStrike">
                <a:solidFill>
                  <a:srgbClr val="ea2c43"/>
                </a:solidFill>
                <a:latin typeface="Monotype Corsiva"/>
              </a:rPr>
              <a:t>  могли сформироваться в детств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a2c4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2c43"/>
                </a:solidFill>
                <a:latin typeface="Monotype Corsiva"/>
              </a:rPr>
              <a:t>Как , по-вашему, они повлияют в дальнейшем на его полити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9" presetSubtype="10">
                                  <p:stCondLst>
                                    <p:cond delay="1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2. Начало самостоятельного правления. Венчание на цар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814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2438280" cy="1716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574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34320" y="2057400"/>
            <a:ext cx="1904760" cy="181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762120"/>
            <a:ext cx="336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2c43"/>
                </a:solidFill>
                <a:latin typeface="Monotype Corsiva"/>
              </a:rPr>
              <a:t>16 января 1547 г.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 – торжественное венчание в московском Успенском соборе 16-тилетнего Ивана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 на цар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362320"/>
            <a:ext cx="420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2c43"/>
                </a:solidFill>
                <a:latin typeface="Monotype Corsiva"/>
              </a:rPr>
              <a:t>Шапку Мономах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возложил на голову царя сам митрополит </a:t>
            </a:r>
            <a:r>
              <a:rPr b="0" lang="ru-RU" sz="1800" spc="-1" strike="noStrike">
                <a:solidFill>
                  <a:srgbClr val="ea2c43"/>
                </a:solidFill>
                <a:latin typeface="Monotype Corsiva"/>
              </a:rPr>
              <a:t>Макари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, подчеркивая тем самым особое положение церкви в государ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первые в истории Руси Иван Васильевич стал именоваться </a:t>
            </a:r>
            <a:r>
              <a:rPr b="0" lang="ru-RU" sz="1600" spc="-1" strike="noStrike">
                <a:solidFill>
                  <a:srgbClr val="ea2c43"/>
                </a:solidFill>
                <a:latin typeface="Monotype Corsiva"/>
              </a:rPr>
              <a:t>«Царь и великий князь всея Руси!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800" y="3809880"/>
            <a:ext cx="81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2c43"/>
                </a:solidFill>
                <a:latin typeface="Monotype Corsiva"/>
              </a:rPr>
              <a:t>Царь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– от латинского названия римских и византийских императоров цезар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00200" y="4952880"/>
            <a:ext cx="457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076640"/>
            <a:ext cx="66294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Борьба между боярскими родами привела к злоупотреблениям, беззаконию и взяточниче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Резко ухудшилось положение широких слоев насе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Грандиозный московский пожар, уничтоживший почти весь гор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Летом 1547 г. в Москве, а затем и в других городах вспыхнули народные восст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Страна нуждалась в преобразованиях, направленных на ликвидацию последствий боярского правления и укрепляющих центральную вла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Период боярского правления закончил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Царь Иван Васильевич стал самодержавным государ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430a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600200" y="533520"/>
            <a:ext cx="131436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914400"/>
            <a:ext cx="5029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де и когда происходило венчание на царство  Ивана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кой у него был титу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кие знаки царской власти он получил при венча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то давало России принятие царского титула Ивано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086600" y="3886200"/>
            <a:ext cx="190332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2400" y="30492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Реформы Иван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2133720" cy="1560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3440" y="6858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2c43"/>
                </a:solidFill>
                <a:latin typeface="Times New Roman"/>
              </a:rPr>
              <a:t>Укрепление центральной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1143000"/>
            <a:ext cx="48765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2430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30a6"/>
                </a:solidFill>
                <a:latin typeface="Times New Roman"/>
              </a:rPr>
              <a:t>Избранная ра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– совет приближе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озглавил – дворянин А.Ф. Адаше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священник Сильвес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оддерживал – глава церкви митрополит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Макар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74320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Monotype Corsiva"/>
              </a:rPr>
              <a:t>Цель реформ Царя и Избранной рады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– сформировать централизованное государство, т.е..способствовать окончательному собиранию и объединению всех земель вокруг сильной центральной вла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58000" y="3429000"/>
            <a:ext cx="2057400" cy="1522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71600" y="3505320"/>
            <a:ext cx="533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Земский собор 1549 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обрание представителей боярства, духовенства, служилых людей всех русских земел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447920" y="4952880"/>
            <a:ext cx="1509480" cy="1679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73760" y="419112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3. Судебник – 1550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" y="4586400"/>
            <a:ext cx="54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30a6"/>
                </a:solidFill>
                <a:latin typeface="Times New Roman"/>
              </a:rPr>
              <a:t>4. Приказ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овые центральные органы 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4100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24080" y="541008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5334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акие преобразования были предприняты Иваном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для укрепления центральной власт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Что такое централизованное государство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4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1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7:17:19Z</dcterms:created>
  <dc:creator>X</dc:creator>
  <dc:description/>
  <dc:language>en-US</dc:language>
  <cp:lastModifiedBy>Директор</cp:lastModifiedBy>
  <dcterms:modified xsi:type="dcterms:W3CDTF">2015-03-12T17:39:39Z</dcterms:modified>
  <cp:revision>27</cp:revision>
  <dc:subject/>
  <dc:title>Добро пожаловать на урок истории!!!</dc:title>
</cp:coreProperties>
</file>