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32C-8F5F-49D9-939D-2B689110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2680-B265-422B-A34D-5F3DDDF5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C36D-9EAA-4B34-9D62-E2B4832B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1101-A971-4A04-9669-DC761710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478-C6F6-4032-80BD-E6E5759C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629-EFA5-49A6-983A-6B3C732C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242E-F822-4857-8F86-3E0B73E8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E630-C935-444D-9DD1-B3E2E6BD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9BD3-B82A-42C7-9A11-A2E787FE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A8A-1E5D-42FA-95AE-1D8C70C5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E26-374F-4107-9AF0-78CA9768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A478-EE37-40C7-B25E-578F1682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690D-18F6-49F5-93DF-144282BF02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Ромашки картинки. Ромашки обо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Arial"/>
              </a:rPr>
              <a:t>Лет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52280" y="5562720"/>
            <a:ext cx="541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готовила ученица 7-д ГБОУ Школа №424 г. Москвы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лопенкова Кс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ель: Афиногенова О.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ю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266720" y="12949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юнь шальной проказник,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вчонок солнцем дразнит,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вился к нам на праздник-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юбитель безобразить!!!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снушки "рыжикам" раздал,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паться нас отправил,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се тучки с неба он собрал,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солнце греть оставил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греет солнышко с утра,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но и не устало,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му лишь подставляй бока,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ли загара мало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ра такая наступила,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пайся в волейбол играй,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года всех нас разбудила,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о зиме не вспомина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6" descr="i?id=d124ddc586c4753957b2a0889f42b5a6-70-144&amp;n=21"/>
          <p:cNvPicPr/>
          <p:nvPr/>
        </p:nvPicPr>
        <p:blipFill>
          <a:blip r:embed="rId1"/>
          <a:stretch/>
        </p:blipFill>
        <p:spPr>
          <a:xfrm>
            <a:off x="380880" y="4800600"/>
            <a:ext cx="3200400" cy="1752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i?id=197de80056d673c57c2d5c1fcaaa23e1-86-144&amp;n=21"/>
          <p:cNvPicPr/>
          <p:nvPr/>
        </p:nvPicPr>
        <p:blipFill>
          <a:blip r:embed="rId2"/>
          <a:stretch/>
        </p:blipFill>
        <p:spPr>
          <a:xfrm>
            <a:off x="380880" y="380880"/>
            <a:ext cx="3200400" cy="1981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i?id=7407b0fd8034a7ddf03c9a9469147a7f-64-144&amp;n=21"/>
          <p:cNvPicPr/>
          <p:nvPr/>
        </p:nvPicPr>
        <p:blipFill>
          <a:blip r:embed="rId3"/>
          <a:stretch/>
        </p:blipFill>
        <p:spPr>
          <a:xfrm>
            <a:off x="380880" y="2514600"/>
            <a:ext cx="32004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i?id=9c9f3a7964e2e525328901ecb539d988-36-144&amp;n=21"/>
          <p:cNvPicPr/>
          <p:nvPr/>
        </p:nvPicPr>
        <p:blipFill>
          <a:blip r:embed="rId1"/>
          <a:stretch/>
        </p:blipFill>
        <p:spPr>
          <a:xfrm>
            <a:off x="228600" y="274320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i?id=047683aebd6147e9166192d7032c2f22-29-144&amp;n=21"/>
          <p:cNvPicPr/>
          <p:nvPr/>
        </p:nvPicPr>
        <p:blipFill>
          <a:blip r:embed="rId2"/>
          <a:stretch/>
        </p:blipFill>
        <p:spPr>
          <a:xfrm>
            <a:off x="4952880" y="304920"/>
            <a:ext cx="3610080" cy="2133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i?id=b2ee796670b75dda40b1308ae6506fad-112-144&amp;n=21"/>
          <p:cNvPicPr/>
          <p:nvPr/>
        </p:nvPicPr>
        <p:blipFill>
          <a:blip r:embed="rId3"/>
          <a:stretch/>
        </p:blipFill>
        <p:spPr>
          <a:xfrm>
            <a:off x="4952880" y="2743200"/>
            <a:ext cx="365760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i?id=59533f260d7941a7bf31c11c906c9a2d-141-144&amp;n=21"/>
          <p:cNvPicPr/>
          <p:nvPr/>
        </p:nvPicPr>
        <p:blipFill>
          <a:blip r:embed="rId4"/>
          <a:stretch/>
        </p:blipFill>
        <p:spPr>
          <a:xfrm>
            <a:off x="228600" y="4952880"/>
            <a:ext cx="3657600" cy="1676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i?id=28994c4a4757ff89157e8196fcd36504-23-144&amp;n=21"/>
          <p:cNvPicPr/>
          <p:nvPr/>
        </p:nvPicPr>
        <p:blipFill>
          <a:blip r:embed="rId5"/>
          <a:stretch/>
        </p:blipFill>
        <p:spPr>
          <a:xfrm>
            <a:off x="228600" y="304920"/>
            <a:ext cx="3657600" cy="2209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i?id=b5a496a6979b8321e1523757db9eb4e4-87-144&amp;n=21"/>
          <p:cNvPicPr/>
          <p:nvPr/>
        </p:nvPicPr>
        <p:blipFill>
          <a:blip r:embed="rId6"/>
          <a:stretch/>
        </p:blipFill>
        <p:spPr>
          <a:xfrm>
            <a:off x="4876920" y="4876920"/>
            <a:ext cx="3733560" cy="17524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ю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267080" y="17524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юльская ж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кушка лета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чь коротка, а яркий день длинней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ревья зеленью еще одеты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зревшим хлебом пахнет из по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года царствует вовсю, на славу!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всюду буйство красок, как салют: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веты пестреют, и дурманят травы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звонко птицы по утрам по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зрачен воздух, и на сердце нега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зрели яблоки, манят сады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рода, словно чудо, манну с неба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Ждет ласковой, живительной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, как по волшебству, на удивленье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е изменилось прямо на глазах –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хладный дождь дарует наслажденье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 ночи сверкает летняя гро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i?id=967dca4f8cdccadb5067b8008275761b-86-144&amp;n=21"/>
          <p:cNvPicPr/>
          <p:nvPr/>
        </p:nvPicPr>
        <p:blipFill>
          <a:blip r:embed="rId1"/>
          <a:stretch/>
        </p:blipFill>
        <p:spPr>
          <a:xfrm>
            <a:off x="609480" y="2514600"/>
            <a:ext cx="320040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i?id=9d8c53b9797cde022633092175a58c23-57-144&amp;n=21"/>
          <p:cNvPicPr/>
          <p:nvPr/>
        </p:nvPicPr>
        <p:blipFill>
          <a:blip r:embed="rId2"/>
          <a:stretch/>
        </p:blipFill>
        <p:spPr>
          <a:xfrm>
            <a:off x="609480" y="4495680"/>
            <a:ext cx="3200400" cy="1828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i?id=73bec1185523baf3321944487852ed0d-53-144&amp;n=21"/>
          <p:cNvPicPr/>
          <p:nvPr/>
        </p:nvPicPr>
        <p:blipFill>
          <a:blip r:embed="rId3"/>
          <a:stretch/>
        </p:blipFill>
        <p:spPr>
          <a:xfrm>
            <a:off x="609480" y="609480"/>
            <a:ext cx="320040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i?id=0e2c78e516f673e693861e26f63a85e4-142-144&amp;n=21"/>
          <p:cNvPicPr/>
          <p:nvPr/>
        </p:nvPicPr>
        <p:blipFill>
          <a:blip r:embed="rId1"/>
          <a:stretch/>
        </p:blipFill>
        <p:spPr>
          <a:xfrm>
            <a:off x="380880" y="304920"/>
            <a:ext cx="3657600" cy="1904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солнце клипарт - Новости туризма"/>
          <p:cNvPicPr/>
          <p:nvPr/>
        </p:nvPicPr>
        <p:blipFill>
          <a:blip r:embed="rId2"/>
          <a:stretch/>
        </p:blipFill>
        <p:spPr>
          <a:xfrm>
            <a:off x="5105520" y="0"/>
            <a:ext cx="3143160" cy="266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i?id=c3557d809b839e49edcd33aec00689d6-91-144&amp;n=21"/>
          <p:cNvPicPr/>
          <p:nvPr/>
        </p:nvPicPr>
        <p:blipFill>
          <a:blip r:embed="rId3"/>
          <a:stretch/>
        </p:blipFill>
        <p:spPr>
          <a:xfrm>
            <a:off x="380880" y="2438280"/>
            <a:ext cx="365760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i?id=d591cd6fd4427c047bcc981e207f3561-85-144&amp;n=21"/>
          <p:cNvPicPr/>
          <p:nvPr/>
        </p:nvPicPr>
        <p:blipFill>
          <a:blip r:embed="rId4"/>
          <a:stretch/>
        </p:blipFill>
        <p:spPr>
          <a:xfrm>
            <a:off x="380880" y="4724280"/>
            <a:ext cx="358164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i?id=9c9c0359553a4589d6c99f10a26b9109-92-144&amp;n=21"/>
          <p:cNvPicPr/>
          <p:nvPr/>
        </p:nvPicPr>
        <p:blipFill>
          <a:blip r:embed="rId5"/>
          <a:stretch/>
        </p:blipFill>
        <p:spPr>
          <a:xfrm>
            <a:off x="4572000" y="2362320"/>
            <a:ext cx="3962520" cy="2133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i?id=b87e9d7ee17632df4febcd685239fcad-97-144&amp;n=21"/>
          <p:cNvPicPr/>
          <p:nvPr/>
        </p:nvPicPr>
        <p:blipFill>
          <a:blip r:embed="rId6"/>
          <a:stretch/>
        </p:blipFill>
        <p:spPr>
          <a:xfrm>
            <a:off x="4648320" y="4648320"/>
            <a:ext cx="3886200" cy="1981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23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вгу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4191120" y="1601280"/>
            <a:ext cx="4190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зыгрались сегодня кометы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плясались на радость глазам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ловно кто золотые монеты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ронил, торопясь по делам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небесные пряди сверкал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ревням, хуторам, городам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случайные взгляды блуждал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 ночным безымянным следам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де под яркие всполохи света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то рождались в космической мгле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езнадёжно-остывшее лето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вёздным августом шло по земле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5" descr="i?id=b31336ce7a7463aeb3d33dc46d89a7db-51-144&amp;n=21"/>
          <p:cNvPicPr/>
          <p:nvPr/>
        </p:nvPicPr>
        <p:blipFill>
          <a:blip r:embed="rId1"/>
          <a:stretch/>
        </p:blipFill>
        <p:spPr>
          <a:xfrm>
            <a:off x="228600" y="68580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i?id=6ec5ee27515bf6ac0e7fde900ed36d21-09-144&amp;n=21"/>
          <p:cNvPicPr/>
          <p:nvPr/>
        </p:nvPicPr>
        <p:blipFill>
          <a:blip r:embed="rId2"/>
          <a:stretch/>
        </p:blipFill>
        <p:spPr>
          <a:xfrm>
            <a:off x="228600" y="4876920"/>
            <a:ext cx="2971800" cy="175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i?id=e045e36fe6fcb6c9e7223d2208462ce7-102-144&amp;n=21"/>
          <p:cNvPicPr/>
          <p:nvPr/>
        </p:nvPicPr>
        <p:blipFill>
          <a:blip r:embed="rId3"/>
          <a:stretch/>
        </p:blipFill>
        <p:spPr>
          <a:xfrm>
            <a:off x="228600" y="274320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7" descr="i?id=8f22c670f8030ce07c4f7804ded0e13f-120-144&amp;n=21"/>
          <p:cNvPicPr/>
          <p:nvPr/>
        </p:nvPicPr>
        <p:blipFill>
          <a:blip r:embed="rId1"/>
          <a:stretch/>
        </p:blipFill>
        <p:spPr>
          <a:xfrm>
            <a:off x="228600" y="228600"/>
            <a:ext cx="3124080" cy="2743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9" descr="i?id=b8900fe563c86c596478f34e1940d818-99-144&amp;n=21"/>
          <p:cNvPicPr/>
          <p:nvPr/>
        </p:nvPicPr>
        <p:blipFill>
          <a:blip r:embed="rId2"/>
          <a:stretch/>
        </p:blipFill>
        <p:spPr>
          <a:xfrm>
            <a:off x="152280" y="3809880"/>
            <a:ext cx="304812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1" descr="i?id=7e5e1b9fc7a237999111d6eb8331e57c-30-144&amp;n=21"/>
          <p:cNvPicPr/>
          <p:nvPr/>
        </p:nvPicPr>
        <p:blipFill>
          <a:blip r:embed="rId3"/>
          <a:stretch/>
        </p:blipFill>
        <p:spPr>
          <a:xfrm>
            <a:off x="6781680" y="228600"/>
            <a:ext cx="2133720" cy="274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4" descr="i?id=3b4b4131100d534cbbc3507f12a75642-48-144&amp;n=21"/>
          <p:cNvPicPr/>
          <p:nvPr/>
        </p:nvPicPr>
        <p:blipFill>
          <a:blip r:embed="rId4"/>
          <a:stretch/>
        </p:blipFill>
        <p:spPr>
          <a:xfrm>
            <a:off x="3429000" y="228600"/>
            <a:ext cx="3200400" cy="2743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6" descr="i?id=0e5e96ea758bb2d6118925bcb55de7c3-30-144&amp;n=21"/>
          <p:cNvPicPr/>
          <p:nvPr/>
        </p:nvPicPr>
        <p:blipFill>
          <a:blip r:embed="rId5"/>
          <a:stretch/>
        </p:blipFill>
        <p:spPr>
          <a:xfrm>
            <a:off x="3352680" y="3809880"/>
            <a:ext cx="3124440" cy="2514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0" descr="i?id=d96529fe6066915ea433a9dab89bbf36-57-144&amp;n=21"/>
          <p:cNvPicPr/>
          <p:nvPr/>
        </p:nvPicPr>
        <p:blipFill>
          <a:blip r:embed="rId6"/>
          <a:stretch/>
        </p:blipFill>
        <p:spPr>
          <a:xfrm>
            <a:off x="6705720" y="3809880"/>
            <a:ext cx="2209680" cy="25909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 люблю лет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2" descr="Похожие изображения / Изображение 62589 - Радуга в степи, сказочная картинка. Природа / Фабрика картинок - PicsFab.co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1532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оследние лучи заката лежат на поле сжатой ржи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3340080" y="38088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457200" y="1676520"/>
            <a:ext cx="769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685800" y="152388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Е. Ермоленко «Июнь шальной проказни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. Соколова. «Июль, жара, макушка ле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. Блинов «Звёздный авгус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ллюстраци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yandex.ru/images/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6T12:57:40Z</dcterms:created>
  <dc:creator>Юля</dc:creator>
  <dc:description/>
  <dc:language>en-US</dc:language>
  <cp:lastModifiedBy>Евгений</cp:lastModifiedBy>
  <dcterms:modified xsi:type="dcterms:W3CDTF">2015-03-12T08:25:3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