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DCFB33-45EB-4235-BFA8-070EF8727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056E5B-837E-46C6-8E94-7E06C3CA6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195A-A345-420C-887D-5A663CCE62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80FF-7A3E-464C-A154-2928A04D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5C70-1F83-4237-938C-05F380B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FAD4-588A-4E1F-BB48-856C75CB6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7FA0-76D3-4F6C-B9FE-7552DA24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1BE9-2DFD-4790-95C3-DDFBBA6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FFF4-D1B0-4723-AFEB-37F35646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8D48-9CB8-44CD-A99D-67E32826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4343-2913-4CEB-A2C8-43C9613D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7484-AF8C-457E-8571-06FDE75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9F8C-6A23-4D8B-9C43-F772F301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879E-8ACB-41A2-9942-6194BD6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F84759-6578-441E-881B-32CACEF8B7E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28960" y="4500720"/>
            <a:ext cx="564372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БДОУ детский сад № 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г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Мингалеева Еле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расова Юли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3760" y="549360"/>
            <a:ext cx="829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здник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вященный  Дню защитника Отечест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овместного проведения с детьми и родителями средней групп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папа-самый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213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8760" y="212760"/>
            <a:ext cx="8229600" cy="1431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58040" cy="5240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епление здоровья детей и и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ганда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е любви к физической культуре и спорту, чувства др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йствие укреплению взаимоотношений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звать положительные эмоции от спортивного развлечени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ывать чувства дружбы и взаимопомощи между детьми и родителями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e02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Оздоровительны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собствовать укреплению опорно-двигательного аппарата и формированию правильной осанки.</a:t>
            </a:r>
            <a:br>
              <a:rPr sz="1600"/>
            </a:b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ы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двигательные умения и навык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представление детей об оздоровительном воздейств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х упражнений на организм; обучать игре в коман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интересовать родителей  в досуговой деятельности детей </a:t>
            </a:r>
            <a:br>
              <a:rPr sz="1600"/>
            </a:b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Развивающ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ть быстроту, силу, ловкость, меткость, памя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ть интерес к спортивным игра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ть умение накидывать кольца на «слонов» на расстоянии;</a:t>
            </a:r>
            <a:br>
              <a:rPr sz="1600"/>
            </a:b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оспитательны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ывать в детях потребность в ежедневных физических упражнениях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ть чувство товарищества, взаимопомощь, интерес к физической культуре.</a:t>
            </a:r>
            <a:br>
              <a:rPr sz="1600"/>
            </a:b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ые области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Здоровье», «Познание», «Коммуникация», «Труд».</a:t>
            </a:r>
            <a:br>
              <a:rPr sz="1600"/>
            </a:b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иды детской деятельности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уникативная, игровая, познавательная, двигательная, трудо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42960" y="-230040"/>
            <a:ext cx="785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92360" y="1197000"/>
            <a:ext cx="536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формление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оздушные шары , плакаты с символикой 23 февраля стенгазета “23 февра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узыкальное сопровожде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ртивный марш под песню «Мы бравые солдаты», песня военных лет “Катюша”, песня военных лет “Синий платочек”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частники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и и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74680"/>
            <a:ext cx="8229600" cy="1569960"/>
          </a:xfrm>
          <a:prstGeom prst="rect">
            <a:avLst/>
          </a:prstGeom>
          <a:solidFill>
            <a:srgbClr val="08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формле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оздушные шары , плакаты с символикой 23 февраля стенгаз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 февра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узыкальное сопровожд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ртивный марш под песню «Мы бравые солдаты», песня военных лет “Катюша”, песня военных лет “Синий платочек”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и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060640"/>
            <a:ext cx="4039920" cy="863640"/>
          </a:xfrm>
          <a:prstGeom prst="rect">
            <a:avLst/>
          </a:prstGeom>
          <a:solidFill>
            <a:srgbClr val="f8f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песню «Мы бравые солдаты» дети входят в з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2280" y="1989000"/>
            <a:ext cx="4041720" cy="648000"/>
          </a:xfrm>
          <a:prstGeom prst="rect">
            <a:avLst/>
          </a:prstGeom>
          <a:solidFill>
            <a:srgbClr val="fc6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ти рассказывают сти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4105080" cy="273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405936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9440" y="620640"/>
            <a:ext cx="23119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анец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юша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19640" y="476280"/>
            <a:ext cx="4419360" cy="294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627360" cy="2419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280400" y="4221000"/>
            <a:ext cx="48578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вочки поздравляют мальч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620640"/>
            <a:ext cx="4249800" cy="647640"/>
          </a:xfrm>
          <a:prstGeom prst="rect">
            <a:avLst/>
          </a:prstGeom>
          <a:solidFill>
            <a:srgbClr val="28f841"/>
          </a:solidFill>
          <a:ln w="9360">
            <a:solidFill>
              <a:srgbClr val="28f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урс для дет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айп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3280" y="523800"/>
            <a:ext cx="4132440" cy="275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22640" cy="208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7440" y="3502080"/>
            <a:ext cx="5361120" cy="459720"/>
          </a:xfrm>
          <a:prstGeom prst="rect">
            <a:avLst/>
          </a:prstGeom>
          <a:solidFill>
            <a:srgbClr val="f8f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урс для па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мины помощни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3915000" cy="260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932360" y="4005360"/>
            <a:ext cx="384336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99240" y="260280"/>
            <a:ext cx="4164480" cy="459720"/>
          </a:xfrm>
          <a:prstGeom prst="rect">
            <a:avLst/>
          </a:prstGeom>
          <a:solidFill>
            <a:srgbClr val="fc6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урс для па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3845160" cy="2562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45800" y="3573360"/>
            <a:ext cx="28872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подар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1993680" cy="299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492360" y="4219560"/>
            <a:ext cx="395928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10800000">
            <a:off x="-714240" y="-64152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200" y="357120"/>
            <a:ext cx="5469120" cy="520560"/>
          </a:xfrm>
          <a:prstGeom prst="rect">
            <a:avLst/>
          </a:prstGeom>
          <a:solidFill>
            <a:srgbClr val="fd2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ая часть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ГР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311640" cy="2482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64000" y="1052640"/>
            <a:ext cx="2158920" cy="2881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40360" y="1052640"/>
            <a:ext cx="3203640" cy="2401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35240" y="4076640"/>
            <a:ext cx="2626920" cy="520560"/>
          </a:xfrm>
          <a:prstGeom prst="rect">
            <a:avLst/>
          </a:prstGeom>
          <a:solidFill>
            <a:srgbClr val="250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крашение з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059280" y="475128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0" y="4780080"/>
            <a:ext cx="2771640" cy="207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084720" y="4780080"/>
            <a:ext cx="27720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Заключительная часть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1628640"/>
            <a:ext cx="3929040" cy="457200"/>
          </a:xfrm>
          <a:prstGeom prst="rect">
            <a:avLst/>
          </a:prstGeom>
          <a:solidFill>
            <a:srgbClr val="fd2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2133720"/>
            <a:ext cx="6562800" cy="3951000"/>
          </a:xfrm>
          <a:prstGeom prst="rect">
            <a:avLst/>
          </a:prstGeom>
          <a:solidFill>
            <a:srgbClr val="90fb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ртивный праздник «Мой папа самый,мсамый» повышает взаимопонимание детей и родителей, воспитывает чувство коллективизма и здорового соперничества, прививает навыки здорового образа жизни развивает интерес к занятиям физической культурой и 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«Великое чудо – семь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8:47:40Z</dcterms:created>
  <dc:creator>Главный бухгалтер</dc:creator>
  <dc:description/>
  <dc:language>en-US</dc:language>
  <cp:lastModifiedBy>Admin</cp:lastModifiedBy>
  <cp:lastPrinted>2015-02-19T13:28:18Z</cp:lastPrinted>
  <dcterms:modified xsi:type="dcterms:W3CDTF">2015-03-03T14:26:17Z</dcterms:modified>
  <cp:revision>27</cp:revision>
  <dc:subject/>
  <dc:title>Мама, папа, я –  спортивная</dc:title>
</cp:coreProperties>
</file>