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083-1B9C-48BD-BFDA-52D3B5EE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8EC-B492-4E34-97ED-CC9FCDA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ECE-4C2E-4FE8-B6F4-207D754D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89E-99E4-40C6-B01A-BF302721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77F-B9B6-4DCD-9FB6-D61F955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24A-568B-411F-865B-30B650F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8E3-1436-47AC-B79A-2647366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EC9-5FB4-4A30-84B3-6335528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5A23-B207-4243-BA14-A2D3A90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5A0-3F0D-4584-A40E-EA6EEE5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CBDB-ADCE-43D5-A797-AB7C5A4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5A1-F98F-429B-926C-05992B47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D705-6B01-44B6-BD8A-55A0001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2A8B-82A9-4B9A-A760-117E9BB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79A-FAA6-42B4-9088-BD0F6CD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9044-AFD4-4BC8-91E1-74656094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5C7A-D454-4928-AC5D-A90F285D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D9D-63E9-4384-BC68-46AFF67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442-8990-4161-9265-5BC99F3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9C7-3ED7-48D3-84CE-B7C25AA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7CA-6AF8-43EB-95E3-5D94363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2D4-FC1C-4B7B-9B51-23F3B0F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B43-59CD-4523-8EA7-FA093F0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335-CC81-4256-A481-A2A822E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6E2-9FCB-4921-A6F6-64EA97453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DD9-8992-40DD-8A87-7D7D52540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0859000">
            <a:off x="1366920" y="1474560"/>
            <a:ext cx="6696000" cy="387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0868000">
            <a:off x="200160" y="763560"/>
            <a:ext cx="62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Китайский мудрец Конфуций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530064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Урок ис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267660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33336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 же как в египетской письменности, в Китае иероглифы произошли из рисунков, и иногда в их форме можно угадать первоначальное изобр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2759400" cy="439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4000" y="1773360"/>
            <a:ext cx="228600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079640"/>
            <a:ext cx="6300720" cy="468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к должны были вести себя китайцы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765000"/>
            <a:ext cx="277164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ходя в дом снимать обув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деть нужно подогнув под себя н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ть двумя  палоч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осы заплет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ть вежливы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ладшие должны уважать и слушаться старш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блюдать традиции, которые установились с давних врем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85144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Воспитанным человеком считали того, кто выполнял эти правила и обладал хорошими ма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5805360"/>
            <a:ext cx="28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359160" cy="472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333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Конфуций учил, что не только в семье, но и во всем государстве должен соблюдаться порядок в отношениях между старшими и младш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26828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данные должны уважать правителя как от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413000"/>
            <a:ext cx="28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авитель должен относиться к подданным как к своим дет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3429000"/>
            <a:ext cx="38876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з высказываний Конфу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знить кого – либо, вместо того чтобы наставить его на истинный путь – бесчеловеч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 причиняй другим то, что они могут причинить т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лагородный человек винит себя, а ничтожный –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ветьте пожалуйста !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ему учил мудрец Конфуций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Как нужно было относиться к старшим (родителям, братьям и сестрам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очему Конфуций считал, что мудрость заключается в знании старинных книг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кой китаец считался воспитанным и учтивы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Можно ли выполнять наставления Конфуция сегодня? Как и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4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Географическое положение и природные условия Ки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Конфуций – древнекитайский филосо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ение Конфу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1. Географическое положение и природные условия Кита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41560" cy="5259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84720" y="1773360"/>
            <a:ext cx="46432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тай находится в </a:t>
            </a: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Восточной 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сячелетии до н.э. китайцы расселились по всей </a:t>
            </a: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Великой Китайской равн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территории Китая протекают реки – на севере </a:t>
            </a: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Хуанхе (Желтая река)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юге – </a:t>
            </a: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Янцзы (Голубая ре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льеф в этом государстве: на западе – горы и пустыни Центральной Азии, на северо-западе – степи, а на юге – горы Южной Азии, покрытые тропическими ле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ременная столица Китая – </a:t>
            </a: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Пеки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208400" cy="513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92360" cy="324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3429000"/>
            <a:ext cx="30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Желтая ре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Хуанх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549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Голубая ре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Янц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4392720" cy="2478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76360" y="6453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6461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имала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674800" cy="297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173640" y="765000"/>
            <a:ext cx="27194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48000" y="836640"/>
            <a:ext cx="235440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300720" y="4076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160800" y="3573360"/>
            <a:ext cx="2716200" cy="302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2224080" cy="247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8000" y="18900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екин (Бэйцзин) – столица Ки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ветьте пожалуйст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5384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Где находится Китай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Какие крупные реки протекают по территории Китая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 какой территории расселились китайцы 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тысячелетии до н.э.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кой город сегодня является столицей Китая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989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Восточной Аз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852640"/>
            <a:ext cx="39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2. На севере Желтая река – (Хуанхе), на юге – Голубая река (Янцз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4005360"/>
            <a:ext cx="28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 По всей Великой Китайской равн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5229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4. Пе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2. Конфуций – древнекитайский философ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430524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16360" y="765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51 – 479 гг. до н.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3630600" cy="316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56360" y="4027320"/>
            <a:ext cx="2701800" cy="2830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3. Учение Конфуц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8366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Мудрость – в знании старинных кни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562560" cy="475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4859280" cy="242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6165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амбуковая кни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6165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амб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484280"/>
            <a:ext cx="41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Древнекитайская книг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зенькие дощечки из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сщепленного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амбука связанных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ежду собой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ечев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8900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ля того, чтобы стать мудрым человеком, нужно много читать, приобщаться к мудрости древ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89000"/>
            <a:ext cx="28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16:00:09Z</dcterms:created>
  <dc:creator>User</dc:creator>
  <dc:description/>
  <dc:language>en-US</dc:language>
  <cp:lastModifiedBy>User</cp:lastModifiedBy>
  <dcterms:modified xsi:type="dcterms:W3CDTF">2005-12-05T16:36:36Z</dcterms:modified>
  <cp:revision>16</cp:revision>
  <dc:subject/>
  <dc:title>Слайд 1</dc:title>
</cp:coreProperties>
</file>