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CE7-E3A5-4667-AB27-8F7B3360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1D7-CB4D-448E-8C9B-DE40C172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0AA-14DD-4E25-8D07-6F9CF142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31C-7E14-4300-941A-6895CA97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ACF-D5BE-4E5C-B0A5-2B0AB9CC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DB2-045F-479F-BE67-9C48407D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0C9-73C3-4F5B-AE73-CEC729F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79E-BC71-4B28-8A79-F0BFC628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3E7-D6C5-4248-BCF6-683F7181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C16-BCD7-462A-B468-73107C2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214-0374-469B-B79C-8DA98708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388-B879-42B3-8D93-D3E51D0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7210-01F0-401D-9565-33AD303F2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museum.ru/" TargetMode="External"/><Relationship Id="rId3" Type="http://schemas.openxmlformats.org/officeDocument/2006/relationships/hyperlink" Target="http://www.museum.ru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rtsait.ru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74;&#1080;&#1076;&#1099;%20&#1089;&#1086;&#1077;&#1076;&#1080;&#1085;&#1077;&#1085;&#1080;&#1081;%20&#1076;&#1077;&#1090;&#1072;&#1083;&#1077;&#1081;%20&#1074;%20&#1091;&#1079;&#1083;&#1072;&#1093;%20&#1084;&#1077;&#1093;&#1072;&#1085;&#1080;&#1079;&#1084;&#1086;&#1074;%20&#1084;&#1072;&#1096;&#1080;&#1085;.ppt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&#1086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42;&#1074;&#1077;&#1076;&#1077;&#1085;&#1080;&#1077;%20&#1074;%20&#1087;&#1088;&#1077;&#1076;&#1084;&#1077;&#1090;.ppt" TargetMode="External"/><Relationship Id="rId2" Type="http://schemas.openxmlformats.org/officeDocument/2006/relationships/hyperlink" Target="file:///&#1084;&#1099;&#1079;&#1099;&#1082;&#1072;%20&#1073;&#1072;&#1088;&#1086;&#1082;&#1082;&#1086;.ppt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61;&#1091;&#1076;&#1086;&#1078;&#1085;&#1080;&#1082;&#1080;%20&#1080;&#1084;&#1087;&#1088;&#1077;&#1089;&#1089;&#1080;&#1086;&#1085;&#1080;&#1089;&#1090;&#1099;.wm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90;&#1077;&#1093;&#1085;%20&#1082;&#1072;&#1088;&#1090;&#1072;%20&#1086;&#1092;%20&#1086;&#1082;&#1085;&#1072;%20&#1078;&#1072;&#1083;&#1102;&#1079;&#1080;.ppt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82;&#1086;&#1085;&#1090;&#1088;&#1086;&#1083;&#1100;&#1085;&#1072;&#1103;%20&#1088;&#1072;&#1073;&#1086;&#1090;&#1072;%20&#1090;&#1077;&#1084;&#1072;%20&#1040;&#1085;&#1090;&#1080;&#1095;&#1085;&#1086;&#1089;&#1090;&#1100;.ppt" TargetMode="External"/><Relationship Id="rId2" Type="http://schemas.openxmlformats.org/officeDocument/2006/relationships/hyperlink" Target="http://www.uchportal.ru/load/3-1-0-27504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ndow.edu.ru/catalog?p_rubr=2.1.7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ulture.ru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нформационные технологии на уро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опыта работы учителя технологии, ИЗО, МХ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амбантовой Л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4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150480"/>
            <a:ext cx="607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Портал «Музеи Росс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040" y="660240"/>
            <a:ext cx="8259840" cy="61977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5286240" y="214200"/>
            <a:ext cx="357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useum.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14200" y="29340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ртал « Энциклопедия русской живописи»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rtsait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14240" y="1228680"/>
            <a:ext cx="75009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214200" y="336600"/>
            <a:ext cx="871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очевидных достоинств мультимедийного урока является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силение наглядност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тская природа ясно требует наглядности. Учите ребенка каким-нибудь пяти не известным ему словам, и он будет долго и напрасно мучиться над ними; но свяжите с картинками двадцать таких слов - и ребенок усвоит их на лету. Вы объясняете ребенку очень простую мысль, и он вас не понимает; вы объясняете тому же ребенку сложную картину, и он вас понимает быстро... Если вы входите в класс, от которого трудно добиться слова (а таких классов у нас не искать стать), начните показывать картинки, и класс заговорит, а главное, заговорит свободно…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500040" y="1550520"/>
            <a:ext cx="807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Мультимедиа презентации – электронные диафильмы, включающие в себя анимацию, аудио- и видеофрагменты, элементы интерактивности (реакцию на действия пользователя) – наиболее распространённый вид представления демонстрационны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мультимедиа презентаций целесообразно на любом этапе изучения новой темы и на любом этапе урока, как с помощью компьютера, так и с помощью мультимедийного проекционного экр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31320" y="500040"/>
            <a:ext cx="88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2) Использование мультимедиа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14200" y="1225440"/>
            <a:ext cx="835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узнаваем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ости - должна соответствовать предъявляемой письменной или устн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динам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ъявления наглядности - время демонстрации должно быть оптимальным, причем соответствовать изучаемой в данный момент учебной информации (очень важно не переусердствовать с эффекта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манный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идеоряда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й (вспомним уроки, где учитель закрывал (переворачивал) подготовленные наглядные пособия, чтобы предъявить их в необходимый момент. Средства мультимедиа представляют учителю возможность представить необходимое изображение с точностью до мгнове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880200" y="3571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Требования к материалу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428760" y="1071720"/>
            <a:ext cx="80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птимальный разме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лядности. Причем это касается не только минимальных, но и максимальных размеров, которые тоже могут оказывать негативное воздействие на учебный процесс, содействовать более быстрой утомляемости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птимальное количеств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ъявляемы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й на экране. Не следует увлекаться количеством слайдов, фото и пр., которые отвлекают учеников, не дают сосредоточиться на глав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357120" y="857160"/>
            <a:ext cx="842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Учет достижений психологии позволяет сформулировать ряд общих рекомендаций, которые следует учитывать при разработке способа визуализации информации на экр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я на экране должна быть структурирова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уальная информация периодически должна меняться на аудио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 работы должен варьиров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ически должны варьироваться яркость цвета и /или громкость звука/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визуализируемого учебного материала не должно быть слишком простым или слишком сло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571680" y="64296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азличное восприятие информации у учащихся на уроках с использованием мультимедийного оборудования позволяет сочетать различного типа информацию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совую, графическую, видео и аудио информацию через технические сре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озволяет содержание учебного материала трактовать в виде текста и в виде схем, то это может способствовать расширению способов подачи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285840" y="6072120"/>
            <a:ext cx="313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Print"/>
                <a:hlinkClick r:id="rId1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714240" y="178596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мыслового противопоставления объектов (данных) рекомендуется использование в презентациях контрастных цветов (красный – зеленый, синий – желтый, белый – черн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857160" y="785880"/>
            <a:ext cx="707256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ое обучение несёт в себе огромный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отивационный потенци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исутствии доброжелательного инструктора – машины - обучение становится более занимательным для детей, так как некоторые образовательные программы включают элементы игр. Важно умело использовать игру для учебных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Print"/>
                <a:hlinkClick r:id="rId1"/>
              </a:rPr>
              <a:t>Пример</a:t>
            </a: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6329880" y="535788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14240" y="521640"/>
            <a:ext cx="8072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отяжении многих  лет работы в школе в качестве учителя технологии, изобразительного искусства  и МХК меня изначально занимали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сделать уроки более эмоциональными, запоминающими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что сделать, чтобы повысить мотивацию к обучению учащих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Segoe Print"/>
              </a:rPr>
              <a:t>Виды уроков с мультимеди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Segoe Print"/>
              </a:rPr>
              <a:t>поддерж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714240" y="857160"/>
            <a:ext cx="7572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Урок с мультимедийной поддержкой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 стоит один компьютер, им пользуется учитель в качестве «электронной доски». Учитель использует готовые  электронные образовательные ресурсы или мультимедиа презентации,  и ученики для защиты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428760" y="1285920"/>
            <a:ext cx="8143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Урок с компьютерной поддержкой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компьютеров (обычно, в компьютерном классе), за ними работают все ученики одновременно или по очере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857160" y="50004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3.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Уроки с выходом во всемирную сеть Интернет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гут быть как с мультимедийной, так и компьютерной поддерж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500040" y="150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Segoe Print"/>
              </a:rPr>
              <a:t>Типы уроков с использованием информационных 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85840" y="468720"/>
            <a:ext cx="835812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Segoe Print"/>
                <a:ea typeface="Times New Roman"/>
              </a:rPr>
              <a:t>Урок введения в тему</a:t>
            </a:r>
            <a:r>
              <a:rPr b="0" lang="ru-RU" sz="2800" spc="-1" strike="noStrike">
                <a:solidFill>
                  <a:srgbClr val="333333"/>
                </a:solidFill>
                <a:latin typeface="Segoe Print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о показать значимость учебного материала. Всё это требуется для создания атмосферы заинтересованности, повышения мотивации.  Для этого используется слайд-фильм. Он состоит из слайдов различного типа, содержащих информацию – текстовую, графическую, пояснительный текст. Структурно каждый раздел включает определенное количество слайдов. Например, на уроке технологии при изучении нового раздела  необходимо вспомнить общие правила работы на технологии (в форме викторины), изучить новые правила Т/Б (запись  в тетрадь с экрана), создать  игровую ситуацию при проверке знаний Т/Б (тес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Print"/>
                <a:ea typeface="Times New Roman"/>
                <a:hlinkClick r:id="rId1"/>
              </a:rPr>
              <a:t>ПРИМЕР</a:t>
            </a:r>
            <a:r>
              <a:rPr b="1" lang="ru-RU" sz="2800" spc="-1" strike="noStrike">
                <a:solidFill>
                  <a:srgbClr val="c00000"/>
                </a:solidFill>
                <a:latin typeface="Segoe Print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6828480" y="5929200"/>
            <a:ext cx="1957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Print"/>
                <a:ea typeface="Times New Roman"/>
                <a:hlinkClick r:id="rId2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57120" y="295920"/>
            <a:ext cx="87868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Segoe Print"/>
                <a:ea typeface="Times New Roman"/>
              </a:rPr>
              <a:t>Урок изучения нового материала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ыт показывает, что компьютерный слайд-фильм по сравнению с другими средствами обучения обладает рядом преимущест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ит емкий материал в компактной фор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яет открытую образовательную систему, что дает возможность расширять, дополнять и обновлять содержащуюся в нем информацию, как текстовую, так и графическ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бен в использовании и хран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воляет при наличии экрана демонстрировать  материал всем учащимся одновременно, что не оказывает такого вредного воздействия, как работа перед монито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воляет сделать занятие более динамичным, сэкономить время для другого вида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ет возможность ученикам, пропустившим занятие, самостоятельно в удобном для них темпе ознакомиться с учебным материалом при помощи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462240" y="6143760"/>
            <a:ext cx="156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Print"/>
                <a:hlinkClick r:id="rId1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428760" y="750960"/>
            <a:ext cx="835812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Segoe Print"/>
              </a:rPr>
              <a:t>Урок-практик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оке ставится цель освоения учащимися рабочих приемов выполнения технологических операций, формирование трудовых умений и навыков.  Можно использовать небольшие по объёму презентации для наглядного представления данного вида работ на каждом этапе урока. Например, слайд с инструкционной картой по изготовлению изделия, видеоролик с демонстрацией трудового процесса, презентация с текущим инструктажем и элементами контроля качества. Для раздела  «Творческий проект» – использовать ПК  как средство для сбора информации и оформления пояснительной запис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676440" y="6334200"/>
            <a:ext cx="156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Print"/>
                <a:hlinkClick r:id="rId1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85840" y="474840"/>
            <a:ext cx="84294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Segoe Print"/>
              </a:rPr>
              <a:t>Урок контроля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ое тестирование позволяет  регулировать число вариантов и степень сложности, тем самым учитывать уровень обученности каждого ученика и подходить к контролю знаний дифференцированно.  Сохраняя результаты,  учитель может провести анализ и выявить пробелы в знаниях. Например, разработать тестовый контроль.  При изучении темы можно использовать мини-тест для закрепления материала в конце урока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может быть представлен и в игровой форме (шуточный) .  А также  для проверки знаний в форме викторин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 flipV="1" rot="10800000">
            <a:off x="428760" y="5213880"/>
            <a:ext cx="2273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Print"/>
                <a:hlinkClick r:id="rId1"/>
              </a:rPr>
              <a:t>Пример</a:t>
            </a: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071880" y="5286240"/>
            <a:ext cx="54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По данной ссылке можно скачать програ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оздания и проведения тестов - Pik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chportal.ru/load/3-1-0-27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 flipV="1" rot="10800000">
            <a:off x="356760" y="600012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14200" y="1928880"/>
            <a:ext cx="86439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Segoe Script"/>
              </a:rPr>
              <a:t>Урок – экску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с помощью Интернет-технологий можно виртуально посетить музей, выставку ДПТ.  При проведении таких уроков можно использовать также готовые Ц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 flipV="1" rot="10800000">
            <a:off x="441000" y="581040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357120"/>
            <a:ext cx="85723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1) Использование компьютерны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омпьютерные программы с видеосюжетами, возможностью “управления” процессами, схемами, подвижными графиками – дополнительное средство развития образного мышления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500040" y="2732040"/>
            <a:ext cx="807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оложительные моменты использования програм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ение учебной информации в интересной форме с использованием рисунков, схем, звука, видеоизоб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ные эффекты вывода текста и графических фраг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в удобном для ученика темпе и проявление инициатив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активность – активная роль пользов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00040" y="571680"/>
            <a:ext cx="7715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Segoe Print"/>
              </a:rPr>
              <a:t>Урок по решению технологически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занятия посвящаются вопросам конструирования и моделирования изделий ; составлению чертежей и эскизов; планированию технологических процессов и разработка инструкционных карт. Например, при изучении темы «Конструирование фартука» целесообразно использовать презентацию «Построение чертежа» с анимационными эффектами. Учащиеся наглядно представляют последовательность выполнения чертежа; повышается эстетическое качество рисунка;  можно вернуться к началу построения чертежа для акцентирования внимания на трудных  для усвоения момент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 flipV="1" rot="10800000">
            <a:off x="441000" y="581040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00040" y="1357200"/>
            <a:ext cx="7715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Segoe Print"/>
              </a:rPr>
              <a:t>Урок с элементами исто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межпредметные связи с историей, можно познакомить учащихся с бытом наших предков, например,  презентации «Наскальная живопись», «Русский народный костюм», «Русская изба», «Первоэлементы архитектуры» и др.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 flipV="1" rot="10800000">
            <a:off x="642600" y="500076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14200" y="642960"/>
            <a:ext cx="83584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Segoe Print"/>
              </a:rPr>
              <a:t>Урок –иг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мной используются игры двух видов. Это может быть игровая форма подачи учебного материала (викторина, кроссворд) или соревнование двух групп учащихся в практической или учебной работе. Например, презентация в форме викторины «Веселая кулинария» позволяет  повторить сведения по этой теме. При проведении урока-конкурса  «Горшочек каши» учебный процесс приобретает эмоциональный характер, что положительно влияет на повышение мотивации к учебной деятельности. Новый импульс приобретают учебные компетенции. Возникает радость учебного труда, формируется поле учебного азарта, демонстрируются личностные достижени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формой является собственно игра, моделирующая реальный технологический процесс, организационную или социально-экономическую ситуацию. Например, дидактический материал, разработанный с помощью Word (бланки платежей за коммунальные услуги, карточки–задания), помогает провести такой ур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 flipV="1" rot="10800000">
            <a:off x="356760" y="592848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571680" y="500040"/>
            <a:ext cx="778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Segoe Print"/>
              </a:rPr>
              <a:t>Урок –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хся необходимо научить оформлять проект. Презентация «Творческий проект» познакомит с видами проектов, последовательностью их выполнения, правилами оформления и т.д. Сделав такую презентацию один раз, можно её  использовать  с 5 по 8 класс. Этот прием экономит время и силы учителя по подготовке к уро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еся работают над проектами, защищают его, развивая тем самым личностные и информационно-коммуникационные компетенци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 flipV="1" rot="10800000">
            <a:off x="3571560" y="585720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Пример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 flipV="1" rot="10800000">
            <a:off x="6428880" y="592848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 flipV="1" rot="10800000">
            <a:off x="499680" y="600012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egoe Print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214200" y="1095480"/>
            <a:ext cx="835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одготовке различного материала к урокам я использую  возможности сети Интернет, а также технические возможности такого дополнительного компьютерного оборудования, как принтер, сканер и цифровой фотоаппар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 их помощью сохраняю и редактирую нужное графическое изображение, готовлю дидактический материал, слайд-фильмы и п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428760" y="695520"/>
            <a:ext cx="8358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Итак, использование  информационных технологий на уроках дало мне возмож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изуализировать учебную информацию с помощью наглядного представления на экране теоретического материала, технологического процесса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ять подготовку выпускника школы к жизни в условия информационного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видуализировать и дифференцировать процесс обучения за счет возможности изучения, повторения  с индивидуальной скоростью усвоения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ять  управление учебной деятельностью и контроль результата усвоения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межпредметную  связь с информатикой, историей, географией и пр. предме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Урок по ретуши в Photoshop"/>
          <p:cNvPicPr/>
          <p:nvPr/>
        </p:nvPicPr>
        <p:blipFill>
          <a:blip r:embed="rId1"/>
          <a:stretch/>
        </p:blipFill>
        <p:spPr>
          <a:xfrm>
            <a:off x="0" y="0"/>
            <a:ext cx="2843280" cy="2708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www.hotcd.ru/scr/img/15549_2-550-700-1.jpg"/>
          <p:cNvPicPr/>
          <p:nvPr/>
        </p:nvPicPr>
        <p:blipFill>
          <a:blip r:embed="rId2"/>
          <a:stretch/>
        </p:blipFill>
        <p:spPr>
          <a:xfrm>
            <a:off x="5000760" y="214200"/>
            <a:ext cx="3727440" cy="27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hotcd.ru/scr/img/15549_4-550-700-1.jpg"/>
          <p:cNvPicPr/>
          <p:nvPr/>
        </p:nvPicPr>
        <p:blipFill>
          <a:blip r:embed="rId3"/>
          <a:stretch/>
        </p:blipFill>
        <p:spPr>
          <a:xfrm>
            <a:off x="4500720" y="3286080"/>
            <a:ext cx="4071960" cy="305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static.ozone.ru/multimedia/audio_cd_covers/1001613400.jpg"/>
          <p:cNvPicPr/>
          <p:nvPr/>
        </p:nvPicPr>
        <p:blipFill>
          <a:blip r:embed="rId4"/>
          <a:stretch/>
        </p:blipFill>
        <p:spPr>
          <a:xfrm>
            <a:off x="214200" y="27147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Новинки на рынке мультимедиа КомпьютерПресс"/>
          <p:cNvPicPr/>
          <p:nvPr/>
        </p:nvPicPr>
        <p:blipFill>
          <a:blip r:embed="rId5"/>
          <a:stretch/>
        </p:blipFill>
        <p:spPr>
          <a:xfrm>
            <a:off x="2286000" y="785880"/>
            <a:ext cx="2857680" cy="2955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Поурочный план по изо 7 класс - Файловый архив"/>
          <p:cNvPicPr/>
          <p:nvPr/>
        </p:nvPicPr>
        <p:blipFill>
          <a:blip r:embed="rId6"/>
          <a:stretch/>
        </p:blipFill>
        <p:spPr>
          <a:xfrm>
            <a:off x="1500120" y="4702320"/>
            <a:ext cx="285768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500040" y="1071720"/>
            <a:ext cx="7643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мое CD может служить “сырьём”, на основе которого можно формировать собственные средства обучения, составлять свои презентации и осуществлять образовательные проекты, создавая тем самым многочисленные варианты работы, которые помогут разнообразить уроки искусства. Это могут быть небольшие Web-странички, слайд-шоу и мультимедиа презентации по творчеству того или иного композитора или художника, а также тесты-опросники по различным темам, как в электронном, так и традиционном (бумажном)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28760" y="663120"/>
            <a:ext cx="814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сё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использовать как при индивидуальной работе с детьми, так и при работе с целым классом (при наличии проекционного экрана) во время опр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зволяет каждому ученику работать самостоятельно в собственном темп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зволяет ученикам, не обладающим хорошими коммуникативными способностями, успешно справляться с зад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4200" y="285840"/>
            <a:ext cx="8715600" cy="53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оявилась возможность организ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межуточного и итогов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троля знаний с помощ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омпьютерных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Информационная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«Единое окно доступа к ресурсам образовательных порталов. Искусство и мировая художественная культура» 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Times New Roman"/>
                <a:hlinkClick r:id="rId1"/>
              </a:rPr>
              <a:t>http://window.edu.ru/catalog?p_rubr=2.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14200" y="-18720"/>
            <a:ext cx="8715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 Портал «Культура России»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Times New Roman"/>
                <a:hlinkClick r:id="rId1"/>
              </a:rPr>
              <a:t>http://culture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00040" y="785880"/>
            <a:ext cx="80913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4:17:47Z</dcterms:created>
  <dc:creator>User</dc:creator>
  <dc:description/>
  <dc:language>en-US</dc:language>
  <cp:lastModifiedBy>Лада</cp:lastModifiedBy>
  <dcterms:modified xsi:type="dcterms:W3CDTF">2014-09-17T05:00:40Z</dcterms:modified>
  <cp:revision>38</cp:revision>
  <dc:subject/>
  <dc:title>Слайд 1</dc:title>
</cp:coreProperties>
</file>