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A9C-89C8-4659-947B-73CCCFD2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72C-BBC3-4751-8C6F-46817E1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C03-FE2E-4C33-B2EC-FAEF9EBC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F8A-BC8A-4E33-B5B6-0D13A1DE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94B-226C-48CD-A8C8-589E7495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010-6C41-4F4E-B631-985C472C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AFB-B740-4BD4-9A21-21935C1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014-348C-4965-9B68-4E0B591C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768-3214-47D5-B620-EDE03F37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EF7-A129-4B54-836E-3AA1697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383-F902-41A4-B7CD-D59CDD1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BF3-2065-4046-89E9-5E56F629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6D2B-2E0A-4E47-A3BA-F0463841BC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Осенние листья фото. Осенние обои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ahoma"/>
              </a:rPr>
              <a:t>Осень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886200" y="58672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готовила ученица 7-д  ГБОУ Школа №424 г. Москв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опенкова Кс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: Афиногенова О.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Сентяб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62160" y="9903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Осень наступила,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Высохли цветы,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И глядят уныло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Голые кусты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Вянет и желтеет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Травка на лугах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Только зеленеет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Озимь на полях. 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Туча небо крое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Солнце не блести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Ветер в поле вое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Дождик моросит.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Зашумели воды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Быстрого ручья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Птички улетели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В теплые кр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i?id=9e3e89fd97aafc320ad9352529b7f922-14-144&amp;n=21"/>
          <p:cNvPicPr/>
          <p:nvPr/>
        </p:nvPicPr>
        <p:blipFill>
          <a:blip r:embed="rId1"/>
          <a:stretch/>
        </p:blipFill>
        <p:spPr>
          <a:xfrm>
            <a:off x="228600" y="3429000"/>
            <a:ext cx="3352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i?id=1d77f18e64a8124a922d854443cd987c-29-144&amp;n=21"/>
          <p:cNvPicPr/>
          <p:nvPr/>
        </p:nvPicPr>
        <p:blipFill>
          <a:blip r:embed="rId2"/>
          <a:stretch/>
        </p:blipFill>
        <p:spPr>
          <a:xfrm>
            <a:off x="228600" y="5105520"/>
            <a:ext cx="33526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i?id=d95a23b08ffad98d6fc89c271316d52f-89-144&amp;n=21"/>
          <p:cNvPicPr/>
          <p:nvPr/>
        </p:nvPicPr>
        <p:blipFill>
          <a:blip r:embed="rId3"/>
          <a:stretch/>
        </p:blipFill>
        <p:spPr>
          <a:xfrm>
            <a:off x="228600" y="1828800"/>
            <a:ext cx="33526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i?id=3e774e7a4f207b9f5e786420d5abef4b-79-144&amp;n=21"/>
          <p:cNvPicPr/>
          <p:nvPr/>
        </p:nvPicPr>
        <p:blipFill>
          <a:blip r:embed="rId4"/>
          <a:stretch/>
        </p:blipFill>
        <p:spPr>
          <a:xfrm>
            <a:off x="228600" y="380880"/>
            <a:ext cx="32767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Осень рисунки для детей - Интересная информация"/>
          <p:cNvPicPr/>
          <p:nvPr/>
        </p:nvPicPr>
        <p:blipFill>
          <a:blip r:embed="rId1"/>
          <a:stretch/>
        </p:blipFill>
        <p:spPr>
          <a:xfrm>
            <a:off x="304920" y="457200"/>
            <a:ext cx="419076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64b9a0875630ffbec6958fb35b9a9576-86-144&amp;n=21"/>
          <p:cNvPicPr/>
          <p:nvPr/>
        </p:nvPicPr>
        <p:blipFill>
          <a:blip r:embed="rId2"/>
          <a:stretch/>
        </p:blipFill>
        <p:spPr>
          <a:xfrm>
            <a:off x="4724280" y="4572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?id=bbc0b2553f26acecec67d6c0558cb684-123-144&amp;n=21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?id=416d90c7dbdeb811745cd43d7d63b623-65-144&amp;n=21"/>
          <p:cNvPicPr/>
          <p:nvPr/>
        </p:nvPicPr>
        <p:blipFill>
          <a:blip r:embed="rId4"/>
          <a:stretch/>
        </p:blipFill>
        <p:spPr>
          <a:xfrm>
            <a:off x="4724280" y="495288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ктяб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к только наступил октябрь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лучились пасмурные дни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 я прошу его: «Хотя б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дождями чуть повремени»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бы не смыть случайно краски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ртин, возникших за окно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бы золото осенней сказк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м долго помнилось по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ктябрь акварели э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дарит и тебе, и мн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 позабудем мы о лет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е вспоминая о зи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i?id=9a78837855c72652b8a4958cc8d6abcb-53-144&amp;n=21"/>
          <p:cNvPicPr/>
          <p:nvPr/>
        </p:nvPicPr>
        <p:blipFill>
          <a:blip r:embed="rId1"/>
          <a:stretch/>
        </p:blipFill>
        <p:spPr>
          <a:xfrm>
            <a:off x="228600" y="380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5965549fcdde202fc10eba76f93374e2-89-144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?id=fbb7f0857f000ac9a6bb03fea2b0c6a6-63-144&amp;n=21"/>
          <p:cNvPicPr/>
          <p:nvPr/>
        </p:nvPicPr>
        <p:blipFill>
          <a:blip r:embed="rId3"/>
          <a:stretch/>
        </p:blipFill>
        <p:spPr>
          <a:xfrm>
            <a:off x="304920" y="457200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02ab01bd652ff1b966cfacf8890cc150-66-144&amp;n=21"/>
          <p:cNvPicPr/>
          <p:nvPr/>
        </p:nvPicPr>
        <p:blipFill>
          <a:blip r:embed="rId4"/>
          <a:stretch/>
        </p:blipFill>
        <p:spPr>
          <a:xfrm>
            <a:off x="2971800" y="45720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Зеленый наряд Измаила или Всё о деревьях."/>
          <p:cNvPicPr/>
          <p:nvPr/>
        </p:nvPicPr>
        <p:blipFill>
          <a:blip r:embed="rId5"/>
          <a:stretch/>
        </p:blipFill>
        <p:spPr>
          <a:xfrm>
            <a:off x="3048120" y="3808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?id=7ce9d375cc88f61449ac268b71d24279-76-144&amp;n=21"/>
          <p:cNvPicPr/>
          <p:nvPr/>
        </p:nvPicPr>
        <p:blipFill>
          <a:blip r:embed="rId1"/>
          <a:stretch/>
        </p:blipFill>
        <p:spPr>
          <a:xfrm>
            <a:off x="152280" y="6094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i?id=8e0ef44c879364d443976ce49bc062b5-71-144&amp;n=21"/>
          <p:cNvPicPr/>
          <p:nvPr/>
        </p:nvPicPr>
        <p:blipFill>
          <a:blip r:embed="rId2"/>
          <a:stretch/>
        </p:blipFill>
        <p:spPr>
          <a:xfrm>
            <a:off x="4876920" y="6094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9afe503719c4237f55c46d514340201a-90-144&amp;n=21"/>
          <p:cNvPicPr/>
          <p:nvPr/>
        </p:nvPicPr>
        <p:blipFill>
          <a:blip r:embed="rId3"/>
          <a:stretch/>
        </p:blipFill>
        <p:spPr>
          <a:xfrm>
            <a:off x="228600" y="3581280"/>
            <a:ext cx="44956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15d341c4c007662e28cc3b7bc8bf1800-53-144&amp;n=21"/>
          <p:cNvPicPr/>
          <p:nvPr/>
        </p:nvPicPr>
        <p:blipFill>
          <a:blip r:embed="rId4"/>
          <a:stretch/>
        </p:blipFill>
        <p:spPr>
          <a:xfrm>
            <a:off x="4876920" y="35812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ahoma"/>
              </a:rPr>
              <a:t>Ноябр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48604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жной хризантемой выпал первый снег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нчился осенний незамужний век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лою невестой осень ноябр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бо нарядило... Видимо, не зря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дают невесту в жёны декабрю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воздухе кружится: "Я тебя люблю!"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белой хризантемой осень в волосах..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ружил декабрь деву на рука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венчалась осень - с плеч одежды снег..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нчился осенний незамужний ве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9" descr="i?id=8bde1dd128ab1999b2bf0e4cf1ff258f-139-144&amp;n=21"/>
          <p:cNvPicPr/>
          <p:nvPr/>
        </p:nvPicPr>
        <p:blipFill>
          <a:blip r:embed="rId1"/>
          <a:stretch/>
        </p:blipFill>
        <p:spPr>
          <a:xfrm>
            <a:off x="3276720" y="2286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1" descr="i?id=615a03b62373f1006dbf40381b678476-99-144&amp;n=21"/>
          <p:cNvPicPr/>
          <p:nvPr/>
        </p:nvPicPr>
        <p:blipFill>
          <a:blip r:embed="rId2"/>
          <a:stretch/>
        </p:blipFill>
        <p:spPr>
          <a:xfrm>
            <a:off x="380880" y="304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5" descr="i?id=21012d75fc021fb6c746b4e03d1b539a-97-144&amp;n=21"/>
          <p:cNvPicPr/>
          <p:nvPr/>
        </p:nvPicPr>
        <p:blipFill>
          <a:blip r:embed="rId3"/>
          <a:stretch/>
        </p:blipFill>
        <p:spPr>
          <a:xfrm>
            <a:off x="45720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7" descr="i?id=63cb20b84201bee8c624e061f1a7f5f5-143-144&amp;n=21"/>
          <p:cNvPicPr/>
          <p:nvPr/>
        </p:nvPicPr>
        <p:blipFill>
          <a:blip r:embed="rId4"/>
          <a:stretch/>
        </p:blipFill>
        <p:spPr>
          <a:xfrm>
            <a:off x="45720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i?id=d77ed11f229afdb2d93009e05eac8491-87-144&amp;n=21"/>
          <p:cNvPicPr/>
          <p:nvPr/>
        </p:nvPicPr>
        <p:blipFill>
          <a:blip r:embed="rId5"/>
          <a:stretch/>
        </p:blipFill>
        <p:spPr>
          <a:xfrm>
            <a:off x="3276720" y="449568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1" descr="i?id=58681076ab35bf40858bde19787ba517-04-144&amp;n=21"/>
          <p:cNvPicPr/>
          <p:nvPr/>
        </p:nvPicPr>
        <p:blipFill>
          <a:blip r:embed="rId6"/>
          <a:stretch/>
        </p:blipFill>
        <p:spPr>
          <a:xfrm>
            <a:off x="3276720" y="243828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lo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нылая пора! Очей очарованье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ятна мне твоя прощальная краса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433680" y="15228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28600" y="129528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 Плещеев «Осе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. Соренкова «Акварели октябр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тали Самоний «Обвенчалась осе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ллюстра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images/search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6:22:24Z</dcterms:created>
  <dc:creator>Юля</dc:creator>
  <dc:description/>
  <dc:language>en-US</dc:language>
  <cp:lastModifiedBy>Евгений</cp:lastModifiedBy>
  <dcterms:modified xsi:type="dcterms:W3CDTF">2015-03-12T08:57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