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7C9-023D-4750-B5C2-F778B561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321-586B-4176-BC43-ADA30C68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DD3-E73F-4157-9C47-C0A00406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F32-6B58-455A-A113-E66AD8CE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79A-A5DE-48C0-89C6-405FF4C1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020-1DD0-45B2-ABCE-F7BCF588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6DE-4510-463B-B93B-E7274001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1DA-11BA-4FE4-AFF7-7F2081FD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6B6-4B92-44DC-90CF-78C3AFDA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849-DE34-438D-AC6E-983FDA1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51F-E117-404B-8886-FD18D94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F48-8654-4B80-9691-BBBD137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6311-0200-4D02-B850-BD72545663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Осенние листья фото. Осенние обои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ahoma"/>
              </a:rPr>
              <a:t>Осень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886200" y="58672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готовила ученица 7-д  ГБОУ Школа №424 г. Москв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лопенкова Кс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: Афиногенова О.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Сентяб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62160" y="9903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001933"/>
                </a:solidFill>
                <a:latin typeface="Tahoma"/>
              </a:rPr>
              <a:t>Осень наступила, </a:t>
            </a:r>
            <a:br>
              <a:rPr sz="2400"/>
            </a:br>
            <a:r>
              <a:rPr b="0" i="1" lang="ru-RU" sz="2400" spc="-1" strike="noStrike">
                <a:solidFill>
                  <a:srgbClr val="001933"/>
                </a:solidFill>
                <a:latin typeface="Tahoma"/>
              </a:rPr>
              <a:t>Высохли цветы, </a:t>
            </a:r>
            <a:br>
              <a:rPr sz="2400"/>
            </a:br>
            <a:r>
              <a:rPr b="0" i="1" lang="ru-RU" sz="2400" spc="-1" strike="noStrike">
                <a:solidFill>
                  <a:srgbClr val="001933"/>
                </a:solidFill>
                <a:latin typeface="Tahoma"/>
              </a:rPr>
              <a:t>И глядят уныло </a:t>
            </a:r>
            <a:br>
              <a:rPr sz="2400"/>
            </a:br>
            <a:r>
              <a:rPr b="0" i="1" lang="ru-RU" sz="2400" spc="-1" strike="noStrike">
                <a:solidFill>
                  <a:srgbClr val="001933"/>
                </a:solidFill>
                <a:latin typeface="Tahoma"/>
              </a:rPr>
              <a:t>Голые кусты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Вянет и желтеет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Травка на лугах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Только зеленеет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Озимь на полях. 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Туча небо кроет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Солнце не блестит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Ветер в поле воет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Дождик моросит.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Зашумели воды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  Быстрого ручья,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  Птички улетели </a:t>
            </a:r>
            <a:br>
              <a:rPr sz="2400"/>
            </a:br>
            <a:r>
              <a:rPr b="0" i="1" lang="ru-RU" sz="2400" spc="-1" strike="noStrike">
                <a:solidFill>
                  <a:srgbClr val="161616"/>
                </a:solidFill>
                <a:latin typeface="Tahoma"/>
              </a:rPr>
              <a:t>                      В теплые кр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7" descr="i?id=9e3e89fd97aafc320ad9352529b7f922-14-144&amp;n=21"/>
          <p:cNvPicPr/>
          <p:nvPr/>
        </p:nvPicPr>
        <p:blipFill>
          <a:blip r:embed="rId1"/>
          <a:stretch/>
        </p:blipFill>
        <p:spPr>
          <a:xfrm>
            <a:off x="228600" y="3429000"/>
            <a:ext cx="33526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i?id=1d77f18e64a8124a922d854443cd987c-29-144&amp;n=21"/>
          <p:cNvPicPr/>
          <p:nvPr/>
        </p:nvPicPr>
        <p:blipFill>
          <a:blip r:embed="rId2"/>
          <a:stretch/>
        </p:blipFill>
        <p:spPr>
          <a:xfrm>
            <a:off x="228600" y="5105520"/>
            <a:ext cx="33526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i?id=d95a23b08ffad98d6fc89c271316d52f-89-144&amp;n=21"/>
          <p:cNvPicPr/>
          <p:nvPr/>
        </p:nvPicPr>
        <p:blipFill>
          <a:blip r:embed="rId3"/>
          <a:stretch/>
        </p:blipFill>
        <p:spPr>
          <a:xfrm>
            <a:off x="228600" y="1828800"/>
            <a:ext cx="33526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i?id=3e774e7a4f207b9f5e786420d5abef4b-79-144&amp;n=21"/>
          <p:cNvPicPr/>
          <p:nvPr/>
        </p:nvPicPr>
        <p:blipFill>
          <a:blip r:embed="rId4"/>
          <a:stretch/>
        </p:blipFill>
        <p:spPr>
          <a:xfrm>
            <a:off x="228600" y="380880"/>
            <a:ext cx="32767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Осень рисунки для детей - Интересная информация"/>
          <p:cNvPicPr/>
          <p:nvPr/>
        </p:nvPicPr>
        <p:blipFill>
          <a:blip r:embed="rId1"/>
          <a:stretch/>
        </p:blipFill>
        <p:spPr>
          <a:xfrm>
            <a:off x="304920" y="457200"/>
            <a:ext cx="419076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?id=64b9a0875630ffbec6958fb35b9a9576-86-144&amp;n=21"/>
          <p:cNvPicPr/>
          <p:nvPr/>
        </p:nvPicPr>
        <p:blipFill>
          <a:blip r:embed="rId2"/>
          <a:stretch/>
        </p:blipFill>
        <p:spPr>
          <a:xfrm>
            <a:off x="4724280" y="457200"/>
            <a:ext cx="37339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?id=bbc0b2553f26acecec67d6c0558cb684-123-144&amp;n=21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?id=416d90c7dbdeb811745cd43d7d63b623-65-144&amp;n=21"/>
          <p:cNvPicPr/>
          <p:nvPr/>
        </p:nvPicPr>
        <p:blipFill>
          <a:blip r:embed="rId4"/>
          <a:stretch/>
        </p:blipFill>
        <p:spPr>
          <a:xfrm>
            <a:off x="4724280" y="4952880"/>
            <a:ext cx="373392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Октяб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ак только наступил октябрь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лучились пасмурные дни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 я прошу его: «Хотя бы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 дождями чуть повремени»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тобы не смыть случайно краски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артин, возникших за окном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тобы золото осенней сказк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м долго помнилось по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ктябрь акварели э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дарит и тебе, и мне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 позабудем мы о лете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е вспоминая о зим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i?id=9a78837855c72652b8a4958cc8d6abcb-53-144&amp;n=21"/>
          <p:cNvPicPr/>
          <p:nvPr/>
        </p:nvPicPr>
        <p:blipFill>
          <a:blip r:embed="rId1"/>
          <a:stretch/>
        </p:blipFill>
        <p:spPr>
          <a:xfrm>
            <a:off x="228600" y="380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?id=5965549fcdde202fc10eba76f93374e2-89-144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?id=fbb7f0857f000ac9a6bb03fea2b0c6a6-63-144&amp;n=21"/>
          <p:cNvPicPr/>
          <p:nvPr/>
        </p:nvPicPr>
        <p:blipFill>
          <a:blip r:embed="rId3"/>
          <a:stretch/>
        </p:blipFill>
        <p:spPr>
          <a:xfrm>
            <a:off x="304920" y="4572000"/>
            <a:ext cx="259056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?id=02ab01bd652ff1b966cfacf8890cc150-66-144&amp;n=21"/>
          <p:cNvPicPr/>
          <p:nvPr/>
        </p:nvPicPr>
        <p:blipFill>
          <a:blip r:embed="rId4"/>
          <a:stretch/>
        </p:blipFill>
        <p:spPr>
          <a:xfrm>
            <a:off x="2971800" y="457200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Зеленый наряд Измаила или Всё о деревьях."/>
          <p:cNvPicPr/>
          <p:nvPr/>
        </p:nvPicPr>
        <p:blipFill>
          <a:blip r:embed="rId5"/>
          <a:stretch/>
        </p:blipFill>
        <p:spPr>
          <a:xfrm>
            <a:off x="3048120" y="380880"/>
            <a:ext cx="2057400" cy="388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?id=7ce9d375cc88f61449ac268b71d24279-76-144&amp;n=21"/>
          <p:cNvPicPr/>
          <p:nvPr/>
        </p:nvPicPr>
        <p:blipFill>
          <a:blip r:embed="rId1"/>
          <a:stretch/>
        </p:blipFill>
        <p:spPr>
          <a:xfrm>
            <a:off x="152280" y="6094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i?id=8e0ef44c879364d443976ce49bc062b5-71-144&amp;n=21"/>
          <p:cNvPicPr/>
          <p:nvPr/>
        </p:nvPicPr>
        <p:blipFill>
          <a:blip r:embed="rId2"/>
          <a:stretch/>
        </p:blipFill>
        <p:spPr>
          <a:xfrm>
            <a:off x="4876920" y="609480"/>
            <a:ext cx="388620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?id=9afe503719c4237f55c46d514340201a-90-144&amp;n=21"/>
          <p:cNvPicPr/>
          <p:nvPr/>
        </p:nvPicPr>
        <p:blipFill>
          <a:blip r:embed="rId3"/>
          <a:stretch/>
        </p:blipFill>
        <p:spPr>
          <a:xfrm>
            <a:off x="228600" y="3581280"/>
            <a:ext cx="4495680" cy="243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?id=15d341c4c007662e28cc3b7bc8bf1800-53-144&amp;n=21"/>
          <p:cNvPicPr/>
          <p:nvPr/>
        </p:nvPicPr>
        <p:blipFill>
          <a:blip r:embed="rId4"/>
          <a:stretch/>
        </p:blipFill>
        <p:spPr>
          <a:xfrm>
            <a:off x="4876920" y="3581280"/>
            <a:ext cx="388620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ahoma"/>
              </a:rPr>
              <a:t>Ноябрь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48604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жной хризантемой выпал первый снег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нчился осенний незамужний век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елою невестой осень ноября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бо нарядило... Видимо, не зря: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тдают невесту в жёны декабрю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воздухе кружится: "Я тебя люблю!"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 белой хризантемой осень в волосах..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кружил декабрь деву на руках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венчалась осень - с плеч одежды снег..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нчился осенний незамужний ве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9" descr="i?id=8bde1dd128ab1999b2bf0e4cf1ff258f-139-144&amp;n=21"/>
          <p:cNvPicPr/>
          <p:nvPr/>
        </p:nvPicPr>
        <p:blipFill>
          <a:blip r:embed="rId1"/>
          <a:stretch/>
        </p:blipFill>
        <p:spPr>
          <a:xfrm>
            <a:off x="3276720" y="22860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1" descr="i?id=615a03b62373f1006dbf40381b678476-99-144&amp;n=21"/>
          <p:cNvPicPr/>
          <p:nvPr/>
        </p:nvPicPr>
        <p:blipFill>
          <a:blip r:embed="rId2"/>
          <a:stretch/>
        </p:blipFill>
        <p:spPr>
          <a:xfrm>
            <a:off x="380880" y="304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5" descr="i?id=21012d75fc021fb6c746b4e03d1b539a-97-144&amp;n=21"/>
          <p:cNvPicPr/>
          <p:nvPr/>
        </p:nvPicPr>
        <p:blipFill>
          <a:blip r:embed="rId3"/>
          <a:stretch/>
        </p:blipFill>
        <p:spPr>
          <a:xfrm>
            <a:off x="457200" y="24382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7" descr="i?id=63cb20b84201bee8c624e061f1a7f5f5-143-144&amp;n=21"/>
          <p:cNvPicPr/>
          <p:nvPr/>
        </p:nvPicPr>
        <p:blipFill>
          <a:blip r:embed="rId4"/>
          <a:stretch/>
        </p:blipFill>
        <p:spPr>
          <a:xfrm>
            <a:off x="45720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9" descr="i?id=d77ed11f229afdb2d93009e05eac8491-87-144&amp;n=21"/>
          <p:cNvPicPr/>
          <p:nvPr/>
        </p:nvPicPr>
        <p:blipFill>
          <a:blip r:embed="rId5"/>
          <a:stretch/>
        </p:blipFill>
        <p:spPr>
          <a:xfrm>
            <a:off x="3276720" y="449568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1" descr="i?id=58681076ab35bf40858bde19787ba517-04-144&amp;n=21"/>
          <p:cNvPicPr/>
          <p:nvPr/>
        </p:nvPicPr>
        <p:blipFill>
          <a:blip r:embed="rId6"/>
          <a:stretch/>
        </p:blipFill>
        <p:spPr>
          <a:xfrm>
            <a:off x="3276720" y="243828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Blo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нылая пора! Очей очарованье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ятна мне твоя прощальная краса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433680" y="15228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28600" y="129528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. Плещеев «Осен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. Соренкова «Акварели октябр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тали Самоний «Обвенчалась осен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ллюстра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yandex.ru/images/search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6T16:22:24Z</dcterms:created>
  <dc:creator>Юля</dc:creator>
  <dc:description/>
  <dc:language>en-US</dc:language>
  <cp:lastModifiedBy>Евгений</cp:lastModifiedBy>
  <dcterms:modified xsi:type="dcterms:W3CDTF">2015-03-12T08:57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