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36.jpeg" ContentType="image/jpeg"/>
  <Override PartName="/ppt/media/image9.jpeg" ContentType="image/jpeg"/>
  <Override PartName="/ppt/media/image34.jpeg" ContentType="image/jpeg"/>
  <Override PartName="/ppt/media/image37.png" ContentType="image/png"/>
  <Override PartName="/ppt/media/image35.jpeg" ContentType="image/jpeg"/>
  <Override PartName="/ppt/media/image10.jpeg" ContentType="image/jpeg"/>
  <Override PartName="/ppt/media/image29.jpeg" ContentType="image/jpeg"/>
  <Override PartName="/ppt/media/image8.png" ContentType="image/png"/>
  <Override PartName="/ppt/media/image14.jpeg" ContentType="image/jpeg"/>
  <Override PartName="/ppt/media/image1.png" ContentType="image/pn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D41F-FA84-44DD-9911-17054FC6B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55E3-8FD8-45A6-A481-C5218C79F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E5C4-655C-4DE3-906B-F0258DB1B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FB0E-FA94-41F4-A3B0-0E78D9A66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288D5-B2A8-47DB-A0AE-00E6DAF60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267F9-24C7-4FAA-8EAA-17B7A6BB2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E64C1-36F5-42A9-AF17-32464F74E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73128-A31D-4E3B-99AE-EB0373FEB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650CD-47CD-4391-927B-876DA4C6C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B755F-586F-4A18-AB6B-488A81848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3C667-0CE6-4975-9F54-49BEDC1E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8FCA-D252-487B-A6FD-2737F4E0A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F3F66-9BFB-4240-9DCA-C625EBC9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62874-0691-425F-9347-866C43FA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F3E3F-7FD4-457F-BBD2-C03F1522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ED866-D686-432A-B892-15125F1CD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3A7FC-B253-4953-AE0A-47C510E38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9E8BE-910B-4579-AA6B-456009B18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3A0D1-6192-47F5-A153-059C4BF1C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8A842-B2C4-45D2-9608-F4FCCFA3D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11778-806B-4398-AEE7-0F5297450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5CD9B-3603-4820-85F8-1EB252326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404A-0EDF-466D-A745-C4469B409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9BEB6-4466-4956-9956-A6E940D21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563C9-B998-4967-8781-E4ECA3B8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ECA7D-D993-4400-9E4E-175A8391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6F8E5-EC85-40E8-8579-14781264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2094D-0F56-4BFA-831B-BBB76C5D2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AB25D-5623-4FF7-9F7D-143042601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C8416-2399-4247-9E77-1147F1C3C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E6E7F-785C-4A89-96E0-36C5F8588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97DBE-0D2C-4E35-89B0-E7C2BCF12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3429B-AFBF-407A-9054-EB59109EC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B434-BED4-4B03-92F5-0B4FBFF37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6F476-A757-49EB-BAE1-12732D18E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A003E-2597-4F53-A501-5784825EA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BE62A-3DAB-446A-BFEB-A3EFAC327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D8AF3-4C01-4C9A-B5D5-D024343F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869DA-147E-4110-BF2A-0A3B1394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5F0B3-1EF7-429B-B19F-1C550338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EC8BE-E7D4-48BC-8D18-592D79F83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D80E7-0F5C-4C01-8D53-60C9C38B9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62963-1261-4B96-B334-71BFC80ED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198C-D84B-46A7-93C9-6E3C5D385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2741-355D-4609-BA29-BD0B6D5CB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AEB5-C506-43E5-80DA-98979386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C751-E813-4B36-B861-342DBCDF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B2E3-BF1E-48AF-A4D2-277CC39B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76320" y="152280"/>
            <a:ext cx="8991360" cy="6629400"/>
            <a:chOff x="76320" y="152280"/>
            <a:chExt cx="8991360" cy="6629400"/>
          </a:xfrm>
        </p:grpSpPr>
        <p:sp>
          <p:nvSpPr>
            <p:cNvPr id="1" name="AutoShape 3"/>
            <p:cNvSpPr/>
            <p:nvPr/>
          </p:nvSpPr>
          <p:spPr>
            <a:xfrm>
              <a:off x="76320" y="152280"/>
              <a:ext cx="8991360" cy="6629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152280" y="228600"/>
              <a:ext cx="8839440" cy="6477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Line 5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8A168-850B-4A53-BB25-F82E8387809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AutoShape 11"/>
          <p:cNvSpPr/>
          <p:nvPr/>
        </p:nvSpPr>
        <p:spPr>
          <a:xfrm>
            <a:off x="-2819520" y="1447920"/>
            <a:ext cx="3657600" cy="365760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-16092" y="5172"/>
                </a:moveTo>
                <a:cubicBezTo>
                  <a:pt x="-7014" y="11076"/>
                  <a:pt x="-1536" y="21170"/>
                  <a:pt x="-1536" y="32000"/>
                </a:cubicBezTo>
                <a:cubicBezTo>
                  <a:pt x="-1536" y="-22707"/>
                  <a:pt x="-7014" y="-12613"/>
                  <a:pt x="-16092" y="-6709"/>
                </a:cubicBezTo>
                <a:cubicBezTo>
                  <a:pt x="-16092" y="-6709"/>
                  <a:pt x="-16093" y="-6709"/>
                  <a:pt x="-16093" y="-6709"/>
                </a:cubicBezTo>
                <a:lnTo>
                  <a:pt x="-16092" y="-6708"/>
                </a:lnTo>
                <a:lnTo>
                  <a:pt x="-16092" y="5172"/>
                </a:lnTo>
                <a:lnTo>
                  <a:pt x="-16093" y="5172"/>
                </a:lnTo>
                <a:cubicBezTo>
                  <a:pt x="-16093" y="5172"/>
                  <a:pt x="-16092" y="5172"/>
                  <a:pt x="-16092" y="5172"/>
                </a:cubicBezTo>
                <a:close/>
              </a:path>
            </a:pathLst>
          </a:custGeom>
          <a:solidFill>
            <a:srgbClr val="ffcc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AutoShape 12"/>
          <p:cNvSpPr/>
          <p:nvPr/>
        </p:nvSpPr>
        <p:spPr>
          <a:xfrm>
            <a:off x="-3352680" y="0"/>
            <a:ext cx="4038480" cy="403848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-12479" y="7904"/>
                </a:moveTo>
                <a:cubicBezTo>
                  <a:pt x="-5526" y="13981"/>
                  <a:pt x="-1536" y="22765"/>
                  <a:pt x="-1536" y="32000"/>
                </a:cubicBezTo>
                <a:cubicBezTo>
                  <a:pt x="-1536" y="-24302"/>
                  <a:pt x="-5526" y="-15518"/>
                  <a:pt x="-12479" y="-9441"/>
                </a:cubicBezTo>
                <a:cubicBezTo>
                  <a:pt x="-12479" y="-9441"/>
                  <a:pt x="-12479" y="-9441"/>
                  <a:pt x="-12480" y="-9441"/>
                </a:cubicBezTo>
                <a:lnTo>
                  <a:pt x="-12479" y="-9440"/>
                </a:lnTo>
                <a:lnTo>
                  <a:pt x="-12479" y="7904"/>
                </a:lnTo>
                <a:lnTo>
                  <a:pt x="-12480" y="7904"/>
                </a:lnTo>
                <a:cubicBezTo>
                  <a:pt x="-12479" y="7904"/>
                  <a:pt x="-12479" y="7904"/>
                  <a:pt x="-12479" y="7904"/>
                </a:cubicBezTo>
                <a:close/>
              </a:path>
            </a:pathLst>
          </a:custGeom>
          <a:solidFill>
            <a:srgbClr val="ff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76320" y="152280"/>
            <a:ext cx="8991360" cy="6629400"/>
            <a:chOff x="76320" y="152280"/>
            <a:chExt cx="8991360" cy="6629400"/>
          </a:xfrm>
        </p:grpSpPr>
        <p:sp>
          <p:nvSpPr>
            <p:cNvPr id="12" name="AutoShape 14"/>
            <p:cNvSpPr/>
            <p:nvPr/>
          </p:nvSpPr>
          <p:spPr>
            <a:xfrm>
              <a:off x="76320" y="152280"/>
              <a:ext cx="8991360" cy="6629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AutoShape 15"/>
            <p:cNvSpPr/>
            <p:nvPr/>
          </p:nvSpPr>
          <p:spPr>
            <a:xfrm>
              <a:off x="152280" y="228600"/>
              <a:ext cx="8839440" cy="6477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" name="Line 16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17"/>
          <p:cNvSpPr/>
          <p:nvPr/>
        </p:nvSpPr>
        <p:spPr>
          <a:xfrm>
            <a:off x="-2819520" y="1447920"/>
            <a:ext cx="3657600" cy="365760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-16092" y="5172"/>
                </a:moveTo>
                <a:cubicBezTo>
                  <a:pt x="-7014" y="11076"/>
                  <a:pt x="-1536" y="21170"/>
                  <a:pt x="-1536" y="32000"/>
                </a:cubicBezTo>
                <a:cubicBezTo>
                  <a:pt x="-1536" y="-22707"/>
                  <a:pt x="-7014" y="-12613"/>
                  <a:pt x="-16092" y="-6709"/>
                </a:cubicBezTo>
                <a:cubicBezTo>
                  <a:pt x="-16092" y="-6709"/>
                  <a:pt x="-16093" y="-6709"/>
                  <a:pt x="-16093" y="-6709"/>
                </a:cubicBezTo>
                <a:lnTo>
                  <a:pt x="-16092" y="-6708"/>
                </a:lnTo>
                <a:lnTo>
                  <a:pt x="-16092" y="5172"/>
                </a:lnTo>
                <a:lnTo>
                  <a:pt x="-16093" y="5172"/>
                </a:lnTo>
                <a:cubicBezTo>
                  <a:pt x="-16093" y="5172"/>
                  <a:pt x="-16092" y="5172"/>
                  <a:pt x="-16092" y="5172"/>
                </a:cubicBezTo>
                <a:close/>
              </a:path>
            </a:pathLst>
          </a:custGeom>
          <a:solidFill>
            <a:srgbClr val="ffcc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18"/>
          <p:cNvSpPr/>
          <p:nvPr/>
        </p:nvSpPr>
        <p:spPr>
          <a:xfrm>
            <a:off x="-3352680" y="0"/>
            <a:ext cx="4038480" cy="403848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-12479" y="7904"/>
                </a:moveTo>
                <a:cubicBezTo>
                  <a:pt x="-5526" y="13981"/>
                  <a:pt x="-1536" y="22765"/>
                  <a:pt x="-1536" y="32000"/>
                </a:cubicBezTo>
                <a:cubicBezTo>
                  <a:pt x="-1536" y="-24302"/>
                  <a:pt x="-5526" y="-15518"/>
                  <a:pt x="-12479" y="-9441"/>
                </a:cubicBezTo>
                <a:cubicBezTo>
                  <a:pt x="-12479" y="-9441"/>
                  <a:pt x="-12479" y="-9441"/>
                  <a:pt x="-12480" y="-9441"/>
                </a:cubicBezTo>
                <a:lnTo>
                  <a:pt x="-12479" y="-9440"/>
                </a:lnTo>
                <a:lnTo>
                  <a:pt x="-12479" y="7904"/>
                </a:lnTo>
                <a:lnTo>
                  <a:pt x="-12480" y="7904"/>
                </a:lnTo>
                <a:cubicBezTo>
                  <a:pt x="-12479" y="7904"/>
                  <a:pt x="-12479" y="7904"/>
                  <a:pt x="-12479" y="7904"/>
                </a:cubicBezTo>
                <a:close/>
              </a:path>
            </a:pathLst>
          </a:custGeom>
          <a:solidFill>
            <a:srgbClr val="ff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2"/>
          <p:cNvSpPr/>
          <p:nvPr/>
        </p:nvSpPr>
        <p:spPr>
          <a:xfrm>
            <a:off x="304920" y="380880"/>
            <a:ext cx="8534160" cy="5943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"/>
          <p:cNvSpPr/>
          <p:nvPr/>
        </p:nvSpPr>
        <p:spPr>
          <a:xfrm>
            <a:off x="380880" y="457200"/>
            <a:ext cx="8382240" cy="57913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4"/>
          <p:cNvSpPr/>
          <p:nvPr/>
        </p:nvSpPr>
        <p:spPr>
          <a:xfrm>
            <a:off x="1447920" y="2514600"/>
            <a:ext cx="693396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5"/>
          <p:cNvSpPr/>
          <p:nvPr/>
        </p:nvSpPr>
        <p:spPr>
          <a:xfrm>
            <a:off x="-2666880" y="1981080"/>
            <a:ext cx="3657600" cy="365760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-18980" y="3502"/>
                </a:moveTo>
                <a:cubicBezTo>
                  <a:pt x="-8274" y="8970"/>
                  <a:pt x="-1536" y="19978"/>
                  <a:pt x="-1536" y="32000"/>
                </a:cubicBezTo>
                <a:cubicBezTo>
                  <a:pt x="-1536" y="-21515"/>
                  <a:pt x="-8274" y="-10507"/>
                  <a:pt x="-18980" y="-5039"/>
                </a:cubicBezTo>
                <a:cubicBezTo>
                  <a:pt x="-18980" y="-5039"/>
                  <a:pt x="-18980" y="-5039"/>
                  <a:pt x="-18981" y="-5039"/>
                </a:cubicBezTo>
                <a:lnTo>
                  <a:pt x="-18980" y="-5038"/>
                </a:lnTo>
                <a:lnTo>
                  <a:pt x="-18980" y="3502"/>
                </a:lnTo>
                <a:lnTo>
                  <a:pt x="-18981" y="3502"/>
                </a:lnTo>
                <a:cubicBezTo>
                  <a:pt x="-18980" y="3502"/>
                  <a:pt x="-18980" y="3502"/>
                  <a:pt x="-18980" y="3502"/>
                </a:cubicBezTo>
                <a:close/>
              </a:path>
            </a:pathLst>
          </a:custGeom>
          <a:solidFill>
            <a:srgbClr val="ffcc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6"/>
          <p:cNvSpPr/>
          <p:nvPr/>
        </p:nvSpPr>
        <p:spPr>
          <a:xfrm>
            <a:off x="-3352680" y="533520"/>
            <a:ext cx="4038480" cy="403848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-12479" y="7904"/>
                </a:moveTo>
                <a:cubicBezTo>
                  <a:pt x="-5526" y="13981"/>
                  <a:pt x="-1536" y="22765"/>
                  <a:pt x="-1536" y="32000"/>
                </a:cubicBezTo>
                <a:cubicBezTo>
                  <a:pt x="-1536" y="-24302"/>
                  <a:pt x="-5526" y="-15518"/>
                  <a:pt x="-12479" y="-9441"/>
                </a:cubicBezTo>
                <a:cubicBezTo>
                  <a:pt x="-12479" y="-9441"/>
                  <a:pt x="-12479" y="-9441"/>
                  <a:pt x="-12480" y="-9441"/>
                </a:cubicBezTo>
                <a:lnTo>
                  <a:pt x="-12479" y="-9440"/>
                </a:lnTo>
                <a:lnTo>
                  <a:pt x="-12479" y="7904"/>
                </a:lnTo>
                <a:lnTo>
                  <a:pt x="-12480" y="7904"/>
                </a:lnTo>
                <a:cubicBezTo>
                  <a:pt x="-12479" y="7904"/>
                  <a:pt x="-12479" y="7904"/>
                  <a:pt x="-12479" y="7904"/>
                </a:cubicBezTo>
                <a:close/>
              </a:path>
            </a:pathLst>
          </a:custGeom>
          <a:solidFill>
            <a:srgbClr val="ff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2"/>
          <p:cNvSpPr/>
          <p:nvPr/>
        </p:nvSpPr>
        <p:spPr>
          <a:xfrm>
            <a:off x="304920" y="380880"/>
            <a:ext cx="8534160" cy="5943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3"/>
          <p:cNvSpPr/>
          <p:nvPr/>
        </p:nvSpPr>
        <p:spPr>
          <a:xfrm>
            <a:off x="380880" y="457200"/>
            <a:ext cx="8382240" cy="57913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4"/>
          <p:cNvSpPr/>
          <p:nvPr/>
        </p:nvSpPr>
        <p:spPr>
          <a:xfrm>
            <a:off x="1447920" y="2514600"/>
            <a:ext cx="693396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5"/>
          <p:cNvSpPr/>
          <p:nvPr/>
        </p:nvSpPr>
        <p:spPr>
          <a:xfrm>
            <a:off x="-2666880" y="1981080"/>
            <a:ext cx="3657600" cy="365760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-18980" y="3502"/>
                </a:moveTo>
                <a:cubicBezTo>
                  <a:pt x="-8274" y="8970"/>
                  <a:pt x="-1536" y="19978"/>
                  <a:pt x="-1536" y="32000"/>
                </a:cubicBezTo>
                <a:cubicBezTo>
                  <a:pt x="-1536" y="-21515"/>
                  <a:pt x="-8274" y="-10507"/>
                  <a:pt x="-18980" y="-5039"/>
                </a:cubicBezTo>
                <a:cubicBezTo>
                  <a:pt x="-18980" y="-5039"/>
                  <a:pt x="-18980" y="-5039"/>
                  <a:pt x="-18981" y="-5039"/>
                </a:cubicBezTo>
                <a:lnTo>
                  <a:pt x="-18980" y="-5038"/>
                </a:lnTo>
                <a:lnTo>
                  <a:pt x="-18980" y="3502"/>
                </a:lnTo>
                <a:lnTo>
                  <a:pt x="-18981" y="3502"/>
                </a:lnTo>
                <a:cubicBezTo>
                  <a:pt x="-18980" y="3502"/>
                  <a:pt x="-18980" y="3502"/>
                  <a:pt x="-18980" y="3502"/>
                </a:cubicBezTo>
                <a:close/>
              </a:path>
            </a:pathLst>
          </a:custGeom>
          <a:solidFill>
            <a:srgbClr val="ffcc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6"/>
          <p:cNvSpPr/>
          <p:nvPr/>
        </p:nvSpPr>
        <p:spPr>
          <a:xfrm>
            <a:off x="-3352680" y="533520"/>
            <a:ext cx="4038480" cy="403848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-12479" y="7904"/>
                </a:moveTo>
                <a:cubicBezTo>
                  <a:pt x="-5526" y="13981"/>
                  <a:pt x="-1536" y="22765"/>
                  <a:pt x="-1536" y="32000"/>
                </a:cubicBezTo>
                <a:cubicBezTo>
                  <a:pt x="-1536" y="-24302"/>
                  <a:pt x="-5526" y="-15518"/>
                  <a:pt x="-12479" y="-9441"/>
                </a:cubicBezTo>
                <a:cubicBezTo>
                  <a:pt x="-12479" y="-9441"/>
                  <a:pt x="-12479" y="-9441"/>
                  <a:pt x="-12480" y="-9441"/>
                </a:cubicBezTo>
                <a:lnTo>
                  <a:pt x="-12479" y="-9440"/>
                </a:lnTo>
                <a:lnTo>
                  <a:pt x="-12479" y="7904"/>
                </a:lnTo>
                <a:lnTo>
                  <a:pt x="-12480" y="7904"/>
                </a:lnTo>
                <a:cubicBezTo>
                  <a:pt x="-12479" y="7904"/>
                  <a:pt x="-12479" y="7904"/>
                  <a:pt x="-12479" y="7904"/>
                </a:cubicBezTo>
                <a:close/>
              </a:path>
            </a:pathLst>
          </a:custGeom>
          <a:solidFill>
            <a:srgbClr val="ff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60EB7-75F1-4AF1-830A-6C0514E53FB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2"/>
          <p:cNvSpPr/>
          <p:nvPr/>
        </p:nvSpPr>
        <p:spPr>
          <a:xfrm>
            <a:off x="304920" y="380880"/>
            <a:ext cx="8534160" cy="5943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3"/>
          <p:cNvSpPr/>
          <p:nvPr/>
        </p:nvSpPr>
        <p:spPr>
          <a:xfrm>
            <a:off x="380880" y="457200"/>
            <a:ext cx="8382240" cy="57913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4"/>
          <p:cNvSpPr/>
          <p:nvPr/>
        </p:nvSpPr>
        <p:spPr>
          <a:xfrm>
            <a:off x="1447920" y="2514600"/>
            <a:ext cx="693396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-2666880" y="1981080"/>
            <a:ext cx="3657600" cy="365760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-18980" y="3502"/>
                </a:moveTo>
                <a:cubicBezTo>
                  <a:pt x="-8274" y="8970"/>
                  <a:pt x="-1536" y="19978"/>
                  <a:pt x="-1536" y="32000"/>
                </a:cubicBezTo>
                <a:cubicBezTo>
                  <a:pt x="-1536" y="-21515"/>
                  <a:pt x="-8274" y="-10507"/>
                  <a:pt x="-18980" y="-5039"/>
                </a:cubicBezTo>
                <a:cubicBezTo>
                  <a:pt x="-18980" y="-5039"/>
                  <a:pt x="-18980" y="-5039"/>
                  <a:pt x="-18981" y="-5039"/>
                </a:cubicBezTo>
                <a:lnTo>
                  <a:pt x="-18980" y="-5038"/>
                </a:lnTo>
                <a:lnTo>
                  <a:pt x="-18980" y="3502"/>
                </a:lnTo>
                <a:lnTo>
                  <a:pt x="-18981" y="3502"/>
                </a:lnTo>
                <a:cubicBezTo>
                  <a:pt x="-18980" y="3502"/>
                  <a:pt x="-18980" y="3502"/>
                  <a:pt x="-18980" y="3502"/>
                </a:cubicBezTo>
                <a:close/>
              </a:path>
            </a:pathLst>
          </a:custGeom>
          <a:solidFill>
            <a:srgbClr val="ffcc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-3352680" y="533520"/>
            <a:ext cx="4038480" cy="403848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-12479" y="7904"/>
                </a:moveTo>
                <a:cubicBezTo>
                  <a:pt x="-5526" y="13981"/>
                  <a:pt x="-1536" y="22765"/>
                  <a:pt x="-1536" y="32000"/>
                </a:cubicBezTo>
                <a:cubicBezTo>
                  <a:pt x="-1536" y="-24302"/>
                  <a:pt x="-5526" y="-15518"/>
                  <a:pt x="-12479" y="-9441"/>
                </a:cubicBezTo>
                <a:cubicBezTo>
                  <a:pt x="-12479" y="-9441"/>
                  <a:pt x="-12479" y="-9441"/>
                  <a:pt x="-12480" y="-9441"/>
                </a:cubicBezTo>
                <a:lnTo>
                  <a:pt x="-12479" y="-9440"/>
                </a:lnTo>
                <a:lnTo>
                  <a:pt x="-12479" y="7904"/>
                </a:lnTo>
                <a:lnTo>
                  <a:pt x="-12480" y="7904"/>
                </a:lnTo>
                <a:cubicBezTo>
                  <a:pt x="-12479" y="7904"/>
                  <a:pt x="-12479" y="7904"/>
                  <a:pt x="-12479" y="7904"/>
                </a:cubicBezTo>
                <a:close/>
              </a:path>
            </a:pathLst>
          </a:custGeom>
          <a:solidFill>
            <a:srgbClr val="ff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2"/>
          <p:cNvSpPr/>
          <p:nvPr/>
        </p:nvSpPr>
        <p:spPr>
          <a:xfrm>
            <a:off x="304920" y="380880"/>
            <a:ext cx="8534160" cy="5943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3"/>
          <p:cNvSpPr/>
          <p:nvPr/>
        </p:nvSpPr>
        <p:spPr>
          <a:xfrm>
            <a:off x="380880" y="457200"/>
            <a:ext cx="8382240" cy="57913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4"/>
          <p:cNvSpPr/>
          <p:nvPr/>
        </p:nvSpPr>
        <p:spPr>
          <a:xfrm>
            <a:off x="1447920" y="2514600"/>
            <a:ext cx="693396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5"/>
          <p:cNvSpPr/>
          <p:nvPr/>
        </p:nvSpPr>
        <p:spPr>
          <a:xfrm>
            <a:off x="-2666880" y="1981080"/>
            <a:ext cx="3657600" cy="365760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-18980" y="3502"/>
                </a:moveTo>
                <a:cubicBezTo>
                  <a:pt x="-8274" y="8970"/>
                  <a:pt x="-1536" y="19978"/>
                  <a:pt x="-1536" y="32000"/>
                </a:cubicBezTo>
                <a:cubicBezTo>
                  <a:pt x="-1536" y="-21515"/>
                  <a:pt x="-8274" y="-10507"/>
                  <a:pt x="-18980" y="-5039"/>
                </a:cubicBezTo>
                <a:cubicBezTo>
                  <a:pt x="-18980" y="-5039"/>
                  <a:pt x="-18980" y="-5039"/>
                  <a:pt x="-18981" y="-5039"/>
                </a:cubicBezTo>
                <a:lnTo>
                  <a:pt x="-18980" y="-5038"/>
                </a:lnTo>
                <a:lnTo>
                  <a:pt x="-18980" y="3502"/>
                </a:lnTo>
                <a:lnTo>
                  <a:pt x="-18981" y="3502"/>
                </a:lnTo>
                <a:cubicBezTo>
                  <a:pt x="-18980" y="3502"/>
                  <a:pt x="-18980" y="3502"/>
                  <a:pt x="-18980" y="3502"/>
                </a:cubicBezTo>
                <a:close/>
              </a:path>
            </a:pathLst>
          </a:custGeom>
          <a:solidFill>
            <a:srgbClr val="ffcc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-3352680" y="533520"/>
            <a:ext cx="4038480" cy="403848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-12479" y="7904"/>
                </a:moveTo>
                <a:cubicBezTo>
                  <a:pt x="-5526" y="13981"/>
                  <a:pt x="-1536" y="22765"/>
                  <a:pt x="-1536" y="32000"/>
                </a:cubicBezTo>
                <a:cubicBezTo>
                  <a:pt x="-1536" y="-24302"/>
                  <a:pt x="-5526" y="-15518"/>
                  <a:pt x="-12479" y="-9441"/>
                </a:cubicBezTo>
                <a:cubicBezTo>
                  <a:pt x="-12479" y="-9441"/>
                  <a:pt x="-12479" y="-9441"/>
                  <a:pt x="-12480" y="-9441"/>
                </a:cubicBezTo>
                <a:lnTo>
                  <a:pt x="-12479" y="-9440"/>
                </a:lnTo>
                <a:lnTo>
                  <a:pt x="-12479" y="7904"/>
                </a:lnTo>
                <a:lnTo>
                  <a:pt x="-12480" y="7904"/>
                </a:lnTo>
                <a:cubicBezTo>
                  <a:pt x="-12479" y="7904"/>
                  <a:pt x="-12479" y="7904"/>
                  <a:pt x="-12479" y="7904"/>
                </a:cubicBezTo>
                <a:close/>
              </a:path>
            </a:pathLst>
          </a:custGeom>
          <a:solidFill>
            <a:srgbClr val="ff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66C3A-59F2-4022-A578-299990C582C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AutoShape 2"/>
          <p:cNvSpPr/>
          <p:nvPr/>
        </p:nvSpPr>
        <p:spPr>
          <a:xfrm>
            <a:off x="304920" y="380880"/>
            <a:ext cx="8534160" cy="5943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3"/>
          <p:cNvSpPr/>
          <p:nvPr/>
        </p:nvSpPr>
        <p:spPr>
          <a:xfrm>
            <a:off x="380880" y="457200"/>
            <a:ext cx="8382240" cy="57913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5"/>
          <p:cNvSpPr/>
          <p:nvPr/>
        </p:nvSpPr>
        <p:spPr>
          <a:xfrm>
            <a:off x="-2666880" y="1981080"/>
            <a:ext cx="3657600" cy="365760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-18980" y="3502"/>
                </a:moveTo>
                <a:cubicBezTo>
                  <a:pt x="-8274" y="8970"/>
                  <a:pt x="-1536" y="19978"/>
                  <a:pt x="-1536" y="32000"/>
                </a:cubicBezTo>
                <a:cubicBezTo>
                  <a:pt x="-1536" y="-21515"/>
                  <a:pt x="-8274" y="-10507"/>
                  <a:pt x="-18980" y="-5039"/>
                </a:cubicBezTo>
                <a:cubicBezTo>
                  <a:pt x="-18980" y="-5039"/>
                  <a:pt x="-18980" y="-5039"/>
                  <a:pt x="-18981" y="-5039"/>
                </a:cubicBezTo>
                <a:lnTo>
                  <a:pt x="-18980" y="-5038"/>
                </a:lnTo>
                <a:lnTo>
                  <a:pt x="-18980" y="3502"/>
                </a:lnTo>
                <a:lnTo>
                  <a:pt x="-18981" y="3502"/>
                </a:lnTo>
                <a:cubicBezTo>
                  <a:pt x="-18980" y="3502"/>
                  <a:pt x="-18980" y="3502"/>
                  <a:pt x="-18980" y="3502"/>
                </a:cubicBezTo>
                <a:close/>
              </a:path>
            </a:pathLst>
          </a:custGeom>
          <a:solidFill>
            <a:srgbClr val="ffcc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-3352680" y="533520"/>
            <a:ext cx="4038480" cy="403848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-12479" y="7904"/>
                </a:moveTo>
                <a:cubicBezTo>
                  <a:pt x="-5526" y="13981"/>
                  <a:pt x="-1536" y="22765"/>
                  <a:pt x="-1536" y="32000"/>
                </a:cubicBezTo>
                <a:cubicBezTo>
                  <a:pt x="-1536" y="-24302"/>
                  <a:pt x="-5526" y="-15518"/>
                  <a:pt x="-12479" y="-9441"/>
                </a:cubicBezTo>
                <a:cubicBezTo>
                  <a:pt x="-12479" y="-9441"/>
                  <a:pt x="-12479" y="-9441"/>
                  <a:pt x="-12480" y="-9441"/>
                </a:cubicBezTo>
                <a:lnTo>
                  <a:pt x="-12479" y="-9440"/>
                </a:lnTo>
                <a:lnTo>
                  <a:pt x="-12479" y="7904"/>
                </a:lnTo>
                <a:lnTo>
                  <a:pt x="-12480" y="7904"/>
                </a:lnTo>
                <a:cubicBezTo>
                  <a:pt x="-12479" y="7904"/>
                  <a:pt x="-12479" y="7904"/>
                  <a:pt x="-12479" y="7904"/>
                </a:cubicBezTo>
                <a:close/>
              </a:path>
            </a:pathLst>
          </a:custGeom>
          <a:solidFill>
            <a:srgbClr val="ff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2"/>
          <p:cNvSpPr/>
          <p:nvPr/>
        </p:nvSpPr>
        <p:spPr>
          <a:xfrm>
            <a:off x="304920" y="380880"/>
            <a:ext cx="8534160" cy="5943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13"/>
          <p:cNvSpPr/>
          <p:nvPr/>
        </p:nvSpPr>
        <p:spPr>
          <a:xfrm>
            <a:off x="380880" y="457200"/>
            <a:ext cx="8382240" cy="57913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4"/>
          <p:cNvSpPr/>
          <p:nvPr/>
        </p:nvSpPr>
        <p:spPr>
          <a:xfrm>
            <a:off x="1447920" y="3429000"/>
            <a:ext cx="693396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5"/>
          <p:cNvSpPr/>
          <p:nvPr/>
        </p:nvSpPr>
        <p:spPr>
          <a:xfrm>
            <a:off x="-2666880" y="1981080"/>
            <a:ext cx="3657600" cy="365760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-18980" y="3502"/>
                </a:moveTo>
                <a:cubicBezTo>
                  <a:pt x="-8274" y="8970"/>
                  <a:pt x="-1536" y="19978"/>
                  <a:pt x="-1536" y="32000"/>
                </a:cubicBezTo>
                <a:cubicBezTo>
                  <a:pt x="-1536" y="-21515"/>
                  <a:pt x="-8274" y="-10507"/>
                  <a:pt x="-18980" y="-5039"/>
                </a:cubicBezTo>
                <a:cubicBezTo>
                  <a:pt x="-18980" y="-5039"/>
                  <a:pt x="-18980" y="-5039"/>
                  <a:pt x="-18981" y="-5039"/>
                </a:cubicBezTo>
                <a:lnTo>
                  <a:pt x="-18980" y="-5038"/>
                </a:lnTo>
                <a:lnTo>
                  <a:pt x="-18980" y="3502"/>
                </a:lnTo>
                <a:lnTo>
                  <a:pt x="-18981" y="3502"/>
                </a:lnTo>
                <a:cubicBezTo>
                  <a:pt x="-18980" y="3502"/>
                  <a:pt x="-18980" y="3502"/>
                  <a:pt x="-18980" y="3502"/>
                </a:cubicBezTo>
                <a:close/>
              </a:path>
            </a:pathLst>
          </a:custGeom>
          <a:solidFill>
            <a:srgbClr val="ffcc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6"/>
          <p:cNvSpPr/>
          <p:nvPr/>
        </p:nvSpPr>
        <p:spPr>
          <a:xfrm>
            <a:off x="-3352680" y="533520"/>
            <a:ext cx="4038480" cy="403848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-12479" y="7904"/>
                </a:moveTo>
                <a:cubicBezTo>
                  <a:pt x="-5526" y="13981"/>
                  <a:pt x="-1536" y="22765"/>
                  <a:pt x="-1536" y="32000"/>
                </a:cubicBezTo>
                <a:cubicBezTo>
                  <a:pt x="-1536" y="-24302"/>
                  <a:pt x="-5526" y="-15518"/>
                  <a:pt x="-12479" y="-9441"/>
                </a:cubicBezTo>
                <a:cubicBezTo>
                  <a:pt x="-12479" y="-9441"/>
                  <a:pt x="-12479" y="-9441"/>
                  <a:pt x="-12480" y="-9441"/>
                </a:cubicBezTo>
                <a:lnTo>
                  <a:pt x="-12479" y="-9440"/>
                </a:lnTo>
                <a:lnTo>
                  <a:pt x="-12479" y="7904"/>
                </a:lnTo>
                <a:lnTo>
                  <a:pt x="-12480" y="7904"/>
                </a:lnTo>
                <a:cubicBezTo>
                  <a:pt x="-12479" y="7904"/>
                  <a:pt x="-12479" y="7904"/>
                  <a:pt x="-12479" y="7904"/>
                </a:cubicBezTo>
                <a:close/>
              </a:path>
            </a:pathLst>
          </a:custGeom>
          <a:solidFill>
            <a:srgbClr val="ff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63605-C1F0-41CC-9572-5BBFAE916F6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"/>
          <p:cNvGrpSpPr/>
          <p:nvPr/>
        </p:nvGrpSpPr>
        <p:grpSpPr>
          <a:xfrm>
            <a:off x="76320" y="152280"/>
            <a:ext cx="8991360" cy="6629400"/>
            <a:chOff x="76320" y="152280"/>
            <a:chExt cx="8991360" cy="6629400"/>
          </a:xfrm>
        </p:grpSpPr>
        <p:sp>
          <p:nvSpPr>
            <p:cNvPr id="206" name="AutoShape 3"/>
            <p:cNvSpPr/>
            <p:nvPr/>
          </p:nvSpPr>
          <p:spPr>
            <a:xfrm>
              <a:off x="76320" y="152280"/>
              <a:ext cx="8991360" cy="6629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4"/>
            <p:cNvSpPr/>
            <p:nvPr/>
          </p:nvSpPr>
          <p:spPr>
            <a:xfrm>
              <a:off x="152280" y="228600"/>
              <a:ext cx="8839440" cy="6477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Line 5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1"/>
          <p:cNvSpPr/>
          <p:nvPr/>
        </p:nvSpPr>
        <p:spPr>
          <a:xfrm>
            <a:off x="-2819520" y="1447920"/>
            <a:ext cx="3657600" cy="365760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-16092" y="5172"/>
                </a:moveTo>
                <a:cubicBezTo>
                  <a:pt x="-7014" y="11076"/>
                  <a:pt x="-1536" y="21170"/>
                  <a:pt x="-1536" y="32000"/>
                </a:cubicBezTo>
                <a:cubicBezTo>
                  <a:pt x="-1536" y="-22707"/>
                  <a:pt x="-7014" y="-12613"/>
                  <a:pt x="-16092" y="-6709"/>
                </a:cubicBezTo>
                <a:cubicBezTo>
                  <a:pt x="-16092" y="-6709"/>
                  <a:pt x="-16093" y="-6709"/>
                  <a:pt x="-16093" y="-6709"/>
                </a:cubicBezTo>
                <a:lnTo>
                  <a:pt x="-16092" y="-6708"/>
                </a:lnTo>
                <a:lnTo>
                  <a:pt x="-16092" y="5172"/>
                </a:lnTo>
                <a:lnTo>
                  <a:pt x="-16093" y="5172"/>
                </a:lnTo>
                <a:cubicBezTo>
                  <a:pt x="-16093" y="5172"/>
                  <a:pt x="-16092" y="5172"/>
                  <a:pt x="-16092" y="5172"/>
                </a:cubicBezTo>
                <a:close/>
              </a:path>
            </a:pathLst>
          </a:custGeom>
          <a:solidFill>
            <a:srgbClr val="ffcc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12"/>
          <p:cNvSpPr/>
          <p:nvPr/>
        </p:nvSpPr>
        <p:spPr>
          <a:xfrm>
            <a:off x="-3352680" y="0"/>
            <a:ext cx="4038480" cy="403848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-12479" y="7904"/>
                </a:moveTo>
                <a:cubicBezTo>
                  <a:pt x="-5526" y="13981"/>
                  <a:pt x="-1536" y="22765"/>
                  <a:pt x="-1536" y="32000"/>
                </a:cubicBezTo>
                <a:cubicBezTo>
                  <a:pt x="-1536" y="-24302"/>
                  <a:pt x="-5526" y="-15518"/>
                  <a:pt x="-12479" y="-9441"/>
                </a:cubicBezTo>
                <a:cubicBezTo>
                  <a:pt x="-12479" y="-9441"/>
                  <a:pt x="-12479" y="-9441"/>
                  <a:pt x="-12480" y="-9441"/>
                </a:cubicBezTo>
                <a:lnTo>
                  <a:pt x="-12479" y="-9440"/>
                </a:lnTo>
                <a:lnTo>
                  <a:pt x="-12479" y="7904"/>
                </a:lnTo>
                <a:lnTo>
                  <a:pt x="-12480" y="7904"/>
                </a:lnTo>
                <a:cubicBezTo>
                  <a:pt x="-12479" y="7904"/>
                  <a:pt x="-12479" y="7904"/>
                  <a:pt x="-12479" y="7904"/>
                </a:cubicBezTo>
                <a:close/>
              </a:path>
            </a:pathLst>
          </a:custGeom>
          <a:solidFill>
            <a:srgbClr val="ff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13"/>
          <p:cNvGrpSpPr/>
          <p:nvPr/>
        </p:nvGrpSpPr>
        <p:grpSpPr>
          <a:xfrm>
            <a:off x="76320" y="152280"/>
            <a:ext cx="8991360" cy="6629400"/>
            <a:chOff x="76320" y="152280"/>
            <a:chExt cx="8991360" cy="6629400"/>
          </a:xfrm>
        </p:grpSpPr>
        <p:sp>
          <p:nvSpPr>
            <p:cNvPr id="212" name="AutoShape 14"/>
            <p:cNvSpPr/>
            <p:nvPr/>
          </p:nvSpPr>
          <p:spPr>
            <a:xfrm>
              <a:off x="76320" y="152280"/>
              <a:ext cx="8991360" cy="6629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15"/>
            <p:cNvSpPr/>
            <p:nvPr/>
          </p:nvSpPr>
          <p:spPr>
            <a:xfrm>
              <a:off x="152280" y="228600"/>
              <a:ext cx="8839440" cy="6477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Line 16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7"/>
          <p:cNvSpPr/>
          <p:nvPr/>
        </p:nvSpPr>
        <p:spPr>
          <a:xfrm>
            <a:off x="-2819520" y="1447920"/>
            <a:ext cx="3657600" cy="365760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-16092" y="5172"/>
                </a:moveTo>
                <a:cubicBezTo>
                  <a:pt x="-7014" y="11076"/>
                  <a:pt x="-1536" y="21170"/>
                  <a:pt x="-1536" y="32000"/>
                </a:cubicBezTo>
                <a:cubicBezTo>
                  <a:pt x="-1536" y="-22707"/>
                  <a:pt x="-7014" y="-12613"/>
                  <a:pt x="-16092" y="-6709"/>
                </a:cubicBezTo>
                <a:cubicBezTo>
                  <a:pt x="-16092" y="-6709"/>
                  <a:pt x="-16093" y="-6709"/>
                  <a:pt x="-16093" y="-6709"/>
                </a:cubicBezTo>
                <a:lnTo>
                  <a:pt x="-16092" y="-6708"/>
                </a:lnTo>
                <a:lnTo>
                  <a:pt x="-16092" y="5172"/>
                </a:lnTo>
                <a:lnTo>
                  <a:pt x="-16093" y="5172"/>
                </a:lnTo>
                <a:cubicBezTo>
                  <a:pt x="-16093" y="5172"/>
                  <a:pt x="-16092" y="5172"/>
                  <a:pt x="-16092" y="5172"/>
                </a:cubicBezTo>
                <a:close/>
              </a:path>
            </a:pathLst>
          </a:custGeom>
          <a:solidFill>
            <a:srgbClr val="ffcc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8"/>
          <p:cNvSpPr/>
          <p:nvPr/>
        </p:nvSpPr>
        <p:spPr>
          <a:xfrm>
            <a:off x="-3352680" y="0"/>
            <a:ext cx="4038480" cy="403848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-12479" y="7904"/>
                </a:moveTo>
                <a:cubicBezTo>
                  <a:pt x="-5526" y="13981"/>
                  <a:pt x="-1536" y="22765"/>
                  <a:pt x="-1536" y="32000"/>
                </a:cubicBezTo>
                <a:cubicBezTo>
                  <a:pt x="-1536" y="-24302"/>
                  <a:pt x="-5526" y="-15518"/>
                  <a:pt x="-12479" y="-9441"/>
                </a:cubicBezTo>
                <a:cubicBezTo>
                  <a:pt x="-12479" y="-9441"/>
                  <a:pt x="-12479" y="-9441"/>
                  <a:pt x="-12480" y="-9441"/>
                </a:cubicBezTo>
                <a:lnTo>
                  <a:pt x="-12479" y="-9440"/>
                </a:lnTo>
                <a:lnTo>
                  <a:pt x="-12479" y="7904"/>
                </a:lnTo>
                <a:lnTo>
                  <a:pt x="-12480" y="7904"/>
                </a:lnTo>
                <a:cubicBezTo>
                  <a:pt x="-12479" y="7904"/>
                  <a:pt x="-12479" y="7904"/>
                  <a:pt x="-12479" y="7904"/>
                </a:cubicBezTo>
                <a:close/>
              </a:path>
            </a:pathLst>
          </a:custGeom>
          <a:solidFill>
            <a:srgbClr val="ff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5" descr="c39bbb5fb86c"/>
          <p:cNvPicPr/>
          <p:nvPr/>
        </p:nvPicPr>
        <p:blipFill>
          <a:blip r:embed="rId1"/>
          <a:stretch/>
        </p:blipFill>
        <p:spPr>
          <a:xfrm>
            <a:off x="1476360" y="0"/>
            <a:ext cx="7416720" cy="629136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85880" y="642600"/>
            <a:ext cx="767232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«Роль образовательной среды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в развитии ребёнка дошкольника»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Из опыта работы</a:t>
            </a:r>
            <a:endParaRPr b="0" lang="en-US" sz="1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539280" y="4581000"/>
            <a:ext cx="774396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Verdana"/>
              </a:rPr>
              <a:t>Рязанова Неля Александровна</a:t>
            </a: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Verdana"/>
              </a:rPr>
              <a:t>Старший воспитатель МКДОУ Нововоронежский детский сад №8 «Солнышко»</a:t>
            </a: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Verdana"/>
              </a:rPr>
              <a:t>2014год</a:t>
            </a: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голок настроения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«Здравствуйте, я пришёл»</a:t>
            </a:r>
            <a:endParaRPr b="0" lang="en-US" sz="20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102280" y="1699920"/>
            <a:ext cx="3581280" cy="453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Размещая утром бантик на свой значок, ребёнок начинает чувствовать себя членом данного сообщества детей и взрослых. С помощью цвета выбранного ребёнком бантика воспитатели и родители могут отследить эмоциональное состояние каждого ребёнка в течении дня, а дети к подготовительной группе учатся осознавать эмоциональное состояние своё и сверстников.</a:t>
            </a: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</p:txBody>
      </p:sp>
      <p:pic>
        <p:nvPicPr>
          <p:cNvPr id="294" name="Picture 11" descr="SL383125"/>
          <p:cNvPicPr/>
          <p:nvPr/>
        </p:nvPicPr>
        <p:blipFill>
          <a:blip r:embed="rId1"/>
          <a:stretch/>
        </p:blipFill>
        <p:spPr>
          <a:xfrm>
            <a:off x="1908000" y="1844640"/>
            <a:ext cx="3007080" cy="40086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58920" y="404640"/>
            <a:ext cx="7313760" cy="10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0000"/>
              </a:solidFill>
              <a:latin typeface="Georgia"/>
            </a:endParaRPr>
          </a:p>
        </p:txBody>
      </p:sp>
      <p:pic>
        <p:nvPicPr>
          <p:cNvPr id="296" name="Picture 81" descr="SL383213"/>
          <p:cNvPicPr/>
          <p:nvPr/>
        </p:nvPicPr>
        <p:blipFill>
          <a:blip r:embed="rId1"/>
          <a:stretch/>
        </p:blipFill>
        <p:spPr>
          <a:xfrm>
            <a:off x="1433520" y="1647720"/>
            <a:ext cx="3365640" cy="2524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97" name=""/>
          <p:cNvSpPr txBox="1"/>
          <p:nvPr/>
        </p:nvSpPr>
        <p:spPr>
          <a:xfrm>
            <a:off x="5076360" y="2349360"/>
            <a:ext cx="358164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Центр экспериментирования</a:t>
            </a: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1370160" y="3960720"/>
            <a:ext cx="357984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77777"/>
              </a:solidFill>
              <a:latin typeface="Verdana"/>
            </a:endParaRPr>
          </a:p>
        </p:txBody>
      </p:sp>
      <p:pic>
        <p:nvPicPr>
          <p:cNvPr id="299" name="Picture 83" descr="Фото 088"/>
          <p:cNvPicPr/>
          <p:nvPr/>
        </p:nvPicPr>
        <p:blipFill>
          <a:blip r:embed="rId2"/>
          <a:stretch/>
        </p:blipFill>
        <p:spPr>
          <a:xfrm>
            <a:off x="5148360" y="3195720"/>
            <a:ext cx="3384360" cy="2538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300" name="Rectangle 84"/>
          <p:cNvSpPr/>
          <p:nvPr/>
        </p:nvSpPr>
        <p:spPr>
          <a:xfrm>
            <a:off x="1258920" y="4581360"/>
            <a:ext cx="37148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олифункциональная стена «Времена года», которую используем не только для ознакомления с окружающим, но и для речевого развития, для математических упражн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86"/>
          <p:cNvSpPr/>
          <p:nvPr/>
        </p:nvSpPr>
        <p:spPr>
          <a:xfrm>
            <a:off x="2411280" y="549360"/>
            <a:ext cx="4572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голок прир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«От зелёной весны до белой зим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14280" y="714240"/>
            <a:ext cx="3571920" cy="62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мок знаний </a:t>
            </a:r>
            <a:br>
              <a:rPr sz="2000"/>
            </a:b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«Умка»</a:t>
            </a:r>
            <a:endParaRPr b="0" lang="en-US" sz="20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28480" y="4286160"/>
            <a:ext cx="3025800" cy="1857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Из «Замка знаний» каждый малыш может черпать, сколько захочет.</a:t>
            </a:r>
            <a:endParaRPr b="0" lang="en-US" sz="14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Образ красивый, а его воплощение – эстетично и функционально.</a:t>
            </a:r>
            <a:endParaRPr b="0" lang="en-US" sz="1400" spc="-1" strike="noStrike">
              <a:solidFill>
                <a:srgbClr val="777777"/>
              </a:solidFill>
              <a:latin typeface="Verdana"/>
            </a:endParaRPr>
          </a:p>
        </p:txBody>
      </p:sp>
      <p:pic>
        <p:nvPicPr>
          <p:cNvPr id="304" name="Picture 9" descr="SL383212"/>
          <p:cNvPicPr/>
          <p:nvPr/>
        </p:nvPicPr>
        <p:blipFill>
          <a:blip r:embed="rId1"/>
          <a:stretch/>
        </p:blipFill>
        <p:spPr>
          <a:xfrm>
            <a:off x="1403280" y="1662120"/>
            <a:ext cx="3141720" cy="23544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305" name="Picture 12" descr="IMG_1277"/>
          <p:cNvPicPr/>
          <p:nvPr/>
        </p:nvPicPr>
        <p:blipFill>
          <a:blip r:embed="rId2"/>
          <a:stretch/>
        </p:blipFill>
        <p:spPr>
          <a:xfrm>
            <a:off x="5307120" y="1773360"/>
            <a:ext cx="3173400" cy="422748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sp>
        <p:nvSpPr>
          <p:cNvPr id="306" name="Rectangle 4"/>
          <p:cNvSpPr/>
          <p:nvPr/>
        </p:nvSpPr>
        <p:spPr>
          <a:xfrm>
            <a:off x="5072040" y="620640"/>
            <a:ext cx="364320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голок ОБЖ </a:t>
            </a:r>
            <a:br>
              <a:rPr sz="2000"/>
            </a:b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«Азбука безопасност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еатрально – музыкальный уголок</a:t>
            </a:r>
            <a:br>
              <a:rPr sz="2000"/>
            </a:b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Сказкоград «У Лукоморья»</a:t>
            </a:r>
            <a:endParaRPr b="0" lang="en-US" sz="20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5102280" y="4724280"/>
            <a:ext cx="3581280" cy="1441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Здесь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живут самые разнообразные представители кукольного театра и музыкальные инструменты. Здесь рождаются новые театральные идеи.</a:t>
            </a:r>
            <a:endParaRPr b="0" lang="en-US" sz="1400" spc="-1" strike="noStrike">
              <a:solidFill>
                <a:srgbClr val="777777"/>
              </a:solidFill>
              <a:latin typeface="Verdana"/>
            </a:endParaRPr>
          </a:p>
        </p:txBody>
      </p:sp>
      <p:pic>
        <p:nvPicPr>
          <p:cNvPr id="309" name="Picture 9" descr="IMG_3316"/>
          <p:cNvPicPr/>
          <p:nvPr/>
        </p:nvPicPr>
        <p:blipFill>
          <a:blip r:embed="rId1"/>
          <a:stretch/>
        </p:blipFill>
        <p:spPr>
          <a:xfrm>
            <a:off x="5148360" y="1825560"/>
            <a:ext cx="3311280" cy="25416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310" name="Picture 10" descr="IMG_3324"/>
          <p:cNvPicPr/>
          <p:nvPr/>
        </p:nvPicPr>
        <p:blipFill>
          <a:blip r:embed="rId2"/>
          <a:stretch/>
        </p:blipFill>
        <p:spPr>
          <a:xfrm>
            <a:off x="1387440" y="1844640"/>
            <a:ext cx="3195720" cy="39132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5579640" y="907560"/>
            <a:ext cx="2521080" cy="4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«Сонные игрушки»</a:t>
            </a: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1258920" y="836640"/>
            <a:ext cx="320184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ctr">
              <a:lnSpc>
                <a:spcPct val="100000"/>
              </a:lnSpc>
              <a:spcBef>
                <a:spcPts val="400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Музей говорящих вещей 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«Бабушкин уголок»</a:t>
            </a: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</p:txBody>
      </p:sp>
      <p:pic>
        <p:nvPicPr>
          <p:cNvPr id="313" name="Picture 13" descr="P03-09-10_16"/>
          <p:cNvPicPr/>
          <p:nvPr/>
        </p:nvPicPr>
        <p:blipFill>
          <a:blip r:embed="rId1"/>
          <a:stretch/>
        </p:blipFill>
        <p:spPr>
          <a:xfrm>
            <a:off x="1692360" y="2205000"/>
            <a:ext cx="2592360" cy="3456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314" name="Picture 14" descr="DSC_5518"/>
          <p:cNvPicPr/>
          <p:nvPr/>
        </p:nvPicPr>
        <p:blipFill>
          <a:blip r:embed="rId2"/>
          <a:stretch/>
        </p:blipFill>
        <p:spPr>
          <a:xfrm>
            <a:off x="5003640" y="2349360"/>
            <a:ext cx="3430800" cy="323712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голок физического развития </a:t>
            </a:r>
            <a:br>
              <a:rPr sz="2000"/>
            </a:b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«Островок Здоровья»</a:t>
            </a:r>
            <a:endParaRPr b="0" lang="en-US" sz="20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0" y="1827360"/>
            <a:ext cx="388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77777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281200" y="1827360"/>
            <a:ext cx="3862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77777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777777"/>
              </a:solidFill>
              <a:latin typeface="Verdana"/>
            </a:endParaRPr>
          </a:p>
        </p:txBody>
      </p:sp>
      <p:pic>
        <p:nvPicPr>
          <p:cNvPr id="318" name="Picture 11" descr="Фото 112"/>
          <p:cNvPicPr/>
          <p:nvPr/>
        </p:nvPicPr>
        <p:blipFill>
          <a:blip r:embed="rId1"/>
          <a:stretch/>
        </p:blipFill>
        <p:spPr>
          <a:xfrm>
            <a:off x="1547640" y="1773360"/>
            <a:ext cx="3456000" cy="46069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319" name=""/>
          <p:cNvSpPr txBox="1"/>
          <p:nvPr/>
        </p:nvSpPr>
        <p:spPr>
          <a:xfrm>
            <a:off x="5219280" y="1700280"/>
            <a:ext cx="3581640" cy="4681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Цель:</a:t>
            </a:r>
            <a:r>
              <a:rPr b="1" i="1" lang="ru-RU" sz="1400" spc="-1" strike="noStrike">
                <a:solidFill>
                  <a:srgbClr val="777777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развитие двигательной активности и физических качеств детей.</a:t>
            </a:r>
            <a:endParaRPr b="0" lang="en-US" sz="14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редметное наполнение уголка применяется в подвижных играх, в оздоровительных мероприятиях после дневного сна, индивидуальной двигательной деятельности, в свободной деятельности детей.</a:t>
            </a:r>
            <a:endParaRPr b="0" lang="en-US" sz="14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8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87280" y="1052280"/>
            <a:ext cx="3672000" cy="39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Уголок уединения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 «Ниша покоя»</a:t>
            </a:r>
            <a:endParaRPr b="0" lang="en-US" sz="1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932360" y="4797000"/>
            <a:ext cx="358128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гровая зона 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«Семья»</a:t>
            </a: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</p:txBody>
      </p:sp>
      <p:pic>
        <p:nvPicPr>
          <p:cNvPr id="322" name="Picture 8" descr="SL383217"/>
          <p:cNvPicPr/>
          <p:nvPr/>
        </p:nvPicPr>
        <p:blipFill>
          <a:blip r:embed="rId1"/>
          <a:stretch/>
        </p:blipFill>
        <p:spPr>
          <a:xfrm>
            <a:off x="1403280" y="1700280"/>
            <a:ext cx="3168720" cy="42242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323" name="Picture 9" descr="SL382688"/>
          <p:cNvPicPr/>
          <p:nvPr/>
        </p:nvPicPr>
        <p:blipFill>
          <a:blip r:embed="rId2"/>
          <a:stretch/>
        </p:blipFill>
        <p:spPr>
          <a:xfrm>
            <a:off x="5076720" y="1727280"/>
            <a:ext cx="3529080" cy="2646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eorgia"/>
              </a:rPr>
              <a:t>Центр «Мы – строители!»</a:t>
            </a:r>
            <a:endParaRPr b="0" lang="en-US" sz="2000" spc="-1" strike="noStrike">
              <a:solidFill>
                <a:srgbClr val="ff0000"/>
              </a:solidFill>
              <a:latin typeface="Georgia"/>
            </a:endParaRPr>
          </a:p>
        </p:txBody>
      </p:sp>
      <p:pic>
        <p:nvPicPr>
          <p:cNvPr id="325" name="Picture 10" descr="SL382695"/>
          <p:cNvPicPr/>
          <p:nvPr/>
        </p:nvPicPr>
        <p:blipFill>
          <a:blip r:embed="rId1"/>
          <a:stretch/>
        </p:blipFill>
        <p:spPr>
          <a:xfrm>
            <a:off x="4932360" y="3284640"/>
            <a:ext cx="3505320" cy="26305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326" name="Picture 11" descr="SL383238"/>
          <p:cNvPicPr/>
          <p:nvPr/>
        </p:nvPicPr>
        <p:blipFill>
          <a:blip r:embed="rId2"/>
          <a:stretch/>
        </p:blipFill>
        <p:spPr>
          <a:xfrm>
            <a:off x="1763640" y="2708280"/>
            <a:ext cx="2911680" cy="38815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327" name=""/>
          <p:cNvSpPr txBox="1"/>
          <p:nvPr/>
        </p:nvSpPr>
        <p:spPr>
          <a:xfrm>
            <a:off x="1402920" y="1557360"/>
            <a:ext cx="72723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349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Строительные игры помогают развивать математические способности, приобретать социальные навыки, дают опыт решения проблем.</a:t>
            </a:r>
            <a:endParaRPr b="0" lang="en-US" sz="14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69800" y="907560"/>
            <a:ext cx="6802200" cy="536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eorgia"/>
              </a:rPr>
              <a:t>        </a:t>
            </a:r>
            <a:r>
              <a:rPr b="1" i="1" lang="ru-RU" sz="2000" spc="-1" strike="noStrike">
                <a:solidFill>
                  <a:srgbClr val="ff0000"/>
                </a:solidFill>
                <a:latin typeface="Georgia"/>
              </a:rPr>
              <a:t>Библиотека                 «В гостях у Маляки»</a:t>
            </a:r>
            <a:endParaRPr b="0" lang="en-US" sz="20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859280" y="5876640"/>
            <a:ext cx="30974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В этом центре дети обычно проводят много времени.</a:t>
            </a:r>
            <a:endParaRPr b="0" lang="en-US" sz="1200" spc="-1" strike="noStrike">
              <a:solidFill>
                <a:srgbClr val="777777"/>
              </a:solidFill>
              <a:latin typeface="Verdana"/>
            </a:endParaRPr>
          </a:p>
        </p:txBody>
      </p:sp>
      <p:pic>
        <p:nvPicPr>
          <p:cNvPr id="330" name="Picture 10" descr="DSC01081"/>
          <p:cNvPicPr/>
          <p:nvPr/>
        </p:nvPicPr>
        <p:blipFill>
          <a:blip r:embed="rId1"/>
          <a:stretch/>
        </p:blipFill>
        <p:spPr>
          <a:xfrm>
            <a:off x="1547640" y="1844640"/>
            <a:ext cx="2789280" cy="371808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pic>
        <p:nvPicPr>
          <p:cNvPr id="331" name="Picture 12" descr="SL383252"/>
          <p:cNvPicPr/>
          <p:nvPr/>
        </p:nvPicPr>
        <p:blipFill>
          <a:blip r:embed="rId2"/>
          <a:stretch/>
        </p:blipFill>
        <p:spPr>
          <a:xfrm>
            <a:off x="5003640" y="1844640"/>
            <a:ext cx="2808360" cy="374508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</p:spTree>
  </p:cSld>
  <p:transition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71280" y="333000"/>
            <a:ext cx="7561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Заключение</a:t>
            </a:r>
            <a:endParaRPr b="0" lang="en-US" sz="24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6920" y="2060280"/>
            <a:ext cx="720108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400" spc="-1" strike="noStrike">
              <a:solidFill>
                <a:srgbClr val="777777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77777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Именно от нашего творческого потенциала и  внутренней культуры зависит в конечном итоге, каким будет уровень эстетического воспитания детей средствами обстановки и облик нашего детского сада «Солнышко».</a:t>
            </a: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</p:txBody>
      </p:sp>
      <p:pic>
        <p:nvPicPr>
          <p:cNvPr id="334" name="Picture 7" descr="e2d7674f860d"/>
          <p:cNvPicPr/>
          <p:nvPr/>
        </p:nvPicPr>
        <p:blipFill>
          <a:blip r:embed="rId1"/>
          <a:stretch/>
        </p:blipFill>
        <p:spPr>
          <a:xfrm>
            <a:off x="826920" y="4292640"/>
            <a:ext cx="7309080" cy="17384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Схема 6" descr=""/>
          <p:cNvPicPr/>
          <p:nvPr/>
        </p:nvPicPr>
        <p:blipFill>
          <a:blip r:embed="rId1"/>
          <a:stretch/>
        </p:blipFill>
        <p:spPr>
          <a:xfrm>
            <a:off x="1189080" y="1920960"/>
            <a:ext cx="3956040" cy="2730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9" name=""/>
          <p:cNvGraphicFramePr/>
          <p:nvPr/>
        </p:nvGraphicFramePr>
        <p:xfrm>
          <a:off x="1187280" y="5013360"/>
          <a:ext cx="7417080" cy="1158840"/>
        </p:xfrm>
        <a:graphic>
          <a:graphicData uri="http://schemas.openxmlformats.org/drawingml/2006/table">
            <a:tbl>
              <a:tblPr/>
              <a:tblGrid>
                <a:gridCol w="7417080"/>
              </a:tblGrid>
              <a:tr h="1158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тельная среда дошкольного учреждения – это совокупность условий, оказывающих прямое и косвенное влияние на всестороннее развитие ребёнка в дошкольном учреждении, состояние его физического и психического здоровья, успешность его дальнейшего образования, а также взаимодействие всех участников образовательного процесса в ДО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60" name="Picture 5" descr="D:\МКДОУ\сад фото\последние фото сад\DSC_0690.jpg"/>
          <p:cNvPicPr/>
          <p:nvPr/>
        </p:nvPicPr>
        <p:blipFill>
          <a:blip r:embed="rId2"/>
          <a:stretch/>
        </p:blipFill>
        <p:spPr>
          <a:xfrm>
            <a:off x="2124000" y="1844640"/>
            <a:ext cx="4824360" cy="271476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endParaRPr b="0" lang="en-US" sz="27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73134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етский сад – особое учреждение, практически это второй дом для его сотрудников. А свой дом всегда хочется украсить, сделать уютным и тёплым, непохожим на другие.</a:t>
            </a:r>
            <a:endParaRPr b="0" lang="en-US" sz="1800" spc="-1" strike="noStrike">
              <a:solidFill>
                <a:srgbClr val="777777"/>
              </a:solidFill>
              <a:latin typeface="Verdana"/>
            </a:endParaRPr>
          </a:p>
        </p:txBody>
      </p:sp>
      <p:pic>
        <p:nvPicPr>
          <p:cNvPr id="263" name="Picture 8" descr="фотография сада"/>
          <p:cNvPicPr/>
          <p:nvPr/>
        </p:nvPicPr>
        <p:blipFill>
          <a:blip r:embed="rId1"/>
          <a:stretch/>
        </p:blipFill>
        <p:spPr>
          <a:xfrm>
            <a:off x="2916360" y="3260880"/>
            <a:ext cx="4321080" cy="2871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3059280" y="2852640"/>
            <a:ext cx="295272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колько же всего интересного, оригинального создано фантазией, творчеством и умелыми руками воспитателей!</a:t>
            </a: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Можно смело утверждать, что в нашем детском саду руками педагогов созданы уникальные варианты развивающей среды.</a:t>
            </a: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</p:txBody>
      </p:sp>
      <p:pic>
        <p:nvPicPr>
          <p:cNvPr id="265" name="Picture 8" descr="D:\МКДОУ\сад фото\последние фото сад\DSC_0752.jpg"/>
          <p:cNvPicPr/>
          <p:nvPr/>
        </p:nvPicPr>
        <p:blipFill>
          <a:blip r:embed="rId1"/>
          <a:stretch/>
        </p:blipFill>
        <p:spPr>
          <a:xfrm>
            <a:off x="824040" y="2476440"/>
            <a:ext cx="2303280" cy="409572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266" name="Picture 9" descr="D:\МКДОУ\сад фото\последние фото сад\DSC_0720.jpg"/>
          <p:cNvPicPr/>
          <p:nvPr/>
        </p:nvPicPr>
        <p:blipFill>
          <a:blip r:embed="rId2"/>
          <a:stretch/>
        </p:blipFill>
        <p:spPr>
          <a:xfrm>
            <a:off x="3203640" y="404640"/>
            <a:ext cx="3475080" cy="195444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267" name="Picture 10" descr="F:\фотоархив\2013-2014\смотр-конкурс физ уголков\DSC_0727.jpg"/>
          <p:cNvPicPr/>
          <p:nvPr/>
        </p:nvPicPr>
        <p:blipFill>
          <a:blip r:embed="rId3"/>
          <a:stretch/>
        </p:blipFill>
        <p:spPr>
          <a:xfrm>
            <a:off x="5940360" y="2708280"/>
            <a:ext cx="2190960" cy="389556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Схема 6" descr=""/>
          <p:cNvPicPr/>
          <p:nvPr/>
        </p:nvPicPr>
        <p:blipFill>
          <a:blip r:embed="rId1"/>
          <a:stretch/>
        </p:blipFill>
        <p:spPr>
          <a:xfrm>
            <a:off x="1639800" y="1773360"/>
            <a:ext cx="2998800" cy="193968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eorgia"/>
              </a:rPr>
              <a:t>Организация предметно-развивающей среды</a:t>
            </a:r>
            <a:endParaRPr b="0" lang="en-US" sz="2000" spc="-1" strike="noStrike">
              <a:solidFill>
                <a:srgbClr val="ff0000"/>
              </a:solidFill>
              <a:latin typeface="Georgia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5508720" y="1700280"/>
          <a:ext cx="3174840" cy="4241880"/>
        </p:xfrm>
        <a:graphic>
          <a:graphicData uri="http://schemas.openxmlformats.org/drawingml/2006/table">
            <a:tbl>
              <a:tblPr/>
              <a:tblGrid>
                <a:gridCol w="3174840"/>
              </a:tblGrid>
              <a:tr h="424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 организации предметно - пространственной среды в детском саду необходима деятельность всех педагогов.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чень важно, чтобы окружающая детей обстановка была комфортной и эстетичной. Красота формирует ребён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на из задач воспитателя – создать для каждого ребёнка разностороннюю развивающую среду, чтобы дать ему возможность проявить себ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71" name="Picture 64" descr="DSC_5496"/>
          <p:cNvPicPr/>
          <p:nvPr/>
        </p:nvPicPr>
        <p:blipFill>
          <a:blip r:embed="rId2"/>
          <a:stretch/>
        </p:blipFill>
        <p:spPr>
          <a:xfrm>
            <a:off x="1511280" y="1773360"/>
            <a:ext cx="3060720" cy="203364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pic>
        <p:nvPicPr>
          <p:cNvPr id="272" name="Picture 66" descr="IMG_5179"/>
          <p:cNvPicPr/>
          <p:nvPr/>
        </p:nvPicPr>
        <p:blipFill>
          <a:blip r:embed="rId3"/>
          <a:stretch/>
        </p:blipFill>
        <p:spPr>
          <a:xfrm>
            <a:off x="1457280" y="4149720"/>
            <a:ext cx="3060720" cy="204156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1428840" y="1844640"/>
            <a:ext cx="7215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каждой группе нашего детского сада имеется своя изюминка.</a:t>
            </a: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азвивающей средой является практически всё. У нас работают и стены, и полочки, и магнитные доски. Сформулировали для себя задачу – разработать интерактивный, функциональный, удобный и практичный интерьер, который обладал бы эстетической привлекательностью, легко видоизменялся, отвечал санитарно-гигиеническим нормам, принятым в отношении детей дошкольного возраста и способствовал всестороннему развитию детей.</a:t>
            </a: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</p:txBody>
      </p:sp>
      <p:pic>
        <p:nvPicPr>
          <p:cNvPr id="274" name="Picture 4" descr="D:\МКДОУ\сад фото\последние фото сад\DSC_0722.jpg"/>
          <p:cNvPicPr/>
          <p:nvPr/>
        </p:nvPicPr>
        <p:blipFill>
          <a:blip r:embed="rId1"/>
          <a:stretch/>
        </p:blipFill>
        <p:spPr>
          <a:xfrm>
            <a:off x="1720800" y="322200"/>
            <a:ext cx="2481480" cy="139536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275" name="Picture 5" descr="D:\МКДОУ\сад фото\последние фото сад\DSC_0787.jpg"/>
          <p:cNvPicPr/>
          <p:nvPr/>
        </p:nvPicPr>
        <p:blipFill>
          <a:blip r:embed="rId2"/>
          <a:stretch/>
        </p:blipFill>
        <p:spPr>
          <a:xfrm>
            <a:off x="5651640" y="320760"/>
            <a:ext cx="2482560" cy="139680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276" name="Picture 6" descr="D:\МКДОУ\сад фото\последние фото сад\DSC_0695.jpg"/>
          <p:cNvPicPr/>
          <p:nvPr/>
        </p:nvPicPr>
        <p:blipFill>
          <a:blip r:embed="rId3"/>
          <a:stretch/>
        </p:blipFill>
        <p:spPr>
          <a:xfrm>
            <a:off x="3598920" y="5229360"/>
            <a:ext cx="2560680" cy="143964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9" descr="SL383250"/>
          <p:cNvPicPr/>
          <p:nvPr/>
        </p:nvPicPr>
        <p:blipFill>
          <a:blip r:embed="rId1"/>
          <a:stretch/>
        </p:blipFill>
        <p:spPr>
          <a:xfrm>
            <a:off x="3348000" y="4289400"/>
            <a:ext cx="2951280" cy="22129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32000" y="692280"/>
            <a:ext cx="69120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eorgia"/>
              </a:rPr>
              <a:t>Развивающая среда групповой комнаты</a:t>
            </a:r>
            <a:endParaRPr b="0" lang="en-US" sz="2000" spc="-1" strike="noStrike">
              <a:solidFill>
                <a:srgbClr val="ff0000"/>
              </a:solidFill>
              <a:latin typeface="Georgia"/>
            </a:endParaRPr>
          </a:p>
        </p:txBody>
      </p:sp>
      <p:pic>
        <p:nvPicPr>
          <p:cNvPr id="279" name="Picture 8" descr="D:\МКДОУ\сад фото\группа №1\SL384001.JPG"/>
          <p:cNvPicPr/>
          <p:nvPr/>
        </p:nvPicPr>
        <p:blipFill>
          <a:blip r:embed="rId2"/>
          <a:stretch/>
        </p:blipFill>
        <p:spPr>
          <a:xfrm>
            <a:off x="5292720" y="1712880"/>
            <a:ext cx="3166920" cy="237636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280" name="Picture 10" descr="D:\МКДОУ\сад фото\группа №1\SL384452.JPG"/>
          <p:cNvPicPr/>
          <p:nvPr/>
        </p:nvPicPr>
        <p:blipFill>
          <a:blip r:embed="rId3"/>
          <a:stretch/>
        </p:blipFill>
        <p:spPr>
          <a:xfrm>
            <a:off x="1571760" y="1711440"/>
            <a:ext cx="3120840" cy="234144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99640" y="301320"/>
            <a:ext cx="778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Родительская гостиная </a:t>
            </a:r>
            <a:br>
              <a:rPr sz="2000"/>
            </a:br>
            <a:r>
              <a:rPr b="1" i="1" lang="ru-RU" sz="2000" spc="-1" strike="noStrike">
                <a:solidFill>
                  <a:srgbClr val="ff0000"/>
                </a:solidFill>
                <a:latin typeface="Georgia"/>
              </a:rPr>
              <a:t>«Родители и воспитатели – два берега одной реки»</a:t>
            </a:r>
            <a:endParaRPr b="0" lang="en-US" sz="2000" spc="-1" strike="noStrike">
              <a:solidFill>
                <a:srgbClr val="ff0000"/>
              </a:solidFill>
              <a:latin typeface="Georgia"/>
            </a:endParaRPr>
          </a:p>
        </p:txBody>
      </p:sp>
      <p:pic>
        <p:nvPicPr>
          <p:cNvPr id="282" name="Picture 8" descr="SL383205"/>
          <p:cNvPicPr/>
          <p:nvPr/>
        </p:nvPicPr>
        <p:blipFill>
          <a:blip r:embed="rId1"/>
          <a:stretch/>
        </p:blipFill>
        <p:spPr>
          <a:xfrm>
            <a:off x="4967280" y="1944720"/>
            <a:ext cx="3349800" cy="2511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83" name=""/>
          <p:cNvSpPr txBox="1"/>
          <p:nvPr/>
        </p:nvSpPr>
        <p:spPr>
          <a:xfrm>
            <a:off x="826920" y="5013000"/>
            <a:ext cx="39592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Результаты детского творчества.</a:t>
            </a:r>
            <a:endParaRPr b="0" lang="en-US" sz="14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219280" y="4941360"/>
            <a:ext cx="3646440" cy="10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Здесь постоянно обновляется информация о жизни группы, консультации и советы родителям.</a:t>
            </a:r>
            <a:endParaRPr b="0" lang="en-US" sz="14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285" name="Rectangle 9"/>
          <p:cNvSpPr/>
          <p:nvPr/>
        </p:nvSpPr>
        <p:spPr>
          <a:xfrm>
            <a:off x="5508720" y="1557360"/>
            <a:ext cx="29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информационная сте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0"/>
          <p:cNvSpPr/>
          <p:nvPr/>
        </p:nvSpPr>
        <p:spPr>
          <a:xfrm>
            <a:off x="1332000" y="1557360"/>
            <a:ext cx="33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ыставка работ «Вернисаж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11" descr="SL383121"/>
          <p:cNvPicPr/>
          <p:nvPr/>
        </p:nvPicPr>
        <p:blipFill>
          <a:blip r:embed="rId2"/>
          <a:stretch/>
        </p:blipFill>
        <p:spPr>
          <a:xfrm>
            <a:off x="1440000" y="1969920"/>
            <a:ext cx="3311280" cy="24861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971280" y="764640"/>
            <a:ext cx="3887640" cy="4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«Шар земной – детям!»</a:t>
            </a:r>
            <a:endParaRPr b="0" lang="en-US" sz="18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859280" y="6021000"/>
            <a:ext cx="35812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ctr">
              <a:spcBef>
                <a:spcPts val="45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Фотовыставка </a:t>
            </a:r>
            <a:endParaRPr b="0" lang="en-US" sz="1800" spc="-1" strike="noStrike">
              <a:solidFill>
                <a:srgbClr val="777777"/>
              </a:solidFill>
              <a:latin typeface="Verdana"/>
            </a:endParaRPr>
          </a:p>
          <a:p>
            <a:pPr marL="274320" indent="-2743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«Нам весело»</a:t>
            </a:r>
            <a:endParaRPr b="0" lang="en-US" sz="1800" spc="-1" strike="noStrike">
              <a:solidFill>
                <a:srgbClr val="777777"/>
              </a:solidFill>
              <a:latin typeface="Verdana"/>
            </a:endParaRPr>
          </a:p>
        </p:txBody>
      </p:sp>
      <p:pic>
        <p:nvPicPr>
          <p:cNvPr id="290" name="Picture 11" descr="SL383183"/>
          <p:cNvPicPr/>
          <p:nvPr/>
        </p:nvPicPr>
        <p:blipFill>
          <a:blip r:embed="rId1"/>
          <a:stretch/>
        </p:blipFill>
        <p:spPr>
          <a:xfrm>
            <a:off x="1403280" y="2058840"/>
            <a:ext cx="3024360" cy="40341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91" name="Picture 13" descr="SL383185"/>
          <p:cNvPicPr/>
          <p:nvPr/>
        </p:nvPicPr>
        <p:blipFill>
          <a:blip r:embed="rId2"/>
          <a:stretch/>
        </p:blipFill>
        <p:spPr>
          <a:xfrm>
            <a:off x="5087880" y="2076480"/>
            <a:ext cx="3013200" cy="40165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6T11:31:58Z</dcterms:created>
  <dc:creator>OBryndina</dc:creator>
  <dc:description/>
  <dc:language>en-US</dc:language>
  <cp:lastModifiedBy>User</cp:lastModifiedBy>
  <dcterms:modified xsi:type="dcterms:W3CDTF">2015-02-02T18:04:24Z</dcterms:modified>
  <cp:revision>226</cp:revision>
  <dc:subject/>
  <dc:title>ДЕНЬ ОТКРЫТЫХ ДВЕРЕ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0701049</vt:lpwstr>
  </property>
</Properties>
</file>