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"/>
          <p:cNvPicPr/>
          <p:nvPr/>
        </p:nvPicPr>
        <p:blipFill>
          <a:blip r:embed="rId1"/>
          <a:stretch/>
        </p:blipFill>
        <p:spPr>
          <a:xfrm>
            <a:off x="3240000" y="2843280"/>
            <a:ext cx="4640400" cy="41050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2160720" y="0"/>
            <a:ext cx="698328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«Язык – орудие мышления. Обращаться с языком кое-как – значит  и мыслить кое-как: неточно, приблизительно, неверно.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А.Н.Толс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1871640" y="826920"/>
            <a:ext cx="7921800" cy="5940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Hope\Desktop\мецо.jpg"/>
          <p:cNvPicPr/>
          <p:nvPr/>
        </p:nvPicPr>
        <p:blipFill>
          <a:blip r:embed="rId1"/>
          <a:stretch/>
        </p:blipFill>
        <p:spPr>
          <a:xfrm>
            <a:off x="2735280" y="900000"/>
            <a:ext cx="57610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ensy Ruiz (Mr. Ruiz, If You Please...) на Myspace"/>
          <p:cNvPicPr/>
          <p:nvPr/>
        </p:nvPicPr>
        <p:blipFill>
          <a:blip r:embed="rId1"/>
          <a:stretch/>
        </p:blipFill>
        <p:spPr>
          <a:xfrm>
            <a:off x="3240000" y="971640"/>
            <a:ext cx="453564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Hope\Desktop\толстой.jpg"/>
          <p:cNvPicPr/>
          <p:nvPr/>
        </p:nvPicPr>
        <p:blipFill>
          <a:blip r:embed="rId1"/>
          <a:stretch/>
        </p:blipFill>
        <p:spPr>
          <a:xfrm>
            <a:off x="2592360" y="395280"/>
            <a:ext cx="55180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Users\Hope\Desktop\грибоедов.jpg"/>
          <p:cNvPicPr/>
          <p:nvPr/>
        </p:nvPicPr>
        <p:blipFill>
          <a:blip r:embed="rId1"/>
          <a:stretch/>
        </p:blipFill>
        <p:spPr>
          <a:xfrm>
            <a:off x="3527280" y="611280"/>
            <a:ext cx="4249800" cy="59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:\Users\Hope\Desktop\krylov1.jpg"/>
          <p:cNvPicPr/>
          <p:nvPr/>
        </p:nvPicPr>
        <p:blipFill>
          <a:blip r:embed="rId1"/>
          <a:stretch/>
        </p:blipFill>
        <p:spPr>
          <a:xfrm>
            <a:off x="2735280" y="611280"/>
            <a:ext cx="5184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C:\Users\Hope\Desktop\иох.jpg"/>
          <p:cNvPicPr/>
          <p:nvPr/>
        </p:nvPicPr>
        <p:blipFill>
          <a:blip r:embed="rId1"/>
          <a:stretch/>
        </p:blipFill>
        <p:spPr>
          <a:xfrm>
            <a:off x="3600360" y="1042920"/>
            <a:ext cx="39610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C:\Users\Hope\Desktop\като.jpg"/>
          <p:cNvPicPr/>
          <p:nvPr/>
        </p:nvPicPr>
        <p:blipFill>
          <a:blip r:embed="rId1"/>
          <a:stretch/>
        </p:blipFill>
        <p:spPr>
          <a:xfrm>
            <a:off x="2448000" y="1042920"/>
            <a:ext cx="611964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ogle or Goog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beauty-toys - Надувные изделия &quot;Bestway&quot;"/>
          <p:cNvPicPr/>
          <p:nvPr/>
        </p:nvPicPr>
        <p:blipFill>
          <a:blip r:embed="rId1"/>
          <a:stretch/>
        </p:blipFill>
        <p:spPr>
          <a:xfrm>
            <a:off x="1655640" y="2195640"/>
            <a:ext cx="7439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ogle or Googol 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http://im2-tub-ru.yandex.net/i?id=9dc15cd71e9c1e40ee651c6cb201201a-94-144&amp;n=21"/>
          <p:cNvPicPr/>
          <p:nvPr/>
        </p:nvPicPr>
        <p:blipFill>
          <a:blip r:embed="rId1"/>
          <a:stretch/>
        </p:blipFill>
        <p:spPr>
          <a:xfrm>
            <a:off x="2087640" y="1763640"/>
            <a:ext cx="6248160" cy="4165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3168720" y="6300720"/>
            <a:ext cx="55846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ropean Day of Languages is not only on t5he 26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of September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2087640" y="212400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2232000" y="324000"/>
            <a:ext cx="3659040" cy="2741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4464000" y="611280"/>
            <a:ext cx="20890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http://im3-tub-ru.yandex.net/i?id=d757e61232c8b49d9411eee158319d6f-23-144&amp;n=24"/>
          <p:cNvPicPr/>
          <p:nvPr/>
        </p:nvPicPr>
        <p:blipFill>
          <a:blip r:embed="rId2"/>
          <a:stretch/>
        </p:blipFill>
        <p:spPr>
          <a:xfrm>
            <a:off x="6264360" y="2843280"/>
            <a:ext cx="3456000" cy="230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http://im0-tub-ru.yandex.net/i?id=6e447cb6c7c88e5823271ce8f43bd594-39-144&amp;n=24"/>
          <p:cNvPicPr/>
          <p:nvPr/>
        </p:nvPicPr>
        <p:blipFill>
          <a:blip r:embed="rId3"/>
          <a:stretch/>
        </p:blipFill>
        <p:spPr>
          <a:xfrm>
            <a:off x="4103640" y="4788000"/>
            <a:ext cx="3600360" cy="24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http://im0-tub-ru.yandex.net/i?id=20fe4c83911f1d5bbbd085084f59238b-49-144&amp;n=24"/>
          <p:cNvPicPr/>
          <p:nvPr/>
        </p:nvPicPr>
        <p:blipFill>
          <a:blip r:embed="rId4"/>
          <a:stretch/>
        </p:blipFill>
        <p:spPr>
          <a:xfrm>
            <a:off x="6048360" y="17928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in Flag Of Russia Russian Federation All Flags Org on Pinte…"/>
          <p:cNvPicPr/>
          <p:nvPr/>
        </p:nvPicPr>
        <p:blipFill>
          <a:blip r:embed="rId5"/>
          <a:stretch/>
        </p:blipFill>
        <p:spPr>
          <a:xfrm>
            <a:off x="1584360" y="3059280"/>
            <a:ext cx="3770280" cy="2516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Тебя. под музыку Очень красивое признание девушки парню в Любви &quot; Смотреть онлайн"/>
          <p:cNvPicPr/>
          <p:nvPr/>
        </p:nvPicPr>
        <p:blipFill>
          <a:blip r:embed="rId1"/>
          <a:stretch/>
        </p:blipFill>
        <p:spPr>
          <a:xfrm>
            <a:off x="3240000" y="684360"/>
            <a:ext cx="432144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2735280" y="1908000"/>
            <a:ext cx="6194520" cy="4643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863640" y="0"/>
            <a:ext cx="107614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He who knows no foreign langu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doesn’t know his own.” Goe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2376360" y="1619280"/>
            <a:ext cx="7388280" cy="54133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>
            <a:off x="2521080" y="395280"/>
            <a:ext cx="72723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Times New Roman"/>
                <a:ea typeface="ＭＳ Ｐ明朝"/>
              </a:rPr>
              <a:t>Learning langu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Times New Roman"/>
                <a:ea typeface="ＭＳ Ｐ明朝"/>
              </a:rPr>
              <a:t>we discover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7718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untries  of the European Un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620720" y="2195640"/>
            <a:ext cx="833940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23960" y="5570640"/>
            <a:ext cx="621504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871640" y="971640"/>
            <a:ext cx="7837560" cy="5653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2160720" y="343080"/>
            <a:ext cx="7380000" cy="70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ktoberf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Праздник урожая в Германии - праздник 3 Октября 2014 года / гороскоп на сегодня, праздники и выходные"/>
          <p:cNvPicPr/>
          <p:nvPr/>
        </p:nvPicPr>
        <p:blipFill>
          <a:blip r:embed="rId1"/>
          <a:stretch/>
        </p:blipFill>
        <p:spPr>
          <a:xfrm>
            <a:off x="2879640" y="2120760"/>
            <a:ext cx="4286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gman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619280" y="1979640"/>
            <a:ext cx="7596000" cy="52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 Fête Nation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160720" y="1979640"/>
            <a:ext cx="71816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 Tomati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800360" y="1979640"/>
            <a:ext cx="754200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7:15:32Z</dcterms:created>
  <dc:creator>Hope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Hope</cp:lastModifiedBy>
  <cp:lastPrinted>2010-11-08T07:33:58Z</cp:lastPrinted>
  <dcterms:modified xsi:type="dcterms:W3CDTF">2015-03-11T11:14:27Z</dcterms:modified>
  <cp:revision>48</cp:revision>
  <dc:subject/>
  <dc:title>Предложение стратегии</dc:title>
</cp:coreProperties>
</file>