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2FB-0F9B-4E31-BBB5-F92850BB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919-A94E-4B31-ABF5-6D4A3DAE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760-FC1B-4B4D-94B2-7AF25CE2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0B4-2976-482C-97F9-FEBE69B8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E8D-5890-4D88-B4DC-6B04C7D7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9E8-4E60-4200-943C-2772529A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0D5-26D8-4D5E-A7FE-D03036B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8D0-5939-47D2-8406-0468CBAF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010-67B1-4453-A9EA-5C8F6A5D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F96-D70C-48BE-8100-CB7B78D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F46-8C9E-4F70-B07A-6AC2D1C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A59-E659-49D7-ABCF-761E5F5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cfcf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F38-1D24-4B7F-A4DC-B9B9B0584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едпосылки начала Второй Миров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годы, полученные СССР от заключения договора о ненапа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игрыш во времени для укрепления обороны стра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год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ширение советской территор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на 460 тыс. кв.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нос на Запад границ ССС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на 200-35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квидация угрозы войны на два фрон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1 августа- 15 сентября 193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ыв попыток Англии и Франции втянуть СССР в войну с Герман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август-сентябрь 193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5" descr="I-33-RUSSIA-pakt-f20_640"/>
          <p:cNvPicPr/>
          <p:nvPr/>
        </p:nvPicPr>
        <p:blipFill>
          <a:blip r:embed="rId1"/>
          <a:stretch/>
        </p:blipFill>
        <p:spPr>
          <a:xfrm>
            <a:off x="2124000" y="4029120"/>
            <a:ext cx="4248360" cy="28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ентября 1939 го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чалась Вторая мировая вой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овопролит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жесто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ватившая 61 государство мира - 80% населения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погибших составило 65-66 миллионов челове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них 27 миллионов советски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жно ли было ее предотврат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5"/>
          <p:cNvPicPr/>
          <p:nvPr/>
        </p:nvPicPr>
        <p:blipFill>
          <a:blip r:embed="rId1"/>
          <a:stretch/>
        </p:blipFill>
        <p:spPr>
          <a:xfrm>
            <a:off x="826920" y="4005360"/>
            <a:ext cx="4034160" cy="255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mage006"/>
          <p:cNvPicPr/>
          <p:nvPr/>
        </p:nvPicPr>
        <p:blipFill>
          <a:blip r:embed="rId2"/>
          <a:stretch/>
        </p:blipFill>
        <p:spPr>
          <a:xfrm>
            <a:off x="5292720" y="4005360"/>
            <a:ext cx="3456000" cy="258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были причины Второй Мировой вой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влиял пакт о ненападении на международную обстановку предвоенных л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хронологию событий первого периода войны 1 сент.193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 июня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6"/>
          <p:cNvSpPr/>
          <p:nvPr/>
        </p:nvSpPr>
        <p:spPr>
          <a:xfrm>
            <a:off x="1403280" y="3357720"/>
            <a:ext cx="6697800" cy="863280"/>
          </a:xfrm>
          <a:prstGeom prst="rightArrow">
            <a:avLst>
              <a:gd name="adj1" fmla="val 50000"/>
              <a:gd name="adj2" fmla="val 193964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58920" y="2492280"/>
            <a:ext cx="57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7885080" y="2492280"/>
            <a:ext cx="574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84360" y="414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4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6659640" y="386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6300720" y="4221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9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5476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7308720" y="429264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7236000" y="422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7236000" y="4221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42847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692360" y="486900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050920" y="486900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ровой экономический криз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46836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ти ко Второй Миров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1403280" y="3357720"/>
            <a:ext cx="6697800" cy="863280"/>
          </a:xfrm>
          <a:prstGeom prst="rightArrow">
            <a:avLst>
              <a:gd name="adj1" fmla="val 50000"/>
              <a:gd name="adj2" fmla="val 193964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58920" y="2492280"/>
            <a:ext cx="57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885080" y="2492280"/>
            <a:ext cx="574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414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4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659640" y="386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00720" y="4221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9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5476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308720" y="429264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236000" y="422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236000" y="4221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2847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692360" y="486900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050920" y="486900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ровой экономический криз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1619280" y="2924280"/>
            <a:ext cx="47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1835280" y="2637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О Ч Е М У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95280" y="333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ивело ко второй мировой войне? Каковы были ее причины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ли было ее предотврат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чаги военной опасности и сближение агресс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чины недооценки опасности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литика умиротворения и политика коллективн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нешняя политика СССР в 3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аги военной опасности в мир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сближение агресс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11280" y="1628640"/>
            <a:ext cx="2232000" cy="648000"/>
          </a:xfrm>
          <a:prstGeom prst="rect">
            <a:avLst/>
          </a:prstGeom>
          <a:solidFill>
            <a:srgbClr val="8e8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419640" y="1628640"/>
            <a:ext cx="2232000" cy="648000"/>
          </a:xfrm>
          <a:prstGeom prst="rect">
            <a:avLst/>
          </a:prstGeom>
          <a:solidFill>
            <a:srgbClr val="8e8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227640" y="1628640"/>
            <a:ext cx="2232000" cy="648000"/>
          </a:xfrm>
          <a:prstGeom prst="rect">
            <a:avLst/>
          </a:prstGeom>
          <a:solidFill>
            <a:srgbClr val="8e8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39640" y="2276640"/>
            <a:ext cx="2376720" cy="20890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1 г. – оккуп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чьжу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3 г. – выход и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и 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276720" y="2276640"/>
            <a:ext cx="2519280" cy="338436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3 г. – выход и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и н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4 г.  – созда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й ави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5 г. – вве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об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инской пови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6 г. – вв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мански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ск в Рейнску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илитаризован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156360" y="2276640"/>
            <a:ext cx="2376360" cy="20890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5 г. – оккуп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ио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763640" y="6165720"/>
            <a:ext cx="5256360" cy="5032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6-1937 г.г. –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коминтерновский па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1692360" y="4365720"/>
            <a:ext cx="1584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57200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H="1">
            <a:off x="5724000" y="4365720"/>
            <a:ext cx="1584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международных отношений начала 30-х годов Х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группа стран стремилась к вой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ритет внутренних проблем перед внеш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нимания целостности и неделимости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ляционизм С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оценка опасности нацистских планов Гитл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ка умиротворения и политика коллективн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3348000" y="1700280"/>
            <a:ext cx="2376360" cy="649080"/>
          </a:xfrm>
          <a:prstGeom prst="ellipse">
            <a:avLst/>
          </a:prstGeom>
          <a:solidFill>
            <a:srgbClr val="8e8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39640" y="1658880"/>
            <a:ext cx="2087640" cy="79236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ир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227640" y="1557360"/>
            <a:ext cx="2087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9640" y="263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227640" y="256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ия +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2627280" y="1989000"/>
            <a:ext cx="72072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572436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5724360" y="3141720"/>
            <a:ext cx="3168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4 г. – принятие СССР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гу нац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5 г. – советско-французск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говор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36 г. – советско-чехословацки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гов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7164360" y="4437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492360" y="638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H="1">
            <a:off x="1533240" y="666900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1533600" y="5157720"/>
            <a:ext cx="140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24000" y="3357720"/>
            <a:ext cx="2808000" cy="79200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.09.1938 –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Мюнхенско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324000" y="4292640"/>
            <a:ext cx="2808000" cy="79200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3.1938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ншлюс Авс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шняя политика СССР в 30-е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11280" y="1197000"/>
            <a:ext cx="2448000" cy="647640"/>
          </a:xfrm>
          <a:prstGeom prst="rect">
            <a:avLst/>
          </a:prstGeom>
          <a:solidFill>
            <a:srgbClr val="8e8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708360" y="1168560"/>
            <a:ext cx="1800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12000" y="1139760"/>
            <a:ext cx="2736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я +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50920" y="2276640"/>
            <a:ext cx="3241440" cy="1873080"/>
          </a:xfrm>
          <a:prstGeom prst="flowChartAlternateProcess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03.1939 г. – оккуп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хии, Морав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3.1939 г. – захв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цига (Польш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03.1939 г. – оккуп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меля (Ли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5867280" y="2349360"/>
            <a:ext cx="30974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1939 г.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гарант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й помощи гос-ва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чившим с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867280" y="3716280"/>
            <a:ext cx="309744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08.1939 г. – начал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о-франко-совет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24000" y="4292640"/>
            <a:ext cx="3097080" cy="649080"/>
          </a:xfrm>
          <a:prstGeom prst="flowChartAlternateProcess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8.1939 г. – телеграмм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итлера Ста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2987640" y="5373720"/>
            <a:ext cx="3024360" cy="677880"/>
          </a:xfrm>
          <a:prstGeom prst="flowChartAlternateProcess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08.1939 г.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кт о ненапа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4572000" y="188748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4572000" y="285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4572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341964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324000" y="6165720"/>
            <a:ext cx="3456000" cy="5032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ыг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полученные Германие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5724360" y="6165720"/>
            <a:ext cx="2808360" cy="5032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ы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полученные С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H="1">
            <a:off x="2555640" y="602136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5983200" y="6021360"/>
            <a:ext cx="533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годы, полученные Германи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заключения договора о ненапа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можность начать захват первого бастиона на востоке (Польш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квидация угрозы войны на нескольких фронтах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1_12_29_1"/>
          <p:cNvPicPr/>
          <p:nvPr/>
        </p:nvPicPr>
        <p:blipFill>
          <a:blip r:embed="rId1"/>
          <a:stretch/>
        </p:blipFill>
        <p:spPr>
          <a:xfrm>
            <a:off x="4500720" y="1773360"/>
            <a:ext cx="4464000" cy="335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44Z</dcterms:created>
  <dc:creator>wista</dc:creator>
  <dc:description/>
  <dc:language>en-US</dc:language>
  <cp:lastModifiedBy>Администратор</cp:lastModifiedBy>
  <dcterms:modified xsi:type="dcterms:W3CDTF">2015-03-12T05:25:53Z</dcterms:modified>
  <cp:revision>23</cp:revision>
  <dc:subject/>
  <dc:title>Слайд 1</dc:title>
</cp:coreProperties>
</file>