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media/image10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2C29D-5368-49D5-B2A7-91C8AF655CB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9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B324A-0165-4CC3-9F08-F3A0F4A712F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65520" cy="342432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F06B-FE01-4C32-A900-182463B3F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9201-B305-4D5A-9134-64F5769DD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C71D-F26A-422A-8977-2260CCB64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3FE2-44F4-40DA-907C-D6F1DB13A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4D5FE-81C0-4207-AE08-CD65FD1E0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C732C-F747-4B87-866E-53220FB15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7E1DE-E0D2-4DCF-BB6F-AEB598101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44EB7-3F82-44D1-9AEB-6342D8E9C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0665E-B014-4EA9-8D50-22FA514DB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E1D18-EDB2-410C-B650-439C1C244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261C6-96B5-4D8A-828D-18EAE78D9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25E9-9637-4FD7-9CF1-4F135A92F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22502-4206-4126-A323-2A3867E32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7FD35-EED4-4633-BE78-B45BB796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ECE22-8964-4269-A985-1EFBEB7AE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27142-2C9F-4747-AEC9-A18D1CA59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9B0DE-7114-46B6-858E-5B2343202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9960-9417-459D-BE4E-FC24E4571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F0F1-F37E-492C-9A78-6DB520682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204B-4098-4C75-BB77-7675BB572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83BC-E798-496F-92A9-7BBAEB0EE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8CF6-6219-4673-9ED5-C3CE1DD63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E721-964D-422E-B135-0BA9790D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2278-AAB4-4FC1-8157-5B583E979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08000"/>
                </a:gs>
                <a:gs pos="50000">
                  <a:srgbClr val="003300"/>
                </a:gs>
                <a:gs pos="100000">
                  <a:srgbClr val="008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27c3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1ff8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F90F4-4231-46BC-B34B-826F6BD0695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08000"/>
                </a:gs>
                <a:gs pos="50000">
                  <a:srgbClr val="003300"/>
                </a:gs>
                <a:gs pos="100000">
                  <a:srgbClr val="008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27c3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1ff8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277BC-3F27-4972-A769-2ACF6F7EB44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 of March </a:t>
            </a:r>
            <a:br>
              <a:rPr sz="3200"/>
            </a:br>
            <a:br>
              <a:rPr sz="3200"/>
            </a:br>
            <a:r>
              <a:rPr b="0" lang="en-US" sz="4400" spc="-1" strike="noStrike">
                <a:solidFill>
                  <a:srgbClr val="19ff19"/>
                </a:solidFill>
                <a:latin typeface="Arial"/>
              </a:rPr>
              <a:t>The theme of the lesson:  “Human Rights”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00"/>
                </a:solidFill>
                <a:latin typeface="Georgia"/>
              </a:rPr>
              <a:t>«</a:t>
            </a:r>
            <a:r>
              <a:rPr b="0" i="1" lang="en-US" sz="3600" spc="-1" strike="noStrike">
                <a:solidFill>
                  <a:srgbClr val="ffff00"/>
                </a:solidFill>
                <a:latin typeface="Georgia"/>
              </a:rPr>
              <a:t>Be tolerant and you will prevent conflicts</a:t>
            </a:r>
            <a:r>
              <a:rPr b="0" i="1" lang="ru-RU" sz="3600" spc="-1" strike="noStrike">
                <a:solidFill>
                  <a:srgbClr val="ffff00"/>
                </a:solidFill>
                <a:latin typeface="Georgia"/>
              </a:rPr>
              <a:t>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4" descr="declaration"/>
          <p:cNvPicPr/>
          <p:nvPr/>
        </p:nvPicPr>
        <p:blipFill>
          <a:blip r:embed="rId1"/>
          <a:stretch/>
        </p:blipFill>
        <p:spPr>
          <a:xfrm rot="625200">
            <a:off x="7470720" y="4233960"/>
            <a:ext cx="1197000" cy="214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Arial"/>
              </a:rPr>
              <a:t>Check your answers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28760" y="142848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o speak fre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o get educ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o choose the work you l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To choose the climate you want to live 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o be equal with other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 To get a driving license at the age of 1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. To know what your rights 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.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o be protected against religious discrim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 To be protected against strict teac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Arial"/>
              </a:rPr>
              <a:t>Answers 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3cc33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m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cc33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cc33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ri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cc33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ri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Oval 5"/>
          <p:cNvSpPr/>
          <p:nvPr/>
        </p:nvSpPr>
        <p:spPr>
          <a:xfrm>
            <a:off x="2857680" y="1928880"/>
            <a:ext cx="3500280" cy="2143080"/>
          </a:xfrm>
          <a:prstGeom prst="ellipse">
            <a:avLst/>
          </a:prstGeom>
          <a:solidFill>
            <a:srgbClr val="1aff1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16"/>
                </a:solidFill>
                <a:latin typeface="Arial"/>
              </a:rPr>
              <a:t>What I know ab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16"/>
                </a:solidFill>
                <a:latin typeface="Arial"/>
              </a:rPr>
              <a:t>human righ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Line 9"/>
          <p:cNvSpPr/>
          <p:nvPr/>
        </p:nvSpPr>
        <p:spPr>
          <a:xfrm flipV="1">
            <a:off x="6143760" y="1571400"/>
            <a:ext cx="72216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8"/>
          <p:cNvSpPr/>
          <p:nvPr/>
        </p:nvSpPr>
        <p:spPr>
          <a:xfrm flipV="1">
            <a:off x="4643280" y="114300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6"/>
          <p:cNvSpPr/>
          <p:nvPr/>
        </p:nvSpPr>
        <p:spPr>
          <a:xfrm flipH="1" flipV="1">
            <a:off x="2500200" y="1714320"/>
            <a:ext cx="720720" cy="71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7"/>
          <p:cNvSpPr/>
          <p:nvPr/>
        </p:nvSpPr>
        <p:spPr>
          <a:xfrm flipH="1">
            <a:off x="2214360" y="3571920"/>
            <a:ext cx="1081080" cy="71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11"/>
          <p:cNvSpPr/>
          <p:nvPr/>
        </p:nvSpPr>
        <p:spPr>
          <a:xfrm flipH="1">
            <a:off x="3642840" y="4000680"/>
            <a:ext cx="358920" cy="93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12"/>
          <p:cNvSpPr/>
          <p:nvPr/>
        </p:nvSpPr>
        <p:spPr>
          <a:xfrm>
            <a:off x="5286240" y="4000680"/>
            <a:ext cx="432000" cy="93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10"/>
          <p:cNvSpPr/>
          <p:nvPr/>
        </p:nvSpPr>
        <p:spPr>
          <a:xfrm>
            <a:off x="6072120" y="3571920"/>
            <a:ext cx="100800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"/>
          <p:cNvPicPr/>
          <p:nvPr/>
        </p:nvPicPr>
        <p:blipFill>
          <a:blip r:embed="rId1"/>
          <a:stretch/>
        </p:blipFill>
        <p:spPr>
          <a:xfrm>
            <a:off x="357120" y="1643040"/>
            <a:ext cx="4000680" cy="29019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"/>
          <p:cNvPicPr/>
          <p:nvPr/>
        </p:nvPicPr>
        <p:blipFill>
          <a:blip r:embed="rId2"/>
          <a:stretch/>
        </p:blipFill>
        <p:spPr>
          <a:xfrm>
            <a:off x="4711680" y="3214800"/>
            <a:ext cx="4222800" cy="300024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Arial"/>
              </a:rPr>
              <a:t>Did you like our lesson today</a:t>
            </a: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?</a:t>
            </a:r>
            <a:r>
              <a:rPr b="0" lang="en-US" sz="4400" spc="-1" strike="noStrike">
                <a:solidFill>
                  <a:srgbClr val="ffc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143" name="Picture 1" descr=""/>
          <p:cNvPicPr/>
          <p:nvPr/>
        </p:nvPicPr>
        <p:blipFill>
          <a:blip r:embed="rId3"/>
          <a:stretch/>
        </p:blipFill>
        <p:spPr>
          <a:xfrm>
            <a:off x="357120" y="1643040"/>
            <a:ext cx="4000680" cy="290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Arial"/>
              </a:rPr>
              <a:t>Your homework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book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.1,2. P.5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ff66"/>
                </a:solidFill>
                <a:latin typeface="Arial"/>
              </a:rPr>
              <a:t>The lesson is over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Good bye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5" descr="j0336891"/>
          <p:cNvPicPr/>
          <p:nvPr/>
        </p:nvPicPr>
        <p:blipFill>
          <a:blip r:embed="rId1"/>
          <a:stretch/>
        </p:blipFill>
        <p:spPr>
          <a:xfrm>
            <a:off x="6929280" y="4286160"/>
            <a:ext cx="147348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Arial"/>
              </a:rPr>
              <a:t>The aims of the lesson 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repeat the lexical mater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discuss some questions on the the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listen to the 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learn new w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read the tex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sum our knowledge on the the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928800" y="714240"/>
          <a:ext cx="7429320" cy="5357880"/>
        </p:xfrm>
        <a:graphic>
          <a:graphicData uri="http://schemas.openxmlformats.org/drawingml/2006/table">
            <a:tbl>
              <a:tblPr/>
              <a:tblGrid>
                <a:gridCol w="2000160"/>
                <a:gridCol w="1942920"/>
                <a:gridCol w="1757520"/>
                <a:gridCol w="1728720"/>
              </a:tblGrid>
              <a:tr h="1847880"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662120"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friendly peo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847880"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misunderstand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to get 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11" name="Rectangle 1"/>
          <p:cNvSpPr/>
          <p:nvPr/>
        </p:nvSpPr>
        <p:spPr>
          <a:xfrm>
            <a:off x="0" y="2160"/>
            <a:ext cx="757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4000" spc="-1" strike="noStrike">
                <a:solidFill>
                  <a:srgbClr val="19ff19"/>
                </a:solidFill>
                <a:latin typeface="Arial"/>
              </a:rPr>
              <a:t>Check your answ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1071720" y="1214280"/>
          <a:ext cx="7000560" cy="4929480"/>
        </p:xfrm>
        <a:graphic>
          <a:graphicData uri="http://schemas.openxmlformats.org/drawingml/2006/table">
            <a:tbl>
              <a:tblPr/>
              <a:tblGrid>
                <a:gridCol w="2001600"/>
                <a:gridCol w="1714680"/>
                <a:gridCol w="1655640"/>
                <a:gridCol w="1628640"/>
              </a:tblGrid>
              <a:tr h="1700280"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to prevent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ff47"/>
                    </a:solidFill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unfai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ff47"/>
                    </a:solidFill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to agu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ff47"/>
                    </a:solidFill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to suppor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ff47"/>
                    </a:solidFill>
                  </a:tcPr>
                </a:tc>
              </a:tr>
              <a:tr h="1528920"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to respect valu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ff47"/>
                    </a:solidFill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a peacefu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solu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ff47"/>
                    </a:solidFill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friendly peop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ff47"/>
                    </a:solidFill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to make  peac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ff47"/>
                    </a:solidFill>
                  </a:tcPr>
                </a:tc>
              </a:tr>
              <a:tr h="1700280"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misunderstand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ff47"/>
                    </a:solidFill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bad relatio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ff47"/>
                    </a:solidFill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confid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ff47"/>
                    </a:solidFill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to get 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ff47"/>
                    </a:solidFill>
                  </a:tcPr>
                </a:tc>
              </a:tr>
            </a:tbl>
          </a:graphicData>
        </a:graphic>
      </p:graphicFrame>
      <p:sp>
        <p:nvSpPr>
          <p:cNvPr id="113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рямоугольник 3"/>
          <p:cNvSpPr/>
          <p:nvPr/>
        </p:nvSpPr>
        <p:spPr>
          <a:xfrm>
            <a:off x="1143000" y="357120"/>
            <a:ext cx="6929280" cy="654480"/>
          </a:xfrm>
          <a:prstGeom prst="rect">
            <a:avLst/>
          </a:prstGeom>
          <a:solidFill>
            <a:srgbClr val="00a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ff19"/>
                </a:solidFill>
                <a:latin typeface="Arial"/>
                <a:ea typeface="Times New Roman"/>
              </a:rPr>
              <a:t>What  topic are these words from</a:t>
            </a:r>
            <a:r>
              <a:rPr b="0" lang="ru-RU" sz="3200" spc="-1" strike="noStrike">
                <a:solidFill>
                  <a:srgbClr val="19ff19"/>
                </a:solidFill>
                <a:latin typeface="Arial"/>
                <a:ea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Рисунок 1" descr="http://festival.1september.ru/articles/525451/img1.gif"/>
          <p:cNvPicPr/>
          <p:nvPr/>
        </p:nvPicPr>
        <p:blipFill>
          <a:blip r:embed="rId1"/>
          <a:stretch/>
        </p:blipFill>
        <p:spPr>
          <a:xfrm>
            <a:off x="1071720" y="714240"/>
            <a:ext cx="700056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Arial"/>
              </a:rPr>
              <a:t>What rights do you have?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have the right to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Рисунок 1" descr="un_2.jpg"/>
          <p:cNvPicPr/>
          <p:nvPr/>
        </p:nvPicPr>
        <p:blipFill>
          <a:blip r:embed="rId1"/>
          <a:stretch/>
        </p:blipFill>
        <p:spPr>
          <a:xfrm>
            <a:off x="428760" y="249120"/>
            <a:ext cx="3786120" cy="284004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2" descr="un_3.jpg"/>
          <p:cNvPicPr/>
          <p:nvPr/>
        </p:nvPicPr>
        <p:blipFill>
          <a:blip r:embed="rId2"/>
          <a:stretch/>
        </p:blipFill>
        <p:spPr>
          <a:xfrm>
            <a:off x="4357800" y="357120"/>
            <a:ext cx="4492440" cy="2683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800px-United_Nations_General_Assembly"/>
          <p:cNvPicPr/>
          <p:nvPr/>
        </p:nvPicPr>
        <p:blipFill>
          <a:blip r:embed="rId3"/>
          <a:stretch/>
        </p:blipFill>
        <p:spPr>
          <a:xfrm>
            <a:off x="1214280" y="3933720"/>
            <a:ext cx="4429440" cy="2924280"/>
          </a:xfrm>
          <a:prstGeom prst="rect">
            <a:avLst/>
          </a:prstGeom>
          <a:ln w="0">
            <a:noFill/>
          </a:ln>
        </p:spPr>
      </p:pic>
      <p:sp>
        <p:nvSpPr>
          <p:cNvPr id="121" name="Прямоугольник 5"/>
          <p:cNvSpPr/>
          <p:nvPr/>
        </p:nvSpPr>
        <p:spPr>
          <a:xfrm>
            <a:off x="4714920" y="5286240"/>
            <a:ext cx="407196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eneral Assembly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ll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рямоугольник 6"/>
          <p:cNvSpPr/>
          <p:nvPr/>
        </p:nvSpPr>
        <p:spPr>
          <a:xfrm>
            <a:off x="1143000" y="3133800"/>
            <a:ext cx="6786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uilding of the UN  in New York, Manhatt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Рисунок 2" descr="1477846.jpg"/>
          <p:cNvPicPr/>
          <p:nvPr/>
        </p:nvPicPr>
        <p:blipFill>
          <a:blip r:embed="rId1"/>
          <a:stretch/>
        </p:blipFill>
        <p:spPr>
          <a:xfrm>
            <a:off x="1000080" y="1785960"/>
            <a:ext cx="7131240" cy="45007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un Ghi Moon, the UN General Secretary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Arial"/>
              </a:rPr>
              <a:t>Answer the questions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was the organization the United Nations form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oes this emblem mean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the short name for this organiza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was it found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6" descr="sO7DdrhkV0"/>
          <p:cNvPicPr/>
          <p:nvPr/>
        </p:nvPicPr>
        <p:blipFill>
          <a:blip r:embed="rId1"/>
          <a:stretch/>
        </p:blipFill>
        <p:spPr>
          <a:xfrm>
            <a:off x="6156360" y="2060640"/>
            <a:ext cx="201600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12:43:16Z</dcterms:created>
  <dc:creator>SamLab.ws</dc:creator>
  <dc:description/>
  <dc:language>en-US</dc:language>
  <cp:lastModifiedBy>USER</cp:lastModifiedBy>
  <dcterms:modified xsi:type="dcterms:W3CDTF">2015-03-09T19:27:47Z</dcterms:modified>
  <cp:revision>128</cp:revision>
  <dc:subject/>
  <dc:title>March 21st, Our theme “Human Rights”</dc:title>
</cp:coreProperties>
</file>