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gif" ContentType="image/gif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24.jpeg" ContentType="image/jpeg"/>
  <Override PartName="/ppt/media/image15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2B0-0511-46D1-AC02-D7C8CD64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595-9498-4504-8ADD-186C4F88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B9D-B73D-4470-90FB-A7127277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D30-9BB1-494F-9962-94FD01F2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9164-2413-44FD-9BBC-C93BD353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CB21-8807-40FF-9B82-8CEEFAB8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D1EB-71C7-405D-B2C5-C3210A44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7B4E-1B3C-47BD-A6AE-9E498282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A3DA-23B4-4FA8-9612-DC61F867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ACD6-DEE4-4DA8-B4B2-93FF3B04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C7DF-E37C-42AD-9776-78003D2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442-A9F1-42DA-BA44-47F50563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404F-44C9-4F09-B2D6-528399F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19D6-7DB2-44CF-8F22-3FD59C44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8241-BD96-4FDF-8148-6DFCCFED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CA7F-5BEA-4DF7-9E26-8EE6B57A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DC16-ADAA-4ED0-9BDA-01E9D698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B4A-2FEC-4E45-B80B-F46999C4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A52-4E48-4775-9078-0ABD83B6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4D2-0425-4FB1-B7D1-428EFD4F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CAF-BE3C-4F38-A345-584BCF82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B82-EFB8-4CC3-A139-D8F98E9A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BD3-069F-43C0-AFDD-FD86C587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F72-53E0-405D-9433-B07D60D9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AE69-4A86-4688-A470-1F9856FEF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96CE-ED74-4565-B12A-9EBD37DCA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95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начальных классов Свирина Ж. 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6600" y="1828800"/>
            <a:ext cx="9010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зентация по окружающеиу миру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Поганк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Фото грибы Крыма"/>
          <p:cNvPicPr/>
          <p:nvPr/>
        </p:nvPicPr>
        <p:blipFill>
          <a:blip r:embed="rId1"/>
          <a:stretch/>
        </p:blipFill>
        <p:spPr>
          <a:xfrm>
            <a:off x="990720" y="144792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Подосиновик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Подосиновик (осиновик, красноголовик): фото, описание. Гриб подберезовик."/>
          <p:cNvPicPr/>
          <p:nvPr/>
        </p:nvPicPr>
        <p:blipFill>
          <a:blip r:embed="rId1"/>
          <a:stretch/>
        </p:blipFill>
        <p:spPr>
          <a:xfrm>
            <a:off x="2209680" y="21337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Мухомор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Задачи моей работы: Собрать информацию о строении, особенностях и разновидностях ядовитого гриба мухомора; Рассмотреть полезные"/>
          <p:cNvPicPr/>
          <p:nvPr/>
        </p:nvPicPr>
        <p:blipFill>
          <a:blip r:embed="rId1"/>
          <a:stretch/>
        </p:blipFill>
        <p:spPr>
          <a:xfrm>
            <a:off x="1143000" y="1828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РАСТЕ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меют листья, стебли, корни, цветы плоды с семен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итаются растворенными минеральными сол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меют вырабатывать сахар и крахмал для 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ля хорошего роста нуждаются в тепле, влаге, освещ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87352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ЖИВОТНЫЕ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меют конечности или строение организма, способствующее передвиж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спользуют в пищу другие живые организмы: растения или живот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Не могут вырабатывать питательные вещества 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Могут жить и развиваться в различных услов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56000" y="404640"/>
            <a:ext cx="41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0080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ЦАРСТВА ПРИР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907920"/>
            <a:ext cx="19429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РАСТ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907920"/>
            <a:ext cx="1943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0080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ВО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907920"/>
            <a:ext cx="1943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/>
              </a:gs>
              <a:gs pos="50000">
                <a:srgbClr val="008000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Comic Sans MS"/>
              </a:rPr>
              <a:t>ГРИ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-627120" y="2722320"/>
            <a:ext cx="4564080" cy="28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стебли, цвет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Имеют листь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плоды с семен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кор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. Питаю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растворен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в воде со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. Могут с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вырабат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питатель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ве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4. Для норм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роста нуждаю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в тепле и влаге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181600" y="2721600"/>
            <a:ext cx="4635360" cy="28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008000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Могу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передвига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2. Использу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в пищу друг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живые организм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растения и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живо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3. Не могу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вырабатыв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питатель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вещества с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4881960" y="2902320"/>
            <a:ext cx="463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/>
              </a:gs>
              <a:gs pos="50000">
                <a:srgbClr val="008000"/>
              </a:gs>
              <a:gs pos="100000">
                <a:srgbClr val="339966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84720" y="278136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Грибы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это особое царство живой природы, которое не относится ни к миру растений, ни к миру живот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4829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Материалы за 20.01.2013 &quot; Страница 2 &quot; Скачать фильмы, игры, музыку, обои, всё об авто, бесплатно и без смс"/>
          <p:cNvPicPr/>
          <p:nvPr/>
        </p:nvPicPr>
        <p:blipFill>
          <a:blip r:embed="rId1"/>
          <a:stretch/>
        </p:blipFill>
        <p:spPr>
          <a:xfrm>
            <a:off x="533520" y="76320"/>
            <a:ext cx="76197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Тема: &quot;В царстве грибов&quot; Цель: Формирование представления о грибах как особом царстве живой приро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6432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лодовые тела появляются, если грибу достаточно влаги, тепла и питательных вещест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387684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1366x768 лес, сосны, деревья, лучи, свет hd обои на рабочий 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2803680" y="1327320"/>
            <a:ext cx="344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8040" y="1631880"/>
            <a:ext cx="542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2160" y="238320"/>
            <a:ext cx="42796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Нор звериных, птичьего гнез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Разорять не будем никог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Пусть птенцам и маленьким зверят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Хорошо живется с нами ря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«Растут, как грибы после дождя»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0958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Flash-анимации по ботанике"/>
          <p:cNvPicPr/>
          <p:nvPr/>
        </p:nvPicPr>
        <p:blipFill>
          <a:blip r:embed="rId1"/>
          <a:stretch/>
        </p:blipFill>
        <p:spPr>
          <a:xfrm>
            <a:off x="1371600" y="1087560"/>
            <a:ext cx="66294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Я хочу познакомиться со строением шляпочного гри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Еще раз просмотрите с.118-119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Грибы разрушают остатки живых организмов и способствуют образованию перегно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Некоторые грибы помогают растениям впитывать из почвы воду и с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Грибами питаются многие живот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Некоторые грибы помогают готовить пищ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Есть грибы-лекар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акую пользу приносят грибы природе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Грибы- богатство лес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Ребусы живой природы Подводный мир"/>
          <p:cNvPicPr/>
          <p:nvPr/>
        </p:nvPicPr>
        <p:blipFill>
          <a:blip r:embed="rId1"/>
          <a:stretch/>
        </p:blipFill>
        <p:spPr>
          <a:xfrm>
            <a:off x="0" y="1447920"/>
            <a:ext cx="2895480" cy="2173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Грибы. Ароматная вуаль. &quot; BeAI - Самое интересное рунета"/>
          <p:cNvPicPr/>
          <p:nvPr/>
        </p:nvPicPr>
        <p:blipFill>
          <a:blip r:embed="rId2"/>
          <a:stretch/>
        </p:blipFill>
        <p:spPr>
          <a:xfrm>
            <a:off x="2895480" y="2971800"/>
            <a:ext cx="2822760" cy="2117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Грибы, занесенные в красную книгу России Грибной мир"/>
          <p:cNvPicPr/>
          <p:nvPr/>
        </p:nvPicPr>
        <p:blipFill>
          <a:blip r:embed="rId3"/>
          <a:stretch/>
        </p:blipFill>
        <p:spPr>
          <a:xfrm>
            <a:off x="5715000" y="1295280"/>
            <a:ext cx="2908440" cy="2278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Грибы. Ароматная вуаль. &quot; BeAI - Самое интересное рунета"/>
          <p:cNvPicPr/>
          <p:nvPr/>
        </p:nvPicPr>
        <p:blipFill>
          <a:blip r:embed="rId4"/>
          <a:stretch/>
        </p:blipFill>
        <p:spPr>
          <a:xfrm>
            <a:off x="0" y="411480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Ядовитые грибы Крыма eco-boom"/>
          <p:cNvPicPr/>
          <p:nvPr/>
        </p:nvPicPr>
        <p:blipFill>
          <a:blip r:embed="rId5"/>
          <a:stretch/>
        </p:blipFill>
        <p:spPr>
          <a:xfrm>
            <a:off x="5638680" y="4191120"/>
            <a:ext cx="3391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Предземляничная Песенка 2 (страница 12) - Форум текстовиков"/>
          <p:cNvPicPr/>
          <p:nvPr/>
        </p:nvPicPr>
        <p:blipFill>
          <a:blip r:embed="rId1"/>
          <a:stretch/>
        </p:blipFill>
        <p:spPr>
          <a:xfrm>
            <a:off x="457200" y="380880"/>
            <a:ext cx="8610480" cy="5977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432080" y="19414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381480" y="3017880"/>
            <a:ext cx="23810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МОЛОДЦЫ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491000" y="2398320"/>
            <a:ext cx="43545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Носит красные ботин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Дарит мягкие пер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191628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1916280"/>
            <a:ext cx="4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191628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87640" y="1916280"/>
            <a:ext cx="4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227664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2276640"/>
            <a:ext cx="4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227664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27664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2276640"/>
            <a:ext cx="4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227664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637000"/>
            <a:ext cx="4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263700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2637000"/>
            <a:ext cx="4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263700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263700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637000"/>
            <a:ext cx="4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2997360"/>
            <a:ext cx="4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299736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299736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2997360"/>
            <a:ext cx="4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99736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335772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335772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3357720"/>
            <a:ext cx="432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0" y="3357720"/>
            <a:ext cx="43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008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Comic Sans MS"/>
              </a:rPr>
              <a:t>ЖИВОТНЫ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1844640"/>
            <a:ext cx="5113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Пушистое белое облач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На грядке капустой хруст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7280" y="1989000"/>
            <a:ext cx="4475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Кто на себе свой дом таск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270828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3068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429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1295280"/>
            <a:ext cx="368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По веткам скаче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да не птиц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рыжая, да не ли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02200" y="152280"/>
            <a:ext cx="504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Меньше тигра, больше кош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На ушах – кисточки-рож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С виду кроток, но не вер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Страшен в гневе этот зве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1413000"/>
            <a:ext cx="289080" cy="431640"/>
          </a:xfrm>
          <a:prstGeom prst="downArrow">
            <a:avLst>
              <a:gd name="adj1" fmla="val 50000"/>
              <a:gd name="adj2" fmla="val 37329"/>
            </a:avLst>
          </a:prstGeom>
          <a:gradFill rotWithShape="0">
            <a:gsLst>
              <a:gs pos="0">
                <a:srgbClr val="ff9966"/>
              </a:gs>
              <a:gs pos="50000">
                <a:srgbClr val="ff3300"/>
              </a:gs>
              <a:gs pos="100000">
                <a:srgbClr val="ff99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14" descr="p10.gif"/>
          <p:cNvPicPr/>
          <p:nvPr/>
        </p:nvPicPr>
        <p:blipFill>
          <a:blip r:embed="rId1"/>
          <a:stretch/>
        </p:blipFill>
        <p:spPr>
          <a:xfrm>
            <a:off x="1547640" y="4365720"/>
            <a:ext cx="1005120" cy="1150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6" descr="p2.gif"/>
          <p:cNvPicPr/>
          <p:nvPr/>
        </p:nvPicPr>
        <p:blipFill>
          <a:blip r:embed="rId2"/>
          <a:stretch/>
        </p:blipFill>
        <p:spPr>
          <a:xfrm>
            <a:off x="3851280" y="5084640"/>
            <a:ext cx="1101600" cy="12956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p7.gif"/>
          <p:cNvPicPr/>
          <p:nvPr/>
        </p:nvPicPr>
        <p:blipFill>
          <a:blip r:embed="rId3"/>
          <a:stretch/>
        </p:blipFill>
        <p:spPr>
          <a:xfrm>
            <a:off x="6443640" y="4581360"/>
            <a:ext cx="1054080" cy="129564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276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191628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4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2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2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6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4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2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8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8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6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4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8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8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14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8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2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42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30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6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4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2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2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3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4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4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ят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Игра &quot;Съедобное-Несъедобное&quot;. Часть 3 - Страница 32 - Официальный Лада Гранта Клуб LADA Granta Club"/>
          <p:cNvPicPr/>
          <p:nvPr/>
        </p:nvPicPr>
        <p:blipFill>
          <a:blip r:embed="rId1"/>
          <a:stretch/>
        </p:blipFill>
        <p:spPr>
          <a:xfrm>
            <a:off x="152280" y="914400"/>
            <a:ext cx="8991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Подберезовик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Striborg.ee * Грибочки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Маслята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Маслята Supersadovod - о саде и огороде просто и интересно"/>
          <p:cNvPicPr/>
          <p:nvPr/>
        </p:nvPicPr>
        <p:blipFill>
          <a:blip r:embed="rId1"/>
          <a:stretch/>
        </p:blipFill>
        <p:spPr>
          <a:xfrm>
            <a:off x="609480" y="6858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Лисичк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О грибах весело :) kalop.ru"/>
          <p:cNvPicPr/>
          <p:nvPr/>
        </p:nvPicPr>
        <p:blipFill>
          <a:blip r:embed="rId1"/>
          <a:stretch/>
        </p:blipFill>
        <p:spPr>
          <a:xfrm>
            <a:off x="838080" y="1589040"/>
            <a:ext cx="66294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Сыроежк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Говори с грибами о грибах. Часть 1 &quot; Центр Равновесия"/>
          <p:cNvPicPr/>
          <p:nvPr/>
        </p:nvPicPr>
        <p:blipFill>
          <a:blip r:embed="rId1"/>
          <a:stretch/>
        </p:blipFill>
        <p:spPr>
          <a:xfrm>
            <a:off x="1371600" y="1515960"/>
            <a:ext cx="6781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Боровик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Форум &quot;В Керчи&quot; * Просмотр темы - Прикладная география"/>
          <p:cNvPicPr/>
          <p:nvPr/>
        </p:nvPicPr>
        <p:blipFill>
          <a:blip r:embed="rId1"/>
          <a:stretch/>
        </p:blipFill>
        <p:spPr>
          <a:xfrm>
            <a:off x="990720" y="1295280"/>
            <a:ext cx="66294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5:03:36Z</dcterms:created>
  <dc:creator>красотуля</dc:creator>
  <dc:description/>
  <dc:language>en-US</dc:language>
  <cp:lastModifiedBy>ВЛАДЕЛЕЦ</cp:lastModifiedBy>
  <dcterms:modified xsi:type="dcterms:W3CDTF">2015-02-10T13:44:1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