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3D3-1AF8-41B7-958B-04E0E87B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09E-1A41-40CD-B1D2-2A54ED38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DDB-497C-4208-8263-9EBA497A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96B-9EF5-4CE7-AD86-E4AAE0E4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C3CD-5205-421E-AAEE-A10641FF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14D9-F1B7-4F92-AF81-8283BC4A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0A18-8A27-4C81-8B4B-21EC2EEC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1E8B-9984-40FA-8E69-E424BE40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B881-63B2-4BA5-9E9B-62B5EB5F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B6EC-BF33-4141-BFEC-B35FC43E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DDDC-30DC-4C55-9AAB-94253FC5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77B-6299-46BD-ACD0-D70003F7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DAE4-AEA9-43F8-8D2B-71955306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CA8A-83B5-4896-9A6F-E2ED918B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2849-6A2E-4DE0-90A7-42EC6495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1516-C29E-4351-8A55-FC3BBE9A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EBBF-4BA6-43AE-8C93-D7BE590E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DD2-B352-4278-A4F2-A5086733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8FE-2975-449C-A4C6-A072D08D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5EE-013E-4714-BD89-2FB641C4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D8A-6769-418F-96EA-A7ED5DF7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C58-6415-4C90-B9BA-FB10C651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645-2D35-496B-B1C4-8CD7EE2C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9E0-DB79-4B4E-82B9-1ED88AC3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BD14-CD76-4B16-9F8B-6038E5D6B8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693E-976A-4849-9C99-3624208D8A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362320" y="533520"/>
            <a:ext cx="50673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08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"Владимир Святославич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инятие христианства."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105520" y="3276720"/>
            <a:ext cx="289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Урок по истори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6 клас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u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0" y="45720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Русская православная церк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53080" y="3276720"/>
            <a:ext cx="1936800" cy="2395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324480" y="5638680"/>
            <a:ext cx="221004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сятинная церковь в Киев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Современная реконструк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1600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сле принятия христианства на Руси сложилась четка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церковная иерарх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1905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трополи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90512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Титул главы Русской православной церкв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438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пископ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3623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ысшее духовное лицо в православной и других церквях, глава церковного окру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8954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уховенств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3526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581280"/>
            <a:ext cx="144756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л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щенники, служившие в городских и сельских церкв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3581280"/>
            <a:ext cx="152388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и 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настыря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трудах и молитв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52120" y="3200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200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72428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ерковный уста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– свод правил, регулирующих деятельность церкв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5486400"/>
            <a:ext cx="3733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Ересь –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учение, отклонившееся от господствующих положений религиозного учения, считающихся непреложной истиной и не подлежащих крити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66880" y="60948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опросы для закреп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600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. Кто стоял во главе русской церкв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4382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 Кто стоял во главе церковных округ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3200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. Кто относился к черному и белому духовенств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3962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. Что такое церковный уста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876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. Какие учения называют ереся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95280" y="6858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Историческое значение крещения Рус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211120" cy="273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505320" y="1447920"/>
            <a:ext cx="5410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зменило быт наших далеких предков и нравы. Церковь, чтобы примирить славян с новой религией, сохранила некоторые языческие праздники. Но решительно запретила жертвоприношения, многоженство, кровную вражду и другие языческие тради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895480"/>
            <a:ext cx="53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месте с христианством на Русь пришли письменность, образование, церковное искус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358128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зменилось международное положение Древнерусского государства. Оно встало в общий ряд христианских государств Европ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449568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иболее тесные связи установились с Византией. В то время она оказывала на Русь большое влия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5257800"/>
            <a:ext cx="670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Князь Владимир объединил восточнославянские племена в границах Древней Руси. Принятие христианства укрепило государство, изменило быт и нравы его населения, способствовало развитию куль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7400" y="457200"/>
            <a:ext cx="5562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крепление матери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(тестирова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52480"/>
            <a:ext cx="739152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иевского князя Владимира народ называл «Красное солнышко» з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) крещение Руси, Б) хлебосольство к простым людям, В) создание оборонительной линии и за то, что остановил натиск печенегов, Г) принадлежность к лику святы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ристианство на Руси было принято в…году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) 988г., Б) 989 г., В) 990 г., Г) 99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иевский князь Владимир принял решение о крещении Рус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) под давлением Византии, Б) с целью укрепления государственной власти, В) для сближения в будущем с христианской  Европ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нятие христианства на Руси способствовал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) примирению противоречий в обществе (равенство перед Богом) и приобщению к византийской культуре., Б) укреплению государственной власти и расширению политического сотрудничества со странами Европы, В) распространению и росту преступности среди оставшихся язычник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5.    Русская православная церковь на первых порах подчинялась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) киевскому князю, Б) патриарху Константинопольскому, В) местному церковному Собор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6095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Цель урока: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знакомиться с деятельностью Владимира Святославича. Выяснить значение принятия христианства на Рус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362320"/>
            <a:ext cx="64008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авление князя Владими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чины принятия христианства на Рус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рещение Рус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сская православная церков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сторическое значение крещения Рус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33720" y="7621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Правление князя Влади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2581560" cy="3190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19320" y="5410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980 – 1015 г.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16002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80 г. – единый правитель Рус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1828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ачал свое княжение с наведения порядка в собственном государст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362320"/>
            <a:ext cx="480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84г. – разгромил ополчение радимич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корил Полоцкое княжество на             Западной Дви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3276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озглавил поход в Волжскую Булгарию. Одержав победу, заключил с булгарами мир на выгодных для Руси условия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4038480"/>
            <a:ext cx="5029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ервое столкновение Руси с Польш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81 г. – отвоеваны города Червень и Перемышль – центры восточнославянского племени дулебов-волыня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541008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.о.: под властью киевского князя оказались все восточнославянские и значительная часть финоугорских племе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33720" y="6858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просы для закреп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4864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к князь Владимир расширил и укрепил границы Древнерусского государств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52578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19320" y="6858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Причины принятия христианства на Рус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38880" y="2438280"/>
            <a:ext cx="1409760" cy="1743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1409760" cy="1743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48120" y="2819520"/>
            <a:ext cx="140976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43000" y="2438280"/>
            <a:ext cx="1409760" cy="1743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66680" y="1523880"/>
            <a:ext cx="769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ладимир понял, что удерживать под своей властью все славянские земли, опираясь лишь на военную силу, нельзя. Нужна была другая сила, а именно религия, способная не только сплотить все племена, но и укрепить княжескую власть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28600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ор вер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1911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ет Владимира о выборе вер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495680"/>
            <a:ext cx="236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лгарские проповедники-мусульмане у князя Владимир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45720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44956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поведники от хазар (иудеев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43434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41911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еческие проповедни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5334120"/>
            <a:ext cx="75438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Такую силу Владимир увидел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ристианстве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 К принятию христианства его подталкивало и стремление укрепить международный авторитет Рус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Т.О.: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ладимир решил принять христианство по византийскому (греческому) образц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5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09680" y="68580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просы для закреп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362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. Каковы причины принятия христианства на Рус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962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 Под влиянием какого государства князь Владимир    принял решение о крещении Рус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71800" y="685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Крещение Рус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1471320" cy="18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67280" y="3962520"/>
            <a:ext cx="1471680" cy="1819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828800" y="16002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рещению Руси предшествовали следующие событ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905120"/>
            <a:ext cx="754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987 г. – в войсках византийского императора вспыхнул бунт. Он обратился за помощью к Владимиру. Князь согласился послать войско в Византию, но потребовал, чтобы император отдал ему в жены свою сестру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нну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Этот брак поднял бы международный авторитет киевского князя. Император потребовал в ответ, чтобы Владимир принял христианство и крестил страну. Был подписан соответствующий договор, и русский отряд разгромил мятежников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429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200400"/>
            <a:ext cx="792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о император не спешил выполнять свои обещания. Тогда Владимир захватил центр владений в Крыму –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ерсонес (Корсунь)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 получив удобную базу для последующих нападений на империю с моря. Император был вынужден уступи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7913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сские войска осаждают Корсу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586728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арица Анна переправляется через мо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094120" cy="2590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2025720" cy="2505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038480" y="685800"/>
            <a:ext cx="4648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988 г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ладимир принял крещение и женился на византийской принцессе, отдав Корсунь в качестве выкупа за невест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32004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ещение князя Владими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752480"/>
            <a:ext cx="518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ернувшись домой в сопровождении византийских священников, он устроил массовое крещение жителей Киева. Перед этим были сброшены в Днепр идолы всех языческих богов во главе с Перун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5410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ещение киевля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419720"/>
            <a:ext cx="41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овая религия стала распространяться по всей Руси, частью мирно, а кое-где, например в Новгороде, в результате ожесточенных столкновений язычников с княжеской дружиной, принявшей христианство вслед за Владимир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90920" y="8380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просы для закреп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2286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. В каком году произошло крещение Рус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396252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 Какие события предшествовали крещению Рус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14:18:51Z</dcterms:created>
  <dc:creator>X</dc:creator>
  <dc:description/>
  <dc:language>en-US</dc:language>
  <cp:lastModifiedBy>X</cp:lastModifiedBy>
  <dcterms:modified xsi:type="dcterms:W3CDTF">2004-02-16T20:19:31Z</dcterms:modified>
  <cp:revision>5</cp:revision>
  <dc:subject/>
  <dc:title>Презентация PowerPoint</dc:title>
</cp:coreProperties>
</file>