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939-E7E9-41B6-AC37-50E9E312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FC5-1905-4D29-A10F-CC9BC6E5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43F-D01F-4460-8ABD-579B0A12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5DF-11AF-4BD2-ACAB-21BE7A39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397B-353D-4E59-B4F6-AA21D820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9B19-6779-43A0-97DA-3C7E6D99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3E43-502C-47A0-922F-B0603807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AA8D-708E-4123-8560-3653C686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03C9-92FC-4F05-8BB3-53744CE8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814C-B7AC-4871-9D44-F44BAA29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E181-1540-4A94-AE7E-47F3E772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C64-FF06-45B7-A520-0B21459B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D76C-918B-437F-923A-87665A9F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EDE9-AC31-444F-8D5F-33C9095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19C0-CE22-4837-8FFF-1806DBFB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23B9-753A-49F6-B4A1-A8E7998B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7D1E-D2C3-431A-9699-5A8DD672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3F82-F20D-4654-93BE-1105C163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788A-CC5F-4C21-A73F-FA4431A0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D486-487C-4FD8-AF51-7E557429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3547-8DA4-4C51-B24C-29D04F26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BAA7-032D-4CEE-8CE5-AC4FEB03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B4D-031C-46FE-8D01-23DC4663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D05C-3077-4218-A895-7397CDB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2825-EE18-4923-BE08-28412ECE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1E14-3743-4F90-9EA7-C700F5BC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4BE5-EB9A-4326-8955-024CDB9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8C65-C348-44C6-9C7F-49A79D01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8C08-A1DA-45F7-9421-AB1C4EE8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5901-C2E1-4214-8F86-75571359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EA44-BA93-4184-91F4-0814670B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E669E-89A4-4E26-A142-0E1E3835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D6EEA-4D7B-4B8F-8C11-69FCC852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8E1-0AC4-4336-8614-12CAE6C4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0325-54CA-442B-8037-2320A7C6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AD04-76D2-4A56-AC3C-BD2419D7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CFE77-190A-47A1-95A2-2337EEA0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1A83-D12B-449E-A9EF-4D06A20B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34D85-9413-4FFF-8AAE-C318C31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2238-0CE8-49A0-8A63-7A0C368F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70C1-1EB3-49CF-B167-E9CF2E5C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4BFD-A987-42AA-BE3C-ACF9F1BF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D8D3-A05F-4C01-AD8D-956C7D65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BA7F9-9334-42BF-B0F2-31CE5CF1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B74-7084-4E20-9D37-7F58397A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B6D9-C015-4C3D-B6D0-E9338E8E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434CF-7837-47B3-ADC7-18EC127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0F4B-96F8-4E5E-B0E8-72B5657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35541-B40E-4CF7-B460-06475FED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2A25F-9142-4785-AC82-3AB68133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66A6-77F3-406E-9D87-67C323B3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D2155-6901-4282-8E45-3CAED8EE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BADF-D9D4-44CF-92DB-107D5C6A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77D0-C4A9-4A11-9CF2-0E6363E0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1A0F3-868C-4617-9520-1AAFEB46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D80-938C-490A-9694-FF69DF74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BEF36-031D-4317-9A8E-BB22AA22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DCD-DA46-4B26-921C-0ED9BA17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0EE-E384-4F76-9AE6-96D8F6A5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24A-7C3C-4543-B703-C6D1EFF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8E74-F6B2-4F5B-A1DC-E129BFBF6C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55F3-FEF7-4FD6-9281-455BA33EBB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3EAC-B5CD-45D1-9246-462633A1C0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E789-09CC-4A43-9C53-91D83A556E0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99EA-8DD7-4593-A53D-6760480883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6327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гимназия № 32 Василеостровского района г. Санкт-Петербурга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Прямоугольник 3" descr=""/>
          <p:cNvPicPr/>
          <p:nvPr/>
        </p:nvPicPr>
        <p:blipFill>
          <a:blip r:embed="rId1"/>
          <a:stretch/>
        </p:blipFill>
        <p:spPr>
          <a:xfrm>
            <a:off x="1054080" y="1225440"/>
            <a:ext cx="7535880" cy="1951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i?id=262351121-16-72&amp;n=21"/>
          <p:cNvPicPr/>
          <p:nvPr/>
        </p:nvPicPr>
        <p:blipFill>
          <a:blip r:embed="rId2"/>
          <a:srcRect l="2608" t="0" r="0" b="8944"/>
          <a:stretch/>
        </p:blipFill>
        <p:spPr>
          <a:xfrm>
            <a:off x="684360" y="3284640"/>
            <a:ext cx="3638520" cy="26906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223" name="Rectangle 3"/>
          <p:cNvSpPr/>
          <p:nvPr/>
        </p:nvSpPr>
        <p:spPr>
          <a:xfrm>
            <a:off x="4500720" y="3737880"/>
            <a:ext cx="431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лена Александровна Иванова, учитель техн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 доп.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2"/>
          <p:cNvSpPr/>
          <p:nvPr/>
        </p:nvSpPr>
        <p:spPr>
          <a:xfrm>
            <a:off x="1071720" y="1285920"/>
            <a:ext cx="5929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воему назначению куклы делились на три большие группы: куклы – обереги,  игровые и обряд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клы - обереги. Оберег – амулет или волшебное заклинание, спасающее человека от различных опасностей, а также предмет, на который заклинание наговорено и который носят на теле в качестве талис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714240" y="1000080"/>
            <a:ext cx="7858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тоге проект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ыла изучена история традиционной русской народной куклы и ее в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своена технология выполнения тряпичной кук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готовлены образц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дены мастер-классы; выста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проекте создание экспозиции русской народной куклы  в муз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826920" y="549720"/>
            <a:ext cx="482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ршающи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4" descr="&amp;Mcy;&amp;icy;&amp;ncy;&amp;icy;-&amp;mcy;&amp;ucy;&amp;zcy;&amp;iecy;&amp;jcy; «&amp;Rcy;&amp;ucy;&amp;scy;&amp;scy;&amp;kcy;&amp;ocy;&amp;jcy; &amp;ocy;&amp;bcy;&amp;rcy;&amp;yacy;&amp;dcy;&amp;ocy;&amp;vcy;&amp;ocy;&amp;jcy; &amp;kcy;&amp;ucy;&amp;kcy;&amp;lcy;&amp;ycy;»"/>
          <p:cNvPicPr/>
          <p:nvPr/>
        </p:nvPicPr>
        <p:blipFill>
          <a:blip r:embed="rId1"/>
          <a:stretch/>
        </p:blipFill>
        <p:spPr>
          <a:xfrm>
            <a:off x="395280" y="981000"/>
            <a:ext cx="5078520" cy="31687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0" y="4221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ка тряпичных обрядовых ку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i?id=181951902-08-72&amp;n=21"/>
          <p:cNvPicPr/>
          <p:nvPr/>
        </p:nvPicPr>
        <p:blipFill>
          <a:blip r:embed="rId2"/>
          <a:stretch/>
        </p:blipFill>
        <p:spPr>
          <a:xfrm>
            <a:off x="900000" y="4724280"/>
            <a:ext cx="2519640" cy="1711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62" name="Picture 4" descr="i?id=210528945-56-72&amp;n=21"/>
          <p:cNvPicPr/>
          <p:nvPr/>
        </p:nvPicPr>
        <p:blipFill>
          <a:blip r:embed="rId3"/>
          <a:stretch/>
        </p:blipFill>
        <p:spPr>
          <a:xfrm>
            <a:off x="7236000" y="1125360"/>
            <a:ext cx="1549080" cy="2232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263" name="Picture 5" descr="i?id=115764896-17-72&amp;n=21"/>
          <p:cNvPicPr/>
          <p:nvPr/>
        </p:nvPicPr>
        <p:blipFill>
          <a:blip r:embed="rId4"/>
          <a:stretch/>
        </p:blipFill>
        <p:spPr>
          <a:xfrm>
            <a:off x="4859280" y="4292640"/>
            <a:ext cx="2109960" cy="2138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264" name="Picture 15" descr="desyatiruchka%5F%281%29"/>
          <p:cNvPicPr/>
          <p:nvPr/>
        </p:nvPicPr>
        <p:blipFill>
          <a:blip r:embed="rId5"/>
          <a:stretch/>
        </p:blipFill>
        <p:spPr>
          <a:xfrm>
            <a:off x="5580000" y="549360"/>
            <a:ext cx="144000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5" name="Picture 7" descr="mukle2"/>
          <p:cNvPicPr/>
          <p:nvPr/>
        </p:nvPicPr>
        <p:blipFill>
          <a:blip r:embed="rId6"/>
          <a:stretch/>
        </p:blipFill>
        <p:spPr>
          <a:xfrm>
            <a:off x="7128000" y="3860640"/>
            <a:ext cx="1704960" cy="19447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2" descr="&amp;Kcy;&amp;ucy;&amp;kcy;&amp;lcy;&amp;ycy; &amp;Mcy;&amp;acy;&amp;scy;&amp;tcy;&amp;iecy;&amp;rcy;-&amp;kcy;&amp;lcy;&amp;acy;&amp;scy;&amp;scy; &amp;Ocy;&amp;bcy;&amp;iecy;&amp;rcy;&amp;iecy;&amp;gcy; &amp;SHcy;&amp;icy;&amp;tcy;&amp;softcy;&amp;iocy; &amp;kcy;&amp;ucy;&amp;kcy;&amp;ocy;&amp;lcy;&amp;kcy;&amp;acy;-&amp;dcy;&amp;iecy;&amp;vcy;&amp;ocy;&amp;chcy;&amp;kcy;&amp;acy; &amp;Tcy;&amp;kcy;&amp;acy;&amp;ncy;&amp;softcy; &amp;fcy;&amp;ocy;&amp;tcy;&amp;ocy; 15"/>
          <p:cNvPicPr/>
          <p:nvPr/>
        </p:nvPicPr>
        <p:blipFill>
          <a:blip r:embed="rId1"/>
          <a:srcRect l="727" t="0" r="5088" b="0"/>
          <a:stretch/>
        </p:blipFill>
        <p:spPr>
          <a:xfrm>
            <a:off x="395280" y="765000"/>
            <a:ext cx="3529080" cy="28162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" descr="&amp;Ocy;&amp;bcy;&amp;iecy;&amp;rcy;&amp;iecy;&amp;gcy; &amp;Kcy;&amp;ucy;&amp;kcy;&amp;lcy;&amp;acy; &amp;ocy;&amp;bcy;&amp;iecy;&amp;rcy;&amp;iecy;&amp;gcy; &amp;Tcy;&amp;kcy;&amp;acy;&amp;ncy;&amp;softcy; &amp;fcy;&amp;ocy;&amp;tcy;&amp;ocy; 4"/>
          <p:cNvPicPr/>
          <p:nvPr/>
        </p:nvPicPr>
        <p:blipFill>
          <a:blip r:embed="rId2"/>
          <a:srcRect l="0" t="0" r="7874" b="0"/>
          <a:stretch/>
        </p:blipFill>
        <p:spPr>
          <a:xfrm>
            <a:off x="4067280" y="1413000"/>
            <a:ext cx="2233440" cy="3244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" descr="&amp;Ocy;&amp;bcy;&amp;iecy;&amp;rcy;&amp;iecy;&amp;gcy; &amp;Kcy;&amp;ucy;&amp;kcy;&amp;lcy;&amp;acy; &amp;ocy;&amp;bcy;&amp;iecy;&amp;rcy;&amp;iecy;&amp;gcy; &amp;Tcy;&amp;kcy;&amp;acy;&amp;ncy;&amp;softcy; &amp;fcy;&amp;ocy;&amp;tcy;&amp;ocy; 3"/>
          <p:cNvPicPr/>
          <p:nvPr/>
        </p:nvPicPr>
        <p:blipFill>
          <a:blip r:embed="rId3"/>
          <a:srcRect l="0" t="0" r="5624" b="0"/>
          <a:stretch/>
        </p:blipFill>
        <p:spPr>
          <a:xfrm>
            <a:off x="6372360" y="3284640"/>
            <a:ext cx="2319120" cy="32860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"/>
          <p:cNvSpPr/>
          <p:nvPr/>
        </p:nvSpPr>
        <p:spPr>
          <a:xfrm>
            <a:off x="4140360" y="549720"/>
            <a:ext cx="453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ршающи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324000" y="5013360"/>
            <a:ext cx="57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япичная обрядовая кук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ная уча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85920" y="1571760"/>
            <a:ext cx="621504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8d3e"/>
                </a:solidFill>
                <a:latin typeface="Verdana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ff8d3e"/>
                </a:solidFill>
                <a:latin typeface="Verdana"/>
              </a:rPr>
              <a:t>ЗА</a:t>
            </a:r>
            <a:br>
              <a:rPr sz="6600"/>
            </a:br>
            <a:r>
              <a:rPr b="1" lang="ru-RU" sz="6600" spc="-1" strike="noStrike">
                <a:solidFill>
                  <a:srgbClr val="ff8d3e"/>
                </a:solidFill>
                <a:latin typeface="Verdana"/>
              </a:rPr>
              <a:t>ВНИМАНИЕ!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900000" y="3980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468360" y="476280"/>
            <a:ext cx="8424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ая цель проек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овление творческой личности, стремящейся знать, ценить и пропагандировать русское народное твор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Изучить историю развития народной культуры в аспекте декоративно-приклад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учить детей знать, любить, ценить и пропагандировать культуру своих предков через декоративно-прикладн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Создавать условия для самореализации, саморазвития творческой личности и индивиду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Формировать уважение к культурному наследию сво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предусматривает использ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упповой и индивидуально - коллективной форм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обеспечивает сплоченность коллектива, творческое 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держанию проект можно отнести 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ворческ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аткосрочным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читан на 10 у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11280" y="572760"/>
            <a:ext cx="7777080" cy="52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пы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ап – организационно-подготовитель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2 урока) - включает в себя обсуждение идеи проекта, разработку программы проекта, определение его целей,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реал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 уроков) - связан с изучением истории традиционной русской народной куклы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учение литературы, фольклора, интернет-ресурсов, посещение Музея кукол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воением технологии выполнения обрядовой куклы (изучение техники выполнения через учебную литературу, посещение мастер-класс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анном этапе обязательным является исследовательская работа, это – поиск информации, которая должна быть обработана, осмыслена и представлена учащим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ап- завершающ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(2 урока) – выставка тряпичных обрядовых кукол, выполненных самими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826920" y="5231160"/>
            <a:ext cx="7777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стории традиционной русской народной куклы через чтение сказок, рассказов,  просмотров фильмов и  фолькл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2" descr="0eac4c3e740bВасилиса.jpg"/>
          <p:cNvPicPr/>
          <p:nvPr/>
        </p:nvPicPr>
        <p:blipFill>
          <a:blip r:embed="rId1"/>
          <a:stretch/>
        </p:blipFill>
        <p:spPr>
          <a:xfrm>
            <a:off x="684360" y="981000"/>
            <a:ext cx="3456000" cy="3824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229" name="Rectangle 2"/>
          <p:cNvSpPr/>
          <p:nvPr/>
        </p:nvSpPr>
        <p:spPr>
          <a:xfrm>
            <a:off x="611280" y="333720"/>
            <a:ext cx="777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" descr="06.jpg"/>
          <p:cNvPicPr/>
          <p:nvPr/>
        </p:nvPicPr>
        <p:blipFill>
          <a:blip r:embed="rId2"/>
          <a:srcRect l="0" t="0" r="5002" b="2631"/>
          <a:stretch/>
        </p:blipFill>
        <p:spPr>
          <a:xfrm>
            <a:off x="4788000" y="907920"/>
            <a:ext cx="292392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&amp;Bcy;&amp;ycy;&amp;lcy;&amp;icy; &amp;icy; &amp;mcy;&amp;icy;&amp;fcy;&amp;ycy; &amp;Pcy;&amp;iecy;&amp;tcy;&amp;iecy;&amp;rcy;&amp;bcy;&amp;ucy;&amp;rcy;&amp;gcy;&amp;acy; - &amp;Scy;&amp;tcy;&amp;rcy;&amp;acy;&amp;ncy;&amp;icy;&amp;tscy;&amp;acy; 5 : &amp;Gcy;&amp;ocy;&amp;rcy;&amp;ocy;&amp;dcy;&amp;acy;, &amp;vcy; &amp;kcy;&amp;ocy;&amp;tcy;&amp;ocy;&amp;rcy;&amp;ycy;&amp;khcy; &amp;mcy;&amp;ycy; &amp;zhcy;&amp;icy;&amp;vcy;&amp;iecy;&amp;mcy;"/>
          <p:cNvPicPr/>
          <p:nvPr/>
        </p:nvPicPr>
        <p:blipFill>
          <a:blip r:embed="rId1"/>
          <a:stretch/>
        </p:blipFill>
        <p:spPr>
          <a:xfrm>
            <a:off x="539640" y="1197000"/>
            <a:ext cx="3822840" cy="30751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826920" y="4724280"/>
            <a:ext cx="75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ение Музея Кукол.  СПб, Камская 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ого этнографического муз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б, ул. Инженерная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&amp;scy;&amp;acy;&amp;ncy;&amp;kcy;&amp;tcy;-&amp;pcy;&amp;iecy;&amp;tcy;&amp;iecy;&amp;rcy;&amp;bcy;&amp;ucy;&amp;rcy;&amp;gcy; &quot; &amp;Scy;&amp;tcy;&amp;rcy;&amp;acy;&amp;ncy;&amp;icy;&amp;tscy;&amp;acy; 12"/>
          <p:cNvPicPr/>
          <p:nvPr/>
        </p:nvPicPr>
        <p:blipFill>
          <a:blip r:embed="rId2"/>
          <a:stretch/>
        </p:blipFill>
        <p:spPr>
          <a:xfrm>
            <a:off x="4572000" y="1197000"/>
            <a:ext cx="3673440" cy="3075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"/>
          <p:cNvSpPr/>
          <p:nvPr/>
        </p:nvSpPr>
        <p:spPr>
          <a:xfrm>
            <a:off x="611280" y="333720"/>
            <a:ext cx="777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i0960.jpg"/>
          <p:cNvPicPr/>
          <p:nvPr/>
        </p:nvPicPr>
        <p:blipFill>
          <a:blip r:embed="rId1"/>
          <a:stretch/>
        </p:blipFill>
        <p:spPr>
          <a:xfrm>
            <a:off x="684360" y="1844640"/>
            <a:ext cx="2857320" cy="30002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236" name="TextBox 3"/>
          <p:cNvSpPr/>
          <p:nvPr/>
        </p:nvSpPr>
        <p:spPr>
          <a:xfrm>
            <a:off x="611280" y="105264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работ великих  художников  и создание собственных  зарис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"/>
          <p:cNvSpPr/>
          <p:nvPr/>
        </p:nvSpPr>
        <p:spPr>
          <a:xfrm>
            <a:off x="539640" y="5373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.А. Тропи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Девочка  с кукл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6" descr="&amp;Mcy;&amp;icy;&amp;ncy;&amp;icy;-&amp;mcy;&amp;ucy;&amp;zcy;&amp;iecy;&amp;jcy; &quot;&amp;Rcy;&amp;ucy;&amp;scy;&amp;scy;&amp;kcy;&amp;ocy;&amp;jcy; &amp;ocy;&amp;bcy;&amp;rcy;&amp;yacy;&amp;dcy;&amp;ocy;&amp;vcy;&amp;ocy;&amp;jcy; &amp;kcy;&amp;ucy;&amp;kcy;&amp;lcy;&amp;ycy;&quot; - &amp;Dcy;&amp;lcy;&amp;yacy; &amp;vcy;&amp;ocy;&amp;scy;&amp;pcy;&amp;icy;&amp;tcy;&amp;acy;&amp;tcy;&amp;iecy;&amp;lcy;&amp;iecy;&amp;jcy; &amp;dcy;&amp;iecy;&amp;tcy;&amp;scy;&amp;kcy;&amp;icy;&amp;khcy; &amp;scy;&amp;acy;&amp;dcy;&amp;ocy;&amp;vcy; - &amp;Mcy;&amp;acy;&amp;acy;&amp;mcy;.&amp;rcy;&amp;ucy;"/>
          <p:cNvPicPr/>
          <p:nvPr/>
        </p:nvPicPr>
        <p:blipFill>
          <a:blip r:embed="rId2"/>
          <a:srcRect l="5892" t="13881" r="15993" b="19560"/>
          <a:stretch/>
        </p:blipFill>
        <p:spPr>
          <a:xfrm>
            <a:off x="5292720" y="1844640"/>
            <a:ext cx="2587680" cy="3014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"/>
          <p:cNvSpPr/>
          <p:nvPr/>
        </p:nvSpPr>
        <p:spPr>
          <a:xfrm>
            <a:off x="611280" y="549720"/>
            <a:ext cx="777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4932360" y="5373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бота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ww.ethnomuseum.ru/sites/default/files/gallery/img_2489_0.jpg"/>
          <p:cNvPicPr/>
          <p:nvPr/>
        </p:nvPicPr>
        <p:blipFill>
          <a:blip r:embed="rId1"/>
          <a:stretch/>
        </p:blipFill>
        <p:spPr>
          <a:xfrm>
            <a:off x="1258920" y="1052640"/>
            <a:ext cx="6215040" cy="3929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395280" y="53578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 технологии выполнения обрядовой куклы на  мастер-клас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611280" y="549720"/>
            <a:ext cx="777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11280" y="549720"/>
            <a:ext cx="777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324000" y="3284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техники выполнения через учебную литературу, 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i?id=184321746-69-72&amp;n=21"/>
          <p:cNvPicPr/>
          <p:nvPr/>
        </p:nvPicPr>
        <p:blipFill>
          <a:blip r:embed="rId1"/>
          <a:stretch/>
        </p:blipFill>
        <p:spPr>
          <a:xfrm>
            <a:off x="468360" y="981000"/>
            <a:ext cx="2590920" cy="1981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47" name="Picture 5" descr="i?id=160259840-55-72&amp;n=21"/>
          <p:cNvPicPr/>
          <p:nvPr/>
        </p:nvPicPr>
        <p:blipFill>
          <a:blip r:embed="rId2"/>
          <a:stretch/>
        </p:blipFill>
        <p:spPr>
          <a:xfrm>
            <a:off x="3276720" y="1052640"/>
            <a:ext cx="2590560" cy="1917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48" name="Picture 4" descr="i?id=170139725-28-72&amp;n=21"/>
          <p:cNvPicPr/>
          <p:nvPr/>
        </p:nvPicPr>
        <p:blipFill>
          <a:blip r:embed="rId3"/>
          <a:stretch/>
        </p:blipFill>
        <p:spPr>
          <a:xfrm>
            <a:off x="6012000" y="907920"/>
            <a:ext cx="2663640" cy="2068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49" name="Picture 4" descr="i?id=417924364-51-72&amp;n=21"/>
          <p:cNvPicPr/>
          <p:nvPr/>
        </p:nvPicPr>
        <p:blipFill>
          <a:blip r:embed="rId4"/>
          <a:stretch/>
        </p:blipFill>
        <p:spPr>
          <a:xfrm>
            <a:off x="395280" y="4076640"/>
            <a:ext cx="2808360" cy="1841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50" name="Picture 4" descr="i?id=116106705-41-72&amp;n=21"/>
          <p:cNvPicPr/>
          <p:nvPr/>
        </p:nvPicPr>
        <p:blipFill>
          <a:blip r:embed="rId5"/>
          <a:stretch/>
        </p:blipFill>
        <p:spPr>
          <a:xfrm>
            <a:off x="3419640" y="4005360"/>
            <a:ext cx="2717640" cy="19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51" name="Picture 5" descr="i?id=435776388-55-72&amp;n=21"/>
          <p:cNvPicPr/>
          <p:nvPr/>
        </p:nvPicPr>
        <p:blipFill>
          <a:blip r:embed="rId6"/>
          <a:stretch/>
        </p:blipFill>
        <p:spPr>
          <a:xfrm>
            <a:off x="6443640" y="3860640"/>
            <a:ext cx="2160720" cy="2092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571680" y="1357200"/>
            <a:ext cx="7286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71680" y="636840"/>
            <a:ext cx="74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Tahoma"/>
                <a:ea typeface="Times New Roman"/>
              </a:rPr>
              <a:t>История возникновения тряпичной кук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28760" y="141336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Tahoma"/>
                <a:ea typeface="Times New Roman"/>
              </a:rPr>
              <a:t>КУКЛ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первая среди игрушек. Она известна с глубокой древности, оставаясь вечно юной. Ее история прослеживается со времен строительства египетских пирамид  до наших дней.   По материалам археологических исследований и литературным источникам известны куклы древнего Егип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из дерева и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9"/>
          <p:cNvSpPr/>
          <p:nvPr/>
        </p:nvSpPr>
        <p:spPr>
          <a:xfrm>
            <a:off x="571680" y="300024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время, когда куклы спасали людям жизнь, заменив человека в обрядах жертвоприношения. У наших предков был обычай: чтобы умилостивить богов, приносили в жертву им людей. Но однажды кому – то пришла  в голову идея  предложить богам вместо живого человека куклу. Взяли обыкновенное полено, обрядили его в платок и сарафан и принесли в жертву бог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22:35Z</dcterms:created>
  <dc:creator>NB</dc:creator>
  <dc:description/>
  <dc:language>en-US</dc:language>
  <cp:lastModifiedBy>818</cp:lastModifiedBy>
  <dcterms:modified xsi:type="dcterms:W3CDTF">2015-03-12T10:07:00Z</dcterms:modified>
  <cp:revision>42</cp:revision>
  <dc:subject/>
  <dc:title>Слайд 1</dc:title>
</cp:coreProperties>
</file>