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EF3-A589-4BC4-AE2C-462C609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7F8-941D-4885-A0CE-DDFDFFA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FF4-9316-4641-882D-E08D49A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443-18DA-4238-8621-DD877F2F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ECD-783A-4CF4-9545-27A28DB7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632-FDF3-4972-B241-F13348B3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6C-1805-4309-ADD0-00D7E49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89C-8DEC-40FA-A5AF-27DF5A3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624-1CAB-4B7A-9A68-53BDF6E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EAE-A0E4-4EAD-ABAC-088677F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0CB-3018-4792-A3BB-9AA7859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66D-2A45-482C-8018-9F7381F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EA4-3EC1-4DBB-8A1F-D34760B20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имнин ад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«Открытка-мѳѳгу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уртукчу башкы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Буурел Оюнмаа Сааяев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Ѳѳредилге эрте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бойду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га чоок эртемне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труд, математи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имнин хевир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практиктиг -  дыннадыг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еткел этап (ажылдын угланыышкыны- чааскаан ажылдаа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 этап (сыгарынын аргалары-биле таныжары, материалды белеткээ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ннел этап (ажылды туннээри болгаш делгээ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огуну сып кылырда математика дузалыг б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гами дээрге япон дылдан очулдурарга, «ори»-сыгары, «кам» – саазын. Азы саазынны чыырынын онзагайы. Мындыг хевирлиг ажыл хол ужуун, сактып алырын, логиказын, дылын  экижидер база математиканы дурген билип алырынга дузалыг. Бо моогуну чурук, куш ажыл кичээлинге-даа, каасталга, белек кылдыр-даа ажыглап болур. Мѳѳгуну кылырда карак-биле хемчээри дузалы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573120" y="195120"/>
            <a:ext cx="80834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ыска уе иштин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26960" y="785880"/>
            <a:ext cx="7802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689040" y="1073160"/>
            <a:ext cx="7772400" cy="1785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. Мѳѳгу дугайында дыннадыгны белеткээ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.Башкы-биле сумележи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.Сыгарынын аргалары - биле таныж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785880" y="2143080"/>
            <a:ext cx="7715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 flipH="1">
            <a:off x="2201760" y="2967120"/>
            <a:ext cx="1441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5" descr=""/>
          <p:cNvPicPr/>
          <p:nvPr/>
        </p:nvPicPr>
        <p:blipFill>
          <a:blip r:embed="rId1"/>
          <a:stretch/>
        </p:blipFill>
        <p:spPr>
          <a:xfrm>
            <a:off x="689040" y="426960"/>
            <a:ext cx="7772400" cy="317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2356920"/>
            <a:ext cx="64008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.хач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.ѳннуг сааз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.каранда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689040" y="706320"/>
            <a:ext cx="777240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28800" y="1928880"/>
          <a:ext cx="7500960" cy="4286160"/>
        </p:xfrm>
        <a:graphic>
          <a:graphicData uri="http://schemas.openxmlformats.org/drawingml/2006/table">
            <a:tbl>
              <a:tblPr/>
              <a:tblGrid>
                <a:gridCol w="615960"/>
                <a:gridCol w="3133440"/>
                <a:gridCol w="1876680"/>
                <a:gridCol w="1874880"/>
              </a:tblGrid>
              <a:tr h="62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тэ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57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нуг саазы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ч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нд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29600" cy="196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кичээ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216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Моогуну сып кылырынын схем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Математика билиглерин ажыглап болур б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5</cp:lastModifiedBy>
  <dcterms:modified xsi:type="dcterms:W3CDTF">2012-03-23T18:01:39Z</dcterms:modified>
  <cp:revision>36</cp:revision>
  <dc:subject/>
  <dc:title>Проектинин ады «Моогу»</dc:title>
</cp:coreProperties>
</file>