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1BF5C-FEEA-406C-8A2C-5F1428DF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46ABC-9AAE-4663-9348-77FC38CF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6FA53-9DDF-433D-A0A5-07828426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7C79B-02F8-46D0-B9A1-E0DBD441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9504-A23D-4F30-A907-8431FFB2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D540-3CF4-4FEF-A712-2322AD37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E2DE-C60D-425F-ABCA-41B38769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33D4-0869-40B6-9AFA-1524D2B7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28EB-5C98-4361-8E13-3248F068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B50E-A5AD-47DE-97B7-626D46C8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85A3-2C8C-4962-817E-37DD7E70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D9CEA-7535-48D3-AC6D-C6035968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44F9-7B14-47CC-A92A-19D5AA2A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2ED2-175A-4863-A4F8-F70E7099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ABC5-C140-4C9B-8D51-6B84A667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8B3D-C901-4B53-AC5B-513936CB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6681-F59F-4192-98D1-8AD37E22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2B1E1-C29C-4197-A274-D86177D2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B6E72-833E-4770-A210-A05FF527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5F917-DFC0-460A-85E4-13A61DDF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5FDD8-8EEB-4C32-B1A3-0AD83941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777D6-275D-4808-8A5E-BD9DA235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8204F-A11F-4581-80F7-DA6B2775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4F71E-B85A-4736-866F-A24A66A3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B92A-5A44-4E7E-B6BF-F18AEBB2FE5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6AEA-D910-44B7-9C1C-183FE70ED71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ема урока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en-US" sz="6600" spc="-1" strike="noStrike">
                <a:solidFill>
                  <a:srgbClr val="ebf25a"/>
                </a:solidFill>
                <a:latin typeface="Tahoma"/>
              </a:rPr>
              <a:t>Разработка бизнес-плана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24000" y="4005360"/>
            <a:ext cx="14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Tahoma"/>
              </a:rPr>
              <a:t>ИНВЕСТОР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bf25a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ebf25a"/>
                </a:solidFill>
                <a:latin typeface="Tahoma"/>
              </a:rPr>
              <a:t>это вкладчик, т.е. юридическое или физическое лицо, осуществляющее инвестиции, вкладывающее собственные, заемные или иные средства в инвестиционные проекты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ВЕНЧУРНЫЙ КАПИТА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ebf25a"/>
                </a:solidFill>
                <a:latin typeface="Tahoma"/>
              </a:rPr>
              <a:t>это рисковый капитал, вложенный в дело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ВЕНЧУРНЫЙ БИЗНЕС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bf25a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ebf25a"/>
                </a:solidFill>
                <a:latin typeface="Tahoma"/>
              </a:rPr>
              <a:t>это рисковый бизнес, ориентированный на практическое использование технических и технологических новинок, еще не опробанных на практик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81080" y="-5440320"/>
            <a:ext cx="716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f25a"/>
                </a:solidFill>
                <a:latin typeface="Tahoma"/>
              </a:rPr>
              <a:t>вопро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Понятие бизнес-план, его цели и зада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Структура и содержание бизнес-пла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Оформление и стиль бизнес-пла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-5511600"/>
            <a:ext cx="716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ebf25a"/>
                </a:solidFill>
                <a:latin typeface="Tahoma"/>
              </a:rPr>
              <a:t>Бизнес-план, его цели и задачи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7280" y="-5692680"/>
            <a:ext cx="1447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bf25a"/>
                </a:solidFill>
                <a:uFillTx/>
                <a:latin typeface="Tahoma"/>
              </a:rPr>
              <a:t>Бизнес-план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– </a:t>
            </a: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это документ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в котором оцениваются и прогнозируютс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возможности развития фир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24000" y="-5196960"/>
            <a:ext cx="716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ebf25a"/>
                </a:solidFill>
                <a:uFillTx/>
                <a:latin typeface="Tahoma"/>
              </a:rPr>
              <a:t>Цель разработки бизнес-план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спланировать всю хозяйственную деятельность фирмы на ближайший и отдаленный период в соответствии с потребностями рын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252360" y="-4833360"/>
            <a:ext cx="82440" cy="1161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Задачи бизнес план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пределить конкретные направления деятельности фирмы, целевые рынки и место фирмы на этих рынк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формировать долговременные и краткосрочные цели фир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ценить материальное и финансовое положение фирмы, а также соответствие кадров и условий мотивации их тру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пределить состав маркетинговых мероприятий фирмы по изучению рынка, рекламы, ценообразования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едусмотреть трудности, которые могут помешать выполнению бизнес-пла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7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В Ы В О Д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bf25a"/>
                </a:solidFill>
                <a:latin typeface="Tahoma"/>
              </a:rPr>
              <a:t>     </a:t>
            </a:r>
            <a:r>
              <a:rPr b="1" i="1" lang="en-US" sz="3200" spc="-1" strike="noStrike">
                <a:solidFill>
                  <a:srgbClr val="ebf25a"/>
                </a:solidFill>
                <a:latin typeface="Tahoma"/>
              </a:rPr>
              <a:t>В результате составления бизнес-плана можно заранее увидеть будущие проблемы и продумать пути их преодоления, сделать анализ всей хозяйственной деятельности фирмы и дать ответы на многие вопросы (Стоить ли рисковать? Будет ли доход?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ff"/>
                </a:solidFill>
                <a:latin typeface="Tahoma"/>
              </a:rPr>
              <a:t>Цели уро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Сформировать у учащихся понятие, что такое бизнес-план, познакомить со структурой, содержанием, правилами оформления и написания бизнес-плана.</a:t>
            </a:r>
            <a:r>
              <a:rPr b="1" i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2. Развивать у учащихся экономическое мышление, умение и навык и при разработке бизнес-пл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3. Воспитывать самостоятельность, инициативность, предприимчивость, ответствен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252360" y="-7302240"/>
            <a:ext cx="82440" cy="165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684720" y="1341000"/>
            <a:ext cx="871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ctr"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bf25a"/>
                </a:solidFill>
                <a:latin typeface="Tahoma"/>
              </a:rPr>
              <a:t>Структура и содержание бизнес-план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24000" y="-4904280"/>
            <a:ext cx="154080" cy="1161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bf25a"/>
                </a:solidFill>
                <a:latin typeface="Tahoma"/>
              </a:rPr>
              <a:t>     </a:t>
            </a:r>
            <a:r>
              <a:rPr b="1" i="1" lang="en-US" sz="4000" spc="-1" strike="noStrike">
                <a:solidFill>
                  <a:srgbClr val="ebf25a"/>
                </a:solidFill>
                <a:latin typeface="Tahoma"/>
              </a:rPr>
              <a:t>Главное правило при разработке бизнес-плана состоит в том, что руководитель фирмы или предприниматель должен 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самостоятельно </a:t>
            </a:r>
            <a:r>
              <a:rPr b="1" i="1" lang="en-US" sz="4000" spc="-1" strike="noStrike">
                <a:solidFill>
                  <a:srgbClr val="ebf25a"/>
                </a:solidFill>
                <a:latin typeface="Tahoma"/>
              </a:rPr>
              <a:t>написать его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252360" y="-4977360"/>
            <a:ext cx="82440" cy="1161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изнес- план  включает следующие составные част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итульный ли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главл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зю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тория бизнеса (если предприятие уже действуе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исание предприятия (фирм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арактеристика това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лан маркетин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онный пл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инансовый пл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ложение к бизнес-пл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42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ffcc"/>
                </a:solidFill>
                <a:uFillTx/>
                <a:latin typeface="Tahoma"/>
              </a:rPr>
              <a:t>Титульный  лист</a:t>
            </a:r>
            <a:r>
              <a:rPr b="1" lang="en-US" sz="3800" spc="-1" strike="noStrike" u="sng">
                <a:solidFill>
                  <a:srgbClr val="ffffcc"/>
                </a:solidFill>
                <a:uFillTx/>
                <a:latin typeface="Tahoma"/>
              </a:rPr>
              <a:t> СОДЕРЖИТ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заголовок пл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наименование фир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ид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ериод подготовки (дату и год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Ф.И.О. руководителя, его адрес и телеф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3300"/>
                </a:solidFill>
                <a:uFillTx/>
                <a:latin typeface="Tahoma"/>
              </a:rPr>
              <a:t>Оглавление.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наиболее читаемая страница бизнес-плана после титульного листа и резюме. Оно должно дать четкое представление 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о всем содержани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бизнес-пла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 u="sng">
                <a:solidFill>
                  <a:srgbClr val="ff3300"/>
                </a:solidFill>
                <a:uFillTx/>
                <a:latin typeface="Tahoma"/>
              </a:rPr>
              <a:t>Резюме.</a:t>
            </a:r>
            <a:r>
              <a:rPr b="1" lang="en-US" sz="4600" spc="-1" strike="noStrike" u="sng">
                <a:solidFill>
                  <a:srgbClr val="ff3300"/>
                </a:solidFill>
                <a:uFillTx/>
                <a:latin typeface="Tahoma"/>
              </a:rPr>
              <a:t> </a:t>
            </a:r>
            <a:br>
              <a:rPr sz="4600"/>
            </a:b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aa68"/>
                </a:solidFill>
                <a:latin typeface="Tahoma"/>
              </a:rPr>
              <a:t>В переводе с французского означает – излагать  вкратц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Резюм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i="1" lang="en-US" sz="2400" spc="-1" strike="noStrike">
                <a:solidFill>
                  <a:srgbClr val="ebf25a"/>
                </a:solidFill>
                <a:latin typeface="Tahoma"/>
              </a:rPr>
              <a:t>это краткое описание всей деятельности фирмы и выв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о состоит из 3 часте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введен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 цели и задачи, суть проект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основное содержан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вид деятельности, описание товара, источник доходов и т.д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заключен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планируемые показатели и выв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 u="sng">
                <a:solidFill>
                  <a:srgbClr val="ff3300"/>
                </a:solidFill>
                <a:uFillTx/>
                <a:latin typeface="Tahoma"/>
              </a:rPr>
              <a:t>История бизнеса:</a:t>
            </a:r>
            <a:br>
              <a:rPr sz="5100"/>
            </a:b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этапы развития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ebf25a"/>
                </a:solidFill>
                <a:uFillTx/>
                <a:latin typeface="Tahoma"/>
              </a:rPr>
              <a:t>Описание предприятия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1872720"/>
            <a:ext cx="799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- полное наименование фир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форма собственности и организационно- правовая форма предприят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- месторасположение и адрес фир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- техническое и материальное оснащение (оборудование, сырь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- краткое обоснование избранного направления 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- данные о руководителя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3300"/>
                </a:solidFill>
                <a:latin typeface="Tahoma"/>
              </a:rPr>
              <a:t>Характеристика товара:</a:t>
            </a:r>
            <a:br>
              <a:rPr sz="4600"/>
            </a:b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ebf25a"/>
                </a:solidFill>
                <a:latin typeface="Tahoma"/>
              </a:rPr>
              <a:t>- свойства и качества товар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bf25a"/>
                </a:solidFill>
                <a:latin typeface="Tahoma"/>
              </a:rPr>
              <a:t>- способы применения товар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ebf25a"/>
                </a:solidFill>
                <a:latin typeface="Tahoma"/>
              </a:rPr>
              <a:t>- жизненный цикл товар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ebf25a"/>
                </a:solidFill>
                <a:latin typeface="Tahoma"/>
              </a:rPr>
              <a:t>- спрос и сбыт товар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f25a"/>
                </a:solidFill>
                <a:latin typeface="Tahoma"/>
              </a:rPr>
              <a:t>План маркетинга:</a:t>
            </a:r>
            <a:br>
              <a:rPr sz="4600"/>
            </a:b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- рынок сбы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- сегментация рын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- конкурен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-  ценовая политика(рост цен, скидки, льготы, распродажа т.д.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-  реклам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-  обслуживание потребител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Tahoma"/>
              </a:rPr>
              <a:t>ПОВТОРЕНИЕ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612720" y="1557360"/>
            <a:ext cx="82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1989000"/>
            <a:ext cx="792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3300"/>
                </a:solidFill>
                <a:latin typeface="Tahoma"/>
              </a:rPr>
              <a:t>Организационный план:</a:t>
            </a:r>
            <a:br>
              <a:rPr sz="4600"/>
            </a:b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bf25a"/>
                </a:solidFill>
                <a:latin typeface="Tahoma"/>
              </a:rPr>
              <a:t>- внешняя среда предприя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bf25a"/>
                </a:solidFill>
                <a:latin typeface="Tahoma"/>
              </a:rPr>
              <a:t>- внутренняя среда предприя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bf25a"/>
                </a:solidFill>
                <a:latin typeface="Tahoma"/>
              </a:rPr>
              <a:t>- структура управ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bf25a"/>
                </a:solidFill>
                <a:latin typeface="Tahoma"/>
              </a:rPr>
              <a:t>- описание качеств работников, их               обязан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3300"/>
                </a:solidFill>
                <a:latin typeface="Tahoma"/>
              </a:rPr>
              <a:t>Финансовый план:</a:t>
            </a:r>
            <a:br>
              <a:rPr sz="5100"/>
            </a:b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f25a"/>
                </a:solidFill>
                <a:latin typeface="Tahoma"/>
              </a:rPr>
              <a:t>здесь записывают прогноз финансовых результатов на период разработки бизнес-пла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ahoma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сточники и условия финансир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- источники и условия кредит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- расчет себестоимости единицы продукции ( он производится для всех наименований продукции, планируемой к выпуску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- ожидаемый доход;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- рентабельность продук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- анализ риска (описание  источников их возникновения и пути их преодоления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3300"/>
                </a:solidFill>
                <a:uFillTx/>
                <a:latin typeface="Tahoma"/>
              </a:rPr>
              <a:t>Приложения к бизнес-плану 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ebf25a"/>
                </a:solidFill>
                <a:latin typeface="Tahoma"/>
              </a:rPr>
              <a:t>схемы, диаграммы, таблиц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ebf25a"/>
                </a:solidFill>
                <a:latin typeface="Tahoma"/>
              </a:rPr>
              <a:t>анке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ebf25a"/>
                </a:solidFill>
                <a:latin typeface="Tahoma"/>
              </a:rPr>
              <a:t>рекламы и т. 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91520" cy="33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bf25a"/>
                </a:solidFill>
                <a:latin typeface="Tahoma"/>
              </a:rPr>
              <a:t>Оформление </a:t>
            </a:r>
            <a:br>
              <a:rPr sz="6000"/>
            </a:br>
            <a:r>
              <a:rPr b="1" i="1" lang="en-US" sz="6000" spc="-1" strike="noStrike">
                <a:solidFill>
                  <a:srgbClr val="ebf25a"/>
                </a:solidFill>
                <a:latin typeface="Tahoma"/>
              </a:rPr>
              <a:t>и </a:t>
            </a:r>
            <a:br>
              <a:rPr sz="6000"/>
            </a:br>
            <a:r>
              <a:rPr b="1" i="1" lang="en-US" sz="6000" spc="-1" strike="noStrike">
                <a:solidFill>
                  <a:srgbClr val="ebf25a"/>
                </a:solidFill>
                <a:latin typeface="Tahoma"/>
              </a:rPr>
              <a:t>стиль бизнес-плана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298440" y="-1756080"/>
            <a:ext cx="29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82440" y="-4833360"/>
            <a:ext cx="82440" cy="1161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Оформление и стиль не менее важны для успеха бизнес-плана, чем его содержание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252360" y="-4688280"/>
            <a:ext cx="82440" cy="1161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bf25a"/>
                </a:solidFill>
                <a:latin typeface="Tahoma"/>
              </a:rPr>
              <a:t>Небрежно оформленный, неграмотно составленный бизнес-план не найдет понимания и поддержки в потенциальных инвесторов делового проек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11053800" y="-360"/>
            <a:ext cx="8209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333360"/>
            <a:ext cx="79423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ebf25a"/>
                </a:solidFill>
                <a:latin typeface="Tahoma"/>
              </a:rPr>
              <a:t>Специалисты по бизнес - планированию рекомендуют выполнять следующие правила составления и оформления бизнес-план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f25a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24000" y="-4904280"/>
            <a:ext cx="82800" cy="1161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31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1. Предложения должны быть короткими, ясными, четким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82440" y="-4761360"/>
            <a:ext cx="82440" cy="1161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128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ebf25a"/>
                </a:solidFill>
                <a:latin typeface="Tahoma"/>
              </a:rPr>
              <a:t>2. Бизнес-план должен    включать только относящуюся к делу информацию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973080" y="-4934880"/>
            <a:ext cx="144360" cy="1161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ahoma"/>
              </a:rPr>
              <a:t>3.Не завышать показатели будущих достижений без учета реальных возможностей фирмы, даже если это предпринимается в рекламных целе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ahoma"/>
              </a:rPr>
              <a:t>Б И З Н Е С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bf25a"/>
                </a:solidFill>
                <a:latin typeface="Tahoma"/>
              </a:rPr>
              <a:t>  </a:t>
            </a:r>
            <a:r>
              <a:rPr b="1" i="1" lang="en-US" sz="3200" spc="-1" strike="noStrike">
                <a:solidFill>
                  <a:srgbClr val="ebf25a"/>
                </a:solidFill>
                <a:latin typeface="Tahoma"/>
              </a:rPr>
              <a:t>самостоятельная, инициативная деятельность людей, проведенная за свой счет, от своего имени, под свою ответственность, под свой страх и риск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900000" y="-4959720"/>
            <a:ext cx="142920" cy="1161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3600" spc="-1" strike="noStrike">
                <a:solidFill>
                  <a:srgbClr val="ebf25a"/>
                </a:solidFill>
                <a:latin typeface="Tahoma"/>
              </a:rPr>
              <a:t>4. Основные моменты и положения должны быть выделены разделами, параграфами, использовать разные цвета, образцы шрифта, т.к. хорошо оформленный материал легко читается, и быстрее попадает в поле зр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96720" y="-4959720"/>
            <a:ext cx="72720" cy="1161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ahoma"/>
              </a:rPr>
              <a:t>5. Очень помогает уяснить положение плана фотографии, диаграммы, графики, таблицы. Применение этих средств повышает впечатление о бизнес-план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bf25a"/>
                </a:solidFill>
                <a:latin typeface="Tahoma"/>
              </a:rPr>
              <a:t>Правила составления и оформления бизнес-плана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1. Предложения должны быть короткими, ясными, четки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bf25a"/>
                </a:solidFill>
                <a:latin typeface="Tahoma"/>
              </a:rPr>
              <a:t>2. Бизнес-план должен включать только относящуюся к делу информац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3.Не завышать показатели будущих достижений без учета реальных возможностей фирмы, даже если это предпринимается в рекламных ц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bf25a"/>
                </a:solidFill>
                <a:latin typeface="Tahoma"/>
              </a:rPr>
              <a:t>4. Основные моменты и положения должны быть выделены разделами, параграфами, использовать разные цвета, образцы шрифта. Хорошо оформленный материал легко читается, и быстрее попадает в поле зр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5. Очень помогает уяснить положение плана фотографии, диаграммы, графики, таблиц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ebf25a"/>
                </a:solidFill>
                <a:latin typeface="Tahoma"/>
              </a:rPr>
              <a:t>Применение этих средств повышает впечатление о бизнес-пла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ebf25a"/>
                </a:solidFill>
                <a:latin typeface="Tahoma"/>
              </a:rPr>
              <a:t>Такую информацию лучше включать в приложение бизнес-пла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757080" y="-4977360"/>
            <a:ext cx="144360" cy="1161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ahoma"/>
              </a:rPr>
              <a:t>Закрепление нового материал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200" spc="-1" strike="noStrike">
                <a:solidFill>
                  <a:srgbClr val="f2aa68"/>
                </a:solidFill>
                <a:latin typeface="Tahoma"/>
              </a:rPr>
              <a:t>Карточка- задание №1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Найти правильное определение к термину бизнес-план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это свод правил и  положений, которые устанавливает фирм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это документ, в котором оцениваются и прогнозируются возможности  развития фирмы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это книга ведения уче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арточка- задание №2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bf25a"/>
                </a:solidFill>
                <a:latin typeface="Tahoma"/>
              </a:rPr>
              <a:t>Дополнить пред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ahoma"/>
              </a:rPr>
              <a:t>Цель разработки бизнес-</a:t>
            </a: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Tahoma"/>
              </a:rPr>
              <a:t>плана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планировать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---------------------------------- ----------------------------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арточка-задание №3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   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ДОПОЛНИТЬ  Задачи бизнес пла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f25a"/>
                </a:solidFill>
                <a:latin typeface="Tahoma"/>
              </a:rPr>
              <a:t>1.  ---------------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2.Сформировать долговременные и краткосрочные цели фир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f25a"/>
                </a:solidFill>
                <a:latin typeface="Tahoma"/>
              </a:rPr>
              <a:t>3.  ------------------------------------------- ----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4.Определить состав маркетинговых мероприятий фирмы по изучению рынка, рекламы, ценообразования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f25a"/>
                </a:solidFill>
                <a:latin typeface="Tahoma"/>
              </a:rPr>
              <a:t>5.  --------------------------------------------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арточка-задание №4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1. Дополн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ebf25a"/>
                </a:solidFill>
                <a:latin typeface="Tahoma"/>
              </a:rPr>
              <a:t>Главное правило при разработке бизнес-плана заключается в том, что  --------------------------------------------------------------------------------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арточка-задание №5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541800" y="1412640"/>
            <a:ext cx="8210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f25a"/>
                </a:solidFill>
                <a:latin typeface="Tahoma"/>
              </a:rPr>
              <a:t>                                                    </a:t>
            </a:r>
            <a:r>
              <a:rPr b="1" i="1" lang="en-US" sz="2800" spc="-1" strike="noStrike">
                <a:solidFill>
                  <a:srgbClr val="ebf25a"/>
                </a:solidFill>
                <a:latin typeface="Tahoma"/>
              </a:rPr>
              <a:t>Выбрать из предложенного списка то, что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не  содержит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ebf25a"/>
                </a:solidFill>
                <a:latin typeface="Tahoma"/>
              </a:rPr>
              <a:t>титульный лис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) заголовок пла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б) цели и за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) наименование предприя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г) введ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) вид деятель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е) период подготов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ж) Ф.И.О. руководи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) адрес и телеф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арточка – задание №6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Tahoma"/>
              </a:rPr>
              <a:t>              </a:t>
            </a:r>
            <a:r>
              <a:rPr b="0" i="1" lang="en-US" sz="3200" spc="-1" strike="noStrike">
                <a:solidFill>
                  <a:srgbClr val="ff3300"/>
                </a:solidFill>
                <a:latin typeface="Tahoma"/>
              </a:rPr>
              <a:t>Дополн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Основные требования к оформлению  и составлению бизнес-плана следующ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</a:rPr>
              <a:t>1.  --------------------------------------------------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ebf25a"/>
                </a:solidFill>
                <a:latin typeface="Tahoma"/>
              </a:rPr>
              <a:t>2. Бизнес-план должен включать только относящуюся к делу информац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</a:rPr>
              <a:t>3.   ---------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4.    ----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ahoma"/>
              </a:rPr>
              <a:t>5. Очень помогает уяснить положение плана фотографии, диаграммы, графики, таблиц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БИЗНЕСМЕН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2420640"/>
            <a:ext cx="85690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ebf25a"/>
                </a:solidFill>
                <a:latin typeface="Tahoma"/>
              </a:rPr>
              <a:t>это человек, занимающийся бизнесо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арточка-задание №7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f25a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ebf25a"/>
                </a:solidFill>
                <a:latin typeface="Tahoma"/>
              </a:rPr>
              <a:t>Установите последователь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f25a"/>
                </a:solidFill>
                <a:latin typeface="Tahoma"/>
              </a:rPr>
              <a:t>  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Дайте определение бизнес-плану, используя следующие слов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000" spc="-1" strike="noStrike">
                <a:solidFill>
                  <a:srgbClr val="ebf25a"/>
                </a:solidFill>
                <a:latin typeface="Tahoma"/>
              </a:rPr>
              <a:t>А)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 в котором оцениваютс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Б)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возможности развития фирм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ebf25a"/>
                </a:solidFill>
                <a:latin typeface="Tahoma"/>
              </a:rPr>
              <a:t>В)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 докумен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Г)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и прогнозируютс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Домашнее задание: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писать экономические термины в словарь: </a:t>
            </a:r>
            <a:r>
              <a:rPr b="1" i="1" lang="en-US" sz="3200" spc="-1" strike="noStrike">
                <a:solidFill>
                  <a:srgbClr val="ebf25a"/>
                </a:solidFill>
                <a:latin typeface="Tahoma"/>
              </a:rPr>
              <a:t>бизнес- план, резюме, планирова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спек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готовить доклад на тему: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«Страхование предпринимательских рисков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работать свой бизнес - пл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МАЛОЕ ПРЕДПРИЯТИ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коммерческое предприятие любой формы собственности, где ограниченное  число рабочих мест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и незначительный объем выпускаемой продукц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ИНВЕСТИЦИ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bf25a"/>
                </a:solidFill>
                <a:latin typeface="Tahoma"/>
              </a:rPr>
              <a:t>  </a:t>
            </a:r>
            <a:r>
              <a:rPr b="1" i="1" lang="en-US" sz="4000" spc="-1" strike="noStrike">
                <a:solidFill>
                  <a:srgbClr val="ebf25a"/>
                </a:solidFill>
                <a:latin typeface="Tahoma"/>
              </a:rPr>
              <a:t>долгосрочные вложения капитала в предприятия разных отраслей, предпринимательские и инновационные проек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ИННОВАЦИ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0" i="1" lang="ru-RU" sz="4000" spc="-1" strike="noStrike">
                <a:solidFill>
                  <a:srgbClr val="ebf25a"/>
                </a:solidFill>
                <a:latin typeface="Tahoma"/>
              </a:rPr>
              <a:t>нововведения в области техники, технологии, органицации труда, управле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ВЕНЧУРНЫЕ ПРЕДПРИЯТ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000" spc="-1" strike="noStrike">
                <a:solidFill>
                  <a:srgbClr val="ebf25a"/>
                </a:solidFill>
                <a:latin typeface="Tahoma"/>
              </a:rPr>
              <a:t>это предприятия, фирмы, занимающиеся прикладными научными исследованиями и разработками, внедрением технических нововведени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3:29:26Z</dcterms:created>
  <dc:creator>Customer</dc:creator>
  <dc:description/>
  <dc:language>en-US</dc:language>
  <cp:lastModifiedBy>Customer</cp:lastModifiedBy>
  <dcterms:modified xsi:type="dcterms:W3CDTF">2009-02-17T18:06:24Z</dcterms:modified>
  <cp:revision>11</cp:revision>
  <dc:subject/>
  <dc:title>Тема урока: Разработка бизнес-плана</dc:title>
</cp:coreProperties>
</file>