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86CF-ADAB-48D2-B5D3-639B2F195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D71A-DA10-4B88-B66E-C730EBE8E0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9CE-CAE0-4A65-A7B8-0BA71C8E27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5FC0-8A21-49DF-9373-F0E708889D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D2CD-B233-492E-BBE3-A0BA7D0505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4D1F-FBD4-4BB1-9698-C8B071E512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6BA-8AA2-4C06-B9F9-D879EC59F1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0BD5-250A-4169-982B-CC54A1CD43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382E-0444-490A-9E9D-CF2DC785F3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C89C-3CAB-4023-A18D-F70B0B6FCD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606A-9F1F-45D7-AE2E-849073E63A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BC97-D648-4131-ADC6-BCDB1BF4D7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5F7E-9428-4B7C-B725-D4FEC19CCC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7D9C-8139-4AB3-B145-24758DF374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6DD2-C410-4FCA-8465-E9288C56FD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CC7-88C4-47FC-B38B-D2C706043A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F5AD-E7EF-427E-9276-9719C99100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602F-7F9A-40E0-BAAA-C0FCE4D383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470E-CC7D-4ECC-BFDF-91C1B5A4D5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C43E-0C66-4899-839F-D49DBD8F3D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6958-B135-4E24-8A2B-9415ABEDEF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08C-4871-4355-87D3-41CC7677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3F6-FB92-4FD2-8162-5908A804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7D98D-B1C1-4E30-B8CE-7BABC37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67CB0-0D33-48BD-AAE1-1E7BB32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C0E32-62DE-4E66-8D82-C6CF485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2CE13-F0A9-4F29-9DB5-F122696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7032D-7E4E-4FF4-BB27-0BB2BA6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14680-0381-4043-AD96-6390D6A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ADED1-B2A2-4C96-90B1-54D80A6F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A1D4D-A067-4F23-850B-A8720832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D7B4-6F59-4662-A61B-A20ABA1C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59A42-E3E0-4D65-9188-A2B43D74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9C3-9573-4EF9-8DB6-2DD04A4F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4B401-9E36-4C37-982C-0D4744E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BA9EA-415D-4AE1-8FBC-F16FF0A0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9942B-44B2-4BD3-A180-FB0C5EA0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511AE-D9BC-42C8-B3BC-F573E6A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C8694-6475-4F68-BD09-FB7CF3C5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930B4-3139-41E2-9B55-918E115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7A3F4-D5A6-4372-BDBA-DD92CD9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799C0-6E28-440C-BEC3-B44BD1A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06D0B-E28F-4242-A707-8805A726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78F70-1386-46E1-9F7E-53FA8F8C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8F7-9F49-4D23-B21C-22265A4E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7266E-8E32-4FCF-AF41-FAB76C69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94D82-6AFC-4B68-AE23-AF837BE5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CFB0-E5D9-433C-900F-78EDF9BC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B4B3-A17F-4D01-BDD5-C48AECB4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BB532-C502-4DF6-A05E-A5C46284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5588-6719-41E9-9A29-90818889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DA360-3392-400C-A5A2-FA4DDBAB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5B904-CB8A-41FE-8778-6A05D0B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70DF-3631-4967-9EA1-0B3DCC5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A5A0-11A4-4882-BB87-90C9E53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C0AA-919E-4805-B742-674A8964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A4386-CD10-4328-A092-36385A05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DD570-0C77-4533-8B12-4FC13371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EA11D-8267-4808-9797-FE9FDBB4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EE79B-837E-482B-8165-5B3EB6ED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44C7D-DBD0-45CF-9FFE-D6C78FC0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E054F-8071-48D4-90B6-79369AF5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8C033-63C7-44A8-A55A-46D746CC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6E941-6260-408E-AF7A-52419EFB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71E48-D426-40CC-8C18-9832FAF4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66F0C-BD14-4A02-A227-58F74BA0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107E-3064-44DF-B991-6EFC20CA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F597E-BDA5-472A-A94B-8C49A6F4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059D3-BC41-46BF-99CC-1337EE3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18C79-ED77-495B-A3FE-81F7AE1D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058C4-0A8E-4BE7-8C31-05078B6A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20F0D-1840-4F72-BB48-095B3A4F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F27E-A5C0-4B76-9263-DE69811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4636-FD64-4662-98F6-3DC720C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A2D1-F73C-476C-97A7-D9F41E15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296B-0F63-4B91-85AA-CB74ACD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E060-9A73-4422-A72C-F8B51C6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051-474B-4B5D-B9E7-A597D407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8CB8-BD1E-4B16-BD16-20D034C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CD63-E516-4E15-BF0D-06197F3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2594-1238-4470-9092-0FAFC59B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9DD6-8652-485F-9009-909AFC88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E566-7875-4574-9FAB-5B0207EE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69BF-3A86-4F62-BFD1-15B3074C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32E1-113E-451A-9B36-20CE0F3E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FC3E-BBF9-439E-9C61-54CC8BB5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25C1-0C99-49F2-B012-3029C28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6E6E-BD1D-4AF6-8A12-2636C53C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C14-C974-463F-B273-2471D91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D931-88AD-4BBF-B27B-9DF60085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65D2-8119-4B9F-80CB-C485EAF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4D0D-69C3-4333-AD30-91EB8CA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FA50-FA5C-495E-9010-E7A8424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0F00-4D5E-4A73-8AB4-4D58A46A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DE7C-5B6D-4FFE-BCDD-3DCFA248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C173-C222-4D54-8338-968CD27C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562C4-A0AF-46C9-A442-9B6E706C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D43C-802C-46AC-AFBB-389EBB63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322D-9816-43E2-9266-E3D125C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D1B-11DA-4DD6-91D4-23630573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00E1-F4DA-4AB5-9D86-915D8C1A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0A6A-D986-46F7-95F6-24CA69D9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416B-923C-4996-984A-8C0C3ABC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2512-4C10-45BF-890A-987E713A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12BE-FE18-493F-8027-F463D071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8F04-F601-4497-A699-A1B8F45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AD77-431F-4E2C-B35B-CB0DCB5F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6821-AB5E-4B30-BF8D-A8C9B86D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A544-6580-4BD2-807B-06B4A783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307E2-2E71-4617-8392-2855C01B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224-3244-4B5E-A989-AF3D4F14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1E56-324C-48D0-86BC-EF382F92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E59B-5DF9-4A09-A244-4478400B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C334-3F93-45E5-9011-D0069491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F56D-01F8-4CC2-8C30-117EF1DC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6BC3-2829-4201-97D8-76F10E83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32F6-0C41-482A-AD76-E1F7FC3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9C64-8C8A-4F9B-82DB-31E3B64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4C43-B901-4286-B070-FA85038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E74BE-B734-48AA-9D08-63B1077B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DF96-EF65-4D9E-AA8D-09B30B82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127-4A1F-495F-AA15-0C77C278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578D4-322E-40C9-80AC-6AAF20F4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7D0EF-5DB4-4404-AD83-6B8B87C9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727B4-8793-4F05-B1C0-9405207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1B00-E922-49A5-B9AE-336F1C9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71F4-ED30-4295-A03C-3279D082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C5B88-44B7-4253-A984-5F5C00F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DB5F5-A61C-4E7D-866A-AE608590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32EF-975C-4E8A-B2F3-F02C9D0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154DF-A893-4F64-B737-7C516F2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4467-C5BA-4A42-9DA3-9CA86AE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2E1-CB42-4E9A-971F-319E4B0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E81B5-8E22-4A4C-8762-0257FD5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2520C-DED4-4260-9757-94A5C93F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BE95-93FE-44F2-9563-B286A8AF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28B2-6F45-4C7B-AAD7-3AAA8E9B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17446-4C34-4194-8E2E-22C202EA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C7549-D7A6-44E5-B988-1AED52C7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E74FF-F111-4B3E-9327-8AF6B4FA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2DAD-FFC3-4444-9712-84D1A7E6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E879E-D6C7-4B59-8F1C-519DE3D3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8E40E-72A6-4308-B1D9-737526E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D3A-E453-4C52-92E8-84B39E3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1CBE-9A2E-48F9-AE8A-53AE21C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329F7-1EC7-4357-B726-2B7B8B3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059F-1627-432B-BD6F-1C7F14E6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7013-124C-4B68-93F7-94C2CE6E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7D9F8-2D34-49C8-BFBE-9EFAFD9C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6ADFF-383B-40C3-95D0-BFAA521E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4267F-1C1E-4789-AB02-E201C8BE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026E9-9E93-40BC-BDA4-820860BF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104D-0291-4943-B771-D030694A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97B42-E687-429E-8322-EB9C65A0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9B9-8645-44D1-99F1-E265C28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ABAE9-FD18-4274-9B4D-9276425B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A9C34-7F99-4069-93BB-F8756890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C91C-206E-40D4-8870-AF05810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DE9B9-3EB3-453B-8C24-5E6F1749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549F-9987-4057-826A-CF8F392A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21F4C-6ACF-41E4-8842-8C3FD56F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3AD0E-0D0F-486B-A04D-A63AADD2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0CF6D-70A9-42D9-9AAD-9748C2E2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E3572-067A-4EE5-A1E1-9C0636D1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647A6-5FBF-4BED-92AE-F455AC6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91FB-21F7-4E08-9AB0-E3475B8350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CE6-54E3-4CFE-A644-B789C95591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A374-B2BA-4155-8B14-4EE1DA573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8764-A2F3-4880-AE4D-45F58C1E7C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49C5-8DBD-4213-88AF-B0FBB4B71A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204-91CB-42DB-BE89-54AEB259C6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3DE-CC85-4741-B73D-6515E78331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2D1-C7B3-4B89-950A-8C3EE8E61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557-79BB-4E9B-9E16-6A3E232D41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BEEC-5DC3-426A-A225-C5C3F40709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33A-5220-4A43-8002-979C1D7D0A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19D-87EA-4D06-BFA7-7857BE37F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71720" y="4357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Реформы Петра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28" name="Picture 4" descr=""/>
          <p:cNvPicPr/>
          <p:nvPr/>
        </p:nvPicPr>
        <p:blipFill>
          <a:blip r:embed="rId1"/>
          <a:stretch/>
        </p:blipFill>
        <p:spPr>
          <a:xfrm>
            <a:off x="3429000" y="0"/>
            <a:ext cx="3151080" cy="4633920"/>
          </a:xfrm>
          <a:prstGeom prst="rect">
            <a:avLst/>
          </a:prstGeom>
          <a:ln w="0">
            <a:noFill/>
          </a:ln>
        </p:spPr>
      </p:pic>
      <p:sp>
        <p:nvSpPr>
          <p:cNvPr id="729" name="Прямоугольник 3"/>
          <p:cNvSpPr/>
          <p:nvPr/>
        </p:nvSpPr>
        <p:spPr>
          <a:xfrm>
            <a:off x="4214880" y="6021360"/>
            <a:ext cx="2286000" cy="83664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</a:rPr>
              <a:t>Автор: Беленков С. С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Из Указа Петра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1707г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овелеваю хозяина тульской оружейной фабрики Корнилу Белоглаза бить кнутом и послать на работу в монастырь, понеже он, подлец, осмелился войску государеву продать негодные пищали и фузе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казываю ружейной канцелярии переехать в Тулу и денно и нощно блюсти исправность ружей. Пусть дьяки и подъячие смотрят, как олдерманы клеима ставят, буде сомнение возьмет, самим проверять и смотром и стрельбою. А два ружья каждый месяц стрелять, пока не испортя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де заминка в войске приключится, особливо при сражении, по недосмотру дьяков и подъячих, бить оных кнутом нещадно по оголенному месту: Хозяину — 25 кнутов и пени по червонцу за ружь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шего олдермана — бить до бесчувств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шего дьяка — отдать в унтер-офице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ому хозяину ружейной фабрики Демидову повелеваю построить дьякам и подъячим избы, дабы не хуже хозяйских были, буде хуже, пусть Демидов не обижается, велю живота лишить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ВАР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лдерман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— маст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дминистративные преобразования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72" name="Picture 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60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еформа областного управ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3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17 октября 1707 год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л опубликован приказ об образовании губерний- так начиналась реформа областного управ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6227640" y="1700280"/>
            <a:ext cx="208944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 Губерн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губернато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6300720" y="2781360"/>
            <a:ext cx="201636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 провинц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евод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300720" y="4005360"/>
            <a:ext cx="215892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евод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мский комиса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AutoShape 8"/>
          <p:cNvSpPr/>
          <p:nvPr/>
        </p:nvSpPr>
        <p:spPr>
          <a:xfrm>
            <a:off x="7308720" y="2276640"/>
            <a:ext cx="142920" cy="504720"/>
          </a:xfrm>
          <a:prstGeom prst="downArrow">
            <a:avLst>
              <a:gd name="adj1" fmla="val 50000"/>
              <a:gd name="adj2" fmla="val 882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AutoShape 9"/>
          <p:cNvSpPr/>
          <p:nvPr/>
        </p:nvSpPr>
        <p:spPr>
          <a:xfrm>
            <a:off x="7308720" y="3284640"/>
            <a:ext cx="142920" cy="720720"/>
          </a:xfrm>
          <a:prstGeom prst="downArrow">
            <a:avLst>
              <a:gd name="adj1" fmla="val 50000"/>
              <a:gd name="adj2" fmla="val 12607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330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вая новую государственную структуру, Петр взял за основу шведский вариант, который выражался в том что каждое сословие в государстве должно было нести функциональные обязанности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4859280" y="1413000"/>
            <a:ext cx="208764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естьяне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val 5"/>
          <p:cNvSpPr/>
          <p:nvPr/>
        </p:nvSpPr>
        <p:spPr>
          <a:xfrm>
            <a:off x="6443640" y="2997360"/>
            <a:ext cx="2016000" cy="718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лов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6"/>
          <p:cNvSpPr/>
          <p:nvPr/>
        </p:nvSpPr>
        <p:spPr>
          <a:xfrm>
            <a:off x="4356000" y="2421000"/>
            <a:ext cx="194328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рговц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7199280" y="4653000"/>
            <a:ext cx="194472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меслен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Rectangle 8"/>
          <p:cNvSpPr/>
          <p:nvPr/>
        </p:nvSpPr>
        <p:spPr>
          <a:xfrm>
            <a:off x="4788000" y="4292640"/>
            <a:ext cx="187308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ухо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7345440" y="1844640"/>
            <a:ext cx="17985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оря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1"/>
          <p:cNvSpPr/>
          <p:nvPr/>
        </p:nvSpPr>
        <p:spPr>
          <a:xfrm flipV="1">
            <a:off x="7885080" y="227664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 flipH="1" flipV="1">
            <a:off x="6877080" y="1844280"/>
            <a:ext cx="28728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 flipH="1" flipV="1">
            <a:off x="6372000" y="278136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6156360" y="3645000"/>
            <a:ext cx="720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7885080" y="3716280"/>
            <a:ext cx="50328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 от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2 марта 1711 год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 «случай всегдашних наших отлучек» учреждал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ена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то учреждение представляло собой, собрание лиц, назначенных царем (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человек), а позднее стало собрание президентов коллегий – сенато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январе 1722 года была введена должность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генерал-прокур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«ока государева» 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обер-прокурора Сен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для надзора за работой Сената, который стал правительством России, т.к. обладал законодательной, административной и судеб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На смену 44 приказам Петр вводит коллегии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Военная и Адмиралтейская коллег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дали военными дел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Коллегия иностранных де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ешала посольские де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Берт- и мануфактур-коллег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нтролировали промышленност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Коммерц-коллег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отвечала за торговлю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Камер-, Штатс- и Ревизион-коллег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дали финанса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Юстиц-коллег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ешала судебные дел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Вотчинная коллег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бирала проблемы помещичьих, им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Главный магистра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анимался делами купцов и ремесленник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Синод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правлял церковными дела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Малороссийская коллег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анималась делами Украи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коллегия состояла из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присутствия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канцелярии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о главе которых были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президен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оветники, асессоры. Обязанности чиновников были строго регламентированы вышедшим </a:t>
            </a:r>
            <a:r>
              <a:rPr b="1" i="1" lang="ru-RU" sz="2000" spc="-1" strike="noStrike">
                <a:solidFill>
                  <a:srgbClr val="ffff99"/>
                </a:solidFill>
                <a:latin typeface="Times New Roman"/>
              </a:rPr>
              <a:t>Генеральным регламент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719-1724 гг.), определявшим основные принципы деятельности государственного аппарата. Петровская административная реформа привела к невиданной ранее бюрократизации и централизации управл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оциальная политик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рянское сословие в его классическом виде юридически оформилось при Петре. Произошла его консолидация в замкнутую привилегированную структуру, зависимую от монарха и обязанную служить царю и государству; за что дворянство обеспечивалось землей (до 1762 года), душевладением и освобождалось от многочисленных податей.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"Указ о единонаследии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" (1714 г.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крепил процесс консолидации, с экономической точки зрения уравняв в правах дворянское поместье с боярской вотчиной. Параграфы этого указа предписывали передавать земельную собственность по наследству только старшему сыну, вводилась система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майора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запрет на продажу любых дворянских земельных владений. Остальные члены рода должны были нести обязательную службу в государственных учреждениях, армии или на флоте. Таким образом, государственная служба становилась единственным источником благосостоя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-360" y="404280"/>
            <a:ext cx="4211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веденная в январе 1722 года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"Табель о рангах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Табель..." предоставляла возможность лицам податного сословия входить в дворянское сословие: чин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ласса предоставлял личное дворянство, а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VI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ласс возводил личного дворянина в потомственное дворянство. Особенно быстро можно было сделать карьеру в армии (к концу Северной войны каждый пятый офицер был не дворянин по происхождению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5867280" y="549360"/>
            <a:ext cx="237672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"Табель о рангах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4356000" y="1989000"/>
            <a:ext cx="15829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жданску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7559640" y="1916280"/>
            <a:ext cx="15843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дворну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8"/>
          <p:cNvSpPr/>
          <p:nvPr/>
        </p:nvSpPr>
        <p:spPr>
          <a:xfrm>
            <a:off x="6012000" y="2421000"/>
            <a:ext cx="14396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енну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10"/>
          <p:cNvSpPr/>
          <p:nvPr/>
        </p:nvSpPr>
        <p:spPr>
          <a:xfrm>
            <a:off x="5580000" y="3789360"/>
            <a:ext cx="252108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вела систему иерарх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новников (14 классов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Rectangle 11"/>
          <p:cNvSpPr/>
          <p:nvPr/>
        </p:nvSpPr>
        <p:spPr>
          <a:xfrm>
            <a:off x="6084720" y="5589720"/>
            <a:ext cx="23749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цип лич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луги и засл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12"/>
          <p:cNvSpPr/>
          <p:nvPr/>
        </p:nvSpPr>
        <p:spPr>
          <a:xfrm flipH="1">
            <a:off x="5580000" y="1125360"/>
            <a:ext cx="1152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 flipH="1">
            <a:off x="6804000" y="1125360"/>
            <a:ext cx="216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14"/>
          <p:cNvSpPr/>
          <p:nvPr/>
        </p:nvSpPr>
        <p:spPr>
          <a:xfrm>
            <a:off x="7885080" y="1125360"/>
            <a:ext cx="358920" cy="79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15"/>
          <p:cNvSpPr/>
          <p:nvPr/>
        </p:nvSpPr>
        <p:spPr>
          <a:xfrm>
            <a:off x="5148360" y="2421000"/>
            <a:ext cx="136836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16"/>
          <p:cNvSpPr/>
          <p:nvPr/>
        </p:nvSpPr>
        <p:spPr>
          <a:xfrm>
            <a:off x="7020000" y="2852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17"/>
          <p:cNvSpPr/>
          <p:nvPr/>
        </p:nvSpPr>
        <p:spPr>
          <a:xfrm flipH="1">
            <a:off x="7308720" y="2421000"/>
            <a:ext cx="1224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AutoShape 18"/>
          <p:cNvSpPr/>
          <p:nvPr/>
        </p:nvSpPr>
        <p:spPr>
          <a:xfrm>
            <a:off x="6877080" y="4653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4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851280" cy="532944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536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рестьянство было разделено на две основные групп: </a:t>
            </a:r>
            <a:r>
              <a:rPr b="1" i="1" lang="ru-RU" sz="2200" spc="-1" strike="noStrike">
                <a:solidFill>
                  <a:srgbClr val="ffff99"/>
                </a:solidFill>
                <a:latin typeface="Times New Roman"/>
              </a:rPr>
              <a:t>крепостных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ru-RU" sz="2200" spc="-1" strike="noStrike">
                <a:solidFill>
                  <a:srgbClr val="ffff99"/>
                </a:solidFill>
                <a:latin typeface="Times New Roman"/>
              </a:rPr>
              <a:t>государственных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; институт холопства ликвидирован –</a:t>
            </a:r>
            <a:r>
              <a:rPr b="0" lang="ru-RU" sz="2200" spc="-1" strike="noStrike">
                <a:solidFill>
                  <a:srgbClr val="ffff99"/>
                </a:solidFill>
                <a:latin typeface="Times New Roman"/>
              </a:rPr>
              <a:t>холоп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вливались в число </a:t>
            </a:r>
            <a:r>
              <a:rPr b="0" lang="ru-RU" sz="2200" spc="-1" strike="noStrike">
                <a:solidFill>
                  <a:srgbClr val="ffff99"/>
                </a:solidFill>
                <a:latin typeface="Times New Roman"/>
              </a:rPr>
              <a:t>крепостных крестьян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ru-RU" sz="2200" spc="-1" strike="noStrike">
                <a:solidFill>
                  <a:srgbClr val="ffff99"/>
                </a:solidFill>
                <a:latin typeface="Times New Roman"/>
              </a:rPr>
              <a:t>государственные крестьяне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лично свободное сельское населени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садское население,состоящее из </a:t>
            </a:r>
            <a:r>
              <a:rPr b="1" i="1" lang="ru-RU" sz="2200" spc="-1" strike="noStrike">
                <a:solidFill>
                  <a:srgbClr val="ffff99"/>
                </a:solidFill>
                <a:latin typeface="Times New Roman"/>
              </a:rPr>
              <a:t>купцов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i="1" lang="ru-RU" sz="2200" spc="-1" strike="noStrike">
                <a:solidFill>
                  <a:srgbClr val="ffff99"/>
                </a:solidFill>
                <a:latin typeface="Times New Roman"/>
              </a:rPr>
              <a:t>ремесленников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, было распределено по гильдиям и цехам и подчинялось магистрату, ставшему государственным учреждения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Духовный регламент» и образованный в 1721 году Святейший Синод превратили духовенство в служилое сословие, в отрасль государственной структуры. Священники  обязаны были доносить светской власти о настроениях народа, поддерживать и укреплять политику государ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ление Петра 1 окончилось в 1725 году.  Петровские реформы затронули все стороны российской жизни, включая культуру и быт. Просвещение, образование,  наука, искусство, быт развивались на протяжении 18-19 вв. под знаком преобразований, начатых Петром 1. Он – герой своего времени, и таких героев петровская эпоха породила немало. Петр 1 и его сподвижники совершили невероятное – за короткий исторический отрезок времени неузнаваемо преобразили Россию : построили новые города, создали развитую промышленность, сильную армию и флот, разгромили непобедимых шведов, добились выхода к морю, вырвали Россию из средневековой тьмы и направили нашу страну по пути европейского развит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презен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Указать характер государственных реформ Пе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Определить цель и итоги реформирования центрального и местного государственного упра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тодическая литератур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Е.В.Симонова.Поурочные разработки по истории России.М.2006.С.1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Б.Н.Серова,Л.М.Гаркуша,М.В.Лескинен..Поурочные разработки по истории России.М.2004.С.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Соловьев, С. М. Чтение и рассказы по истории России. М.: Правда, 1989. С. 47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(Орлов, А. С. Хрестоматия но истории России. М., 2003. С. 159-161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В.О. Ключевский "Исторические портреты"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Г.М.Карпов.Петровская эпоха в вопросах и ответ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Прямоугольник 3"/>
          <p:cNvSpPr/>
          <p:nvPr/>
        </p:nvSpPr>
        <p:spPr>
          <a:xfrm>
            <a:off x="3714840" y="5286240"/>
            <a:ext cx="2286000" cy="50004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еформы проводимые Петром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енная ре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формы в промышл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форма высших государственных органов Абсолютная монархия.(реформа центрального управления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форма местного управления (реформа городского управления и областная реформ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политика.Табель о ранг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4978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ссия, как и другие страны Европ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VII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века, встала на путь модернизации.Начало этому процессу положили рефор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Петра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охватившие многие сферы жизни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6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pic0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4958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еформы Петра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I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Сильная, противоречивая личность Петра Великого и его деятельность всегда привлекала внимание и серьезных историков, и публицистов, и обывателей. Грандиозные преобразования, охватившие все сферы человеческой жизни, проводились Петром в течение всего периода правления. За это время было принято около 2900 законодательных актов, которые должны были по-новому обустроить жизнь страны. Однако чем глобальной личность и свершаемые ею деяния, тем больше споров возникает вокруг нее. Оценка деятельности Петра изна­чально была противоречивой. В современной исторической науке существуют следующие точки зрения на этот счет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У Петра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не было продуманного, специально разработанного плана проведения реформ, а потому указы и предписания часто противоречили, а порой упраздняли друг дру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Реформы Петра есть продолжение изменений в обществе, начавшихся еще в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VII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веке, особенно при царе Алексее Михайловиче. Петр силой своего характера лишь покорил процессы преобразов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етровские реформы возникли под воздействием военных событий в истории из 36 лет царствования Петра 28 лет Россия воевал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И тем не менее все историки сходятся во мнении, что именно с Петра начинается активная последовательная политика вмешательства государства в экономическую, гражданскую, бытовую жизнь народ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2" name="Picture 4" descr="Безымянныйп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3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60280"/>
            <a:ext cx="670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готовка войска к боевым действиям требовала знаний, инициативы, дисциплины, что было условием существования боеспособной армии, и в 1716 году был издан «Устав воинский» (просуществовавшая около 150 лет), который требовал от офицеров активности и самостоятельности, регламентировал взаимоотношения в армии. Офицерские кадры формировались в двух школах - Бомбардирской (артиллерия) и Преображенской (пехота), а позже в морской, инженерной и медицинской военных школах. Настойчивые усилия Петр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вратили русскую армию в сильнейшую в Европ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овременно с созданием армии продолжалось строительство флота. До 1702 года в Воронеже было построено 28 кораблей, 23 галеры и множество мелких судов. Судьба Азов­ского флота была печальной: корабли частично были уничтожены, частично проданы Турции, но с 1702 года на Балтике, на реке Сясь уже строились корабли. В 1703 году возникла одна из самых крупных - Олонецкая верф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 времени Гангутской битвы (1714) был создан Балтийский флот из 22 кораблей, 5 фрегатов и множества мелких су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5" name="Picture 4" descr="voin2"/>
          <p:cNvPicPr/>
          <p:nvPr/>
        </p:nvPicPr>
        <p:blipFill>
          <a:blip r:embed="rId1"/>
          <a:stretch/>
        </p:blipFill>
        <p:spPr>
          <a:xfrm>
            <a:off x="7912080" y="3048120"/>
            <a:ext cx="1231920" cy="38098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i_noyabr-istoriya3_2"/>
          <p:cNvPicPr/>
          <p:nvPr/>
        </p:nvPicPr>
        <p:blipFill>
          <a:blip r:embed="rId2"/>
          <a:stretch/>
        </p:blipFill>
        <p:spPr>
          <a:xfrm>
            <a:off x="7080120" y="0"/>
            <a:ext cx="206388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3708360" y="2349360"/>
            <a:ext cx="151128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зен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3708360" y="1700280"/>
            <a:ext cx="151308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AutoShape 6"/>
          <p:cNvSpPr/>
          <p:nvPr/>
        </p:nvSpPr>
        <p:spPr>
          <a:xfrm>
            <a:off x="4716360" y="1557360"/>
            <a:ext cx="216000" cy="554040"/>
          </a:xfrm>
          <a:prstGeom prst="parallelogram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8"/>
          <p:cNvSpPr/>
          <p:nvPr/>
        </p:nvSpPr>
        <p:spPr>
          <a:xfrm>
            <a:off x="6443640" y="1844640"/>
            <a:ext cx="201600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96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зен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мовный зав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10"/>
          <p:cNvSpPr/>
          <p:nvPr/>
        </p:nvSpPr>
        <p:spPr>
          <a:xfrm>
            <a:off x="2700360" y="4437000"/>
            <a:ext cx="2987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02г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льский оружейный зав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11"/>
          <p:cNvSpPr/>
          <p:nvPr/>
        </p:nvSpPr>
        <p:spPr>
          <a:xfrm>
            <a:off x="6012000" y="3645000"/>
            <a:ext cx="2447640" cy="691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98 г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вьяновский завод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12"/>
          <p:cNvSpPr/>
          <p:nvPr/>
        </p:nvSpPr>
        <p:spPr>
          <a:xfrm>
            <a:off x="468360" y="3429000"/>
            <a:ext cx="237492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натный завод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13"/>
          <p:cNvSpPr/>
          <p:nvPr/>
        </p:nvSpPr>
        <p:spPr>
          <a:xfrm>
            <a:off x="539640" y="1773360"/>
            <a:ext cx="194472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жевенный зав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14"/>
          <p:cNvSpPr/>
          <p:nvPr/>
        </p:nvSpPr>
        <p:spPr>
          <a:xfrm>
            <a:off x="5364000" y="620640"/>
            <a:ext cx="2232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упей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15"/>
          <p:cNvSpPr/>
          <p:nvPr/>
        </p:nvSpPr>
        <p:spPr>
          <a:xfrm>
            <a:off x="1619280" y="620640"/>
            <a:ext cx="165564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ляпный дв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Line 16"/>
          <p:cNvSpPr/>
          <p:nvPr/>
        </p:nvSpPr>
        <p:spPr>
          <a:xfrm>
            <a:off x="4500720" y="3284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2842920" y="328464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Line 18"/>
          <p:cNvSpPr/>
          <p:nvPr/>
        </p:nvSpPr>
        <p:spPr>
          <a:xfrm flipH="1" flipV="1">
            <a:off x="2556000" y="1915920"/>
            <a:ext cx="129672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19"/>
          <p:cNvSpPr/>
          <p:nvPr/>
        </p:nvSpPr>
        <p:spPr>
          <a:xfrm flipH="1" flipV="1">
            <a:off x="3203640" y="119664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20"/>
          <p:cNvSpPr/>
          <p:nvPr/>
        </p:nvSpPr>
        <p:spPr>
          <a:xfrm flipV="1">
            <a:off x="5148360" y="1196640"/>
            <a:ext cx="6476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21"/>
          <p:cNvSpPr/>
          <p:nvPr/>
        </p:nvSpPr>
        <p:spPr>
          <a:xfrm flipV="1">
            <a:off x="5292720" y="242100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22"/>
          <p:cNvSpPr/>
          <p:nvPr/>
        </p:nvSpPr>
        <p:spPr>
          <a:xfrm>
            <a:off x="5292720" y="321300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Российская промышленность первой четверти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века имела свои особенности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8672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1.Практически все мануфактуры были государственными и создавались за счет бюдже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2.Государство регулировало и контролировало все процессы развития в промышленност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3.Мануфактурам был обеспечен сбыт продукции,так как заказчиком выступало государство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4.В промышленности практически отсутствовала естественная конкуренц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5.Мануфактуры строились максимально близко к источникам сырья; к их организации привлекали опытных русских и иностранных специалистов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6.На мануфактурах использовался принудительный дешевый труд крепостных крестьян, получивших название «посессионных»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оссийское правительство проводило политику </a:t>
            </a:r>
            <a:r>
              <a:rPr b="1" i="1" lang="ru-RU" sz="1700" spc="-1" strike="noStrike">
                <a:solidFill>
                  <a:srgbClr val="ffff99"/>
                </a:solidFill>
                <a:latin typeface="Times New Roman"/>
              </a:rPr>
              <a:t>меркантилизма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, т.е.  Устанавливало приоритет национальной промышленности и торговли, и </a:t>
            </a:r>
            <a:r>
              <a:rPr b="1" i="1" lang="ru-RU" sz="1700" spc="-1" strike="noStrike">
                <a:solidFill>
                  <a:srgbClr val="ffff99"/>
                </a:solidFill>
                <a:latin typeface="Times New Roman"/>
              </a:rPr>
              <a:t>протекционизма</a:t>
            </a:r>
            <a:r>
              <a:rPr b="0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– юридической и фактической охраны интересов отечественной промышленности и торговли через систему льгот, субсидий, таможенных тарифов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Практически все частные мануфактуры выполняли государственные заказы, их действия регламентировались Мануфактур-и Берт-коллегиями. Только излишки продукции они могли реализовывать на рынке по свободной цене. И все же это был рывок в процессе формирования русской буржуази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8" name="Picture 4" descr="030"/>
          <p:cNvPicPr/>
          <p:nvPr/>
        </p:nvPicPr>
        <p:blipFill>
          <a:blip r:embed="rId1"/>
          <a:stretch/>
        </p:blipFill>
        <p:spPr>
          <a:xfrm>
            <a:off x="5796000" y="765000"/>
            <a:ext cx="334800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7:33:53Z</dcterms:created>
  <dc:creator>User</dc:creator>
  <dc:description/>
  <dc:language>en-US</dc:language>
  <cp:lastModifiedBy>Sergey</cp:lastModifiedBy>
  <dcterms:modified xsi:type="dcterms:W3CDTF">2015-03-11T19:38:44Z</dcterms:modified>
  <cp:revision>32</cp:revision>
  <dc:subject/>
  <dc:title>Реформы Петра I</dc:title>
</cp:coreProperties>
</file>