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1F8-AF2C-4BEE-B126-DCEFCF9B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860-E60B-4D84-ADC9-CC13A5E2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416-2779-401B-ABB9-AA8B3ACF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522-04D0-41B0-9B70-CA8BEA71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82D-24D7-45D9-BD86-8799596C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CB3-4763-4910-873B-5441665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36ED-74FA-4255-B3BF-ACDCCCA0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E78-4F4C-40AA-B942-10DAC4C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9D8-C076-430F-A351-62B3A83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3593-D8A3-45AF-A007-A1503FB8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0C6-5FFA-4482-8CD9-8C365E3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619-DD9F-4E34-A5B0-35E8F82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0F83-0D26-4918-80DD-4FE0C49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19F-3090-4966-A59E-6D9B922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F76-44EA-43BC-978E-DB82B8CD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81C-A37D-4B60-9101-84648DC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FE6-E66A-44B8-9751-EFDD990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A5-8429-4633-808B-1A2B025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FBB-F689-4882-A2E7-8DCBF00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B83-C93A-4890-AA5D-42BEE17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98A-CF68-4E2B-B070-C0342B6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DDB-F1ED-4EEF-B774-F834FD0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A73-A793-488E-B3C3-C6D3029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4EA-F2C3-4498-A34C-ACDCAE8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268-5588-401F-8129-798F8D487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931-9CF5-4C79-B3A2-098054724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28440"/>
            <a:ext cx="7989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Самородки земли русской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84720" y="5661000"/>
            <a:ext cx="4392720" cy="914400"/>
          </a:xfrm>
          <a:custGeom>
            <a:avLst/>
            <a:gdLst>
              <a:gd name="textAreaLeft" fmla="*/ 528480 w 4392720"/>
              <a:gd name="textAreaRight" fmla="*/ 4921560 w 4392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2600" y="1400"/>
                </a:moveTo>
                <a:cubicBezTo>
                  <a:pt x="8500" y="-3560"/>
                  <a:pt x="15700" y="6360"/>
                  <a:pt x="21600" y="1400"/>
                </a:cubicBezTo>
                <a:lnTo>
                  <a:pt x="19000" y="20200"/>
                </a:lnTo>
                <a:cubicBezTo>
                  <a:pt x="13100" y="25160"/>
                  <a:pt x="59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о дворе муз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6480000" cy="48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48000" y="0"/>
            <a:ext cx="5400720" cy="2232000"/>
          </a:xfrm>
          <a:custGeom>
            <a:avLst/>
            <a:gdLst>
              <a:gd name="textAreaLeft" fmla="*/ 0 w 5400720"/>
              <a:gd name="textAreaRight" fmla="*/ 5401080 w 5400720"/>
              <a:gd name="textAreaTop" fmla="*/ 289080 h 2232000"/>
              <a:gd name="textAreaBottom" fmla="*/ 19429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этом доме в ию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59 г. худож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.Н. Крамской встречал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 поэтом И.С. Никити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95640" y="5661000"/>
            <a:ext cx="4681800" cy="914400"/>
          </a:xfrm>
          <a:custGeom>
            <a:avLst/>
            <a:gdLst>
              <a:gd name="textAreaLeft" fmla="*/ 563400 w 4681800"/>
              <a:gd name="textAreaRight" fmla="*/ 5245560 w 46818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2600" y="1400"/>
                </a:moveTo>
                <a:cubicBezTo>
                  <a:pt x="8500" y="-3560"/>
                  <a:pt x="15700" y="6360"/>
                  <a:pt x="21600" y="1400"/>
                </a:cubicBezTo>
                <a:lnTo>
                  <a:pt x="19000" y="20200"/>
                </a:lnTo>
                <a:cubicBezTo>
                  <a:pt x="13100" y="25160"/>
                  <a:pt x="59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Ул. Никитинская,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97800" cy="536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92360" y="4869000"/>
            <a:ext cx="5185080" cy="1728720"/>
          </a:xfrm>
          <a:custGeom>
            <a:avLst/>
            <a:gdLst>
              <a:gd name="textAreaLeft" fmla="*/ 623880 w 5185080"/>
              <a:gd name="textAreaRight" fmla="*/ 5809320 w 5185080"/>
              <a:gd name="textAreaTop" fmla="*/ 223920 h 1728720"/>
              <a:gd name="textAreaBottom" fmla="*/ 1504800 h 1728720"/>
            </a:gdLst>
            <a:ahLst/>
            <a:rect l="textAreaLeft" t="textAreaTop" r="textAreaRight" b="textAreaBottom"/>
            <a:pathLst>
              <a:path w="21600" h="21600">
                <a:moveTo>
                  <a:pt x="2600" y="1400"/>
                </a:moveTo>
                <a:cubicBezTo>
                  <a:pt x="8500" y="-3560"/>
                  <a:pt x="15700" y="6360"/>
                  <a:pt x="21600" y="1400"/>
                </a:cubicBezTo>
                <a:lnTo>
                  <a:pt x="19000" y="20200"/>
                </a:lnTo>
                <a:cubicBezTo>
                  <a:pt x="13100" y="25160"/>
                  <a:pt x="59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ластная библиот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им. И.С. Ники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284720" y="5661000"/>
            <a:ext cx="4392720" cy="914400"/>
          </a:xfrm>
          <a:custGeom>
            <a:avLst/>
            <a:gdLst>
              <a:gd name="textAreaLeft" fmla="*/ 528480 w 4392720"/>
              <a:gd name="textAreaRight" fmla="*/ 4921560 w 4392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2600" y="1400"/>
                </a:moveTo>
                <a:cubicBezTo>
                  <a:pt x="8500" y="-3560"/>
                  <a:pt x="15700" y="6360"/>
                  <a:pt x="21600" y="1400"/>
                </a:cubicBezTo>
                <a:lnTo>
                  <a:pt x="19000" y="20200"/>
                </a:lnTo>
                <a:cubicBezTo>
                  <a:pt x="13100" y="25160"/>
                  <a:pt x="59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Ул. Моисе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266160" cy="470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71640" y="5300640"/>
            <a:ext cx="7237440" cy="1152720"/>
          </a:xfrm>
          <a:custGeom>
            <a:avLst/>
            <a:gdLst>
              <a:gd name="textAreaLeft" fmla="*/ 1809360 w 7237440"/>
              <a:gd name="textAreaRight" fmla="*/ 5428080 w 723744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тератур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кроп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70080" cy="5589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11640" y="981000"/>
            <a:ext cx="4932360" cy="4969080"/>
          </a:xfrm>
          <a:custGeom>
            <a:avLst/>
            <a:gdLst>
              <a:gd name="textAreaLeft" fmla="*/ 1233000 w 4932360"/>
              <a:gd name="textAreaRight" fmla="*/ 3699360 w 4932360"/>
              <a:gd name="textAreaTop" fmla="*/ 0 h 4969080"/>
              <a:gd name="textAreaBottom" fmla="*/ 4348080 h 4969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г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.С. Никит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064040" cy="6075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40360" y="765000"/>
            <a:ext cx="5003640" cy="5112000"/>
          </a:xfrm>
          <a:custGeom>
            <a:avLst/>
            <a:gdLst>
              <a:gd name="textAreaLeft" fmla="*/ 1251000 w 5003640"/>
              <a:gd name="textAreaRight" fmla="*/ 3753000 w 5003640"/>
              <a:gd name="textAreaTop" fmla="*/ 0 h 5112000"/>
              <a:gd name="textAreaBottom" fmla="*/ 4473000 h 511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ги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.В. Кольц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19520" cy="414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5373720"/>
            <a:ext cx="8064360" cy="1185840"/>
          </a:xfrm>
          <a:custGeom>
            <a:avLst/>
            <a:gdLst>
              <a:gd name="textAreaLeft" fmla="*/ 2016000 w 8064360"/>
              <a:gd name="textAreaRight" fmla="*/ 6048360 w 8064360"/>
              <a:gd name="textAreaTop" fmla="*/ 147960 h 1185840"/>
              <a:gd name="textAreaBottom" fmla="*/ 1186200 h 11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ль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лексей Васи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75300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4360" y="5373720"/>
            <a:ext cx="8064360" cy="1185840"/>
          </a:xfrm>
          <a:custGeom>
            <a:avLst/>
            <a:gdLst>
              <a:gd name="textAreaLeft" fmla="*/ 2016000 w 8064360"/>
              <a:gd name="textAreaRight" fmla="*/ 6048360 w 8064360"/>
              <a:gd name="textAreaTop" fmla="*/ 147960 h 1185840"/>
              <a:gd name="textAreaBottom" fmla="*/ 1186200 h 11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икит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ван Сав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2120" cy="4994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5013360"/>
            <a:ext cx="6084720" cy="1546200"/>
          </a:xfrm>
          <a:custGeom>
            <a:avLst/>
            <a:gdLst>
              <a:gd name="textAreaLeft" fmla="*/ 1521000 w 6084720"/>
              <a:gd name="textAreaRight" fmla="*/ 4563720 w 6084720"/>
              <a:gd name="textAreaTop" fmla="*/ 0 h 1546200"/>
              <a:gd name="textAreaBottom" fmla="*/ 1353240 h 15462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508464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амятник Алексею Кольцову на Советской площ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43840" cy="5240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11280" y="5013360"/>
            <a:ext cx="6732720" cy="1546200"/>
          </a:xfrm>
          <a:custGeom>
            <a:avLst/>
            <a:gdLst>
              <a:gd name="textAreaLeft" fmla="*/ 1683000 w 6732720"/>
              <a:gd name="textAreaRight" fmla="*/ 5049720 w 6732720"/>
              <a:gd name="textAreaTop" fmla="*/ 0 h 1546200"/>
              <a:gd name="textAreaBottom" fmla="*/ 1353240 h 15462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01336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мятник Кольцову А.В. в Кольцовском скв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5661000"/>
            <a:ext cx="4392720" cy="914400"/>
          </a:xfrm>
          <a:custGeom>
            <a:avLst/>
            <a:gdLst>
              <a:gd name="textAreaLeft" fmla="*/ 528480 w 4392720"/>
              <a:gd name="textAreaRight" fmla="*/ 4921560 w 43927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2600" y="1400"/>
                </a:moveTo>
                <a:cubicBezTo>
                  <a:pt x="8500" y="-3560"/>
                  <a:pt x="15700" y="6360"/>
                  <a:pt x="21600" y="1400"/>
                </a:cubicBezTo>
                <a:lnTo>
                  <a:pt x="19000" y="20200"/>
                </a:lnTo>
                <a:cubicBezTo>
                  <a:pt x="13100" y="25160"/>
                  <a:pt x="59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ольцовский скв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620120" cy="569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1135600">
            <a:off x="4105080" y="5373360"/>
            <a:ext cx="5038560" cy="1484280"/>
          </a:xfrm>
          <a:custGeom>
            <a:avLst/>
            <a:gdLst>
              <a:gd name="textAreaLeft" fmla="*/ 323640 w 5038560"/>
              <a:gd name="textAreaRight" fmla="*/ 5362560 w 5038560"/>
              <a:gd name="textAreaTop" fmla="*/ 409320 h 1484280"/>
              <a:gd name="textAreaBottom" fmla="*/ 1074960 h 1484280"/>
            </a:gdLst>
            <a:ahLst/>
            <a:rect l="textAreaLeft" t="textAreaTop" r="textAreaRight" b="textAreaBottom"/>
            <a:pathLst>
              <a:path w="21600" h="21600">
                <a:moveTo>
                  <a:pt x="1388" y="2980"/>
                </a:moveTo>
                <a:cubicBezTo>
                  <a:pt x="7894" y="-7577"/>
                  <a:pt x="15094" y="13537"/>
                  <a:pt x="21600" y="2980"/>
                </a:cubicBezTo>
                <a:lnTo>
                  <a:pt x="20212" y="18620"/>
                </a:lnTo>
                <a:cubicBezTo>
                  <a:pt x="13706" y="29177"/>
                  <a:pt x="6506" y="8063"/>
                  <a:pt x="0" y="1862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вето-музыкальный фонт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 Кольцовском скв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265800" cy="469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5013360"/>
            <a:ext cx="7740720" cy="1258920"/>
          </a:xfrm>
          <a:custGeom>
            <a:avLst/>
            <a:gdLst>
              <a:gd name="textAreaLeft" fmla="*/ 1935000 w 7740720"/>
              <a:gd name="textAreaRight" fmla="*/ 5805720 w 7740720"/>
              <a:gd name="textAreaTop" fmla="*/ 0 h 1258920"/>
              <a:gd name="textAreaBottom" fmla="*/ 1101600 h 1258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амятник И.С. Никит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 площади им. Ники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48000" y="5013360"/>
            <a:ext cx="5041800" cy="1511280"/>
          </a:xfrm>
          <a:custGeom>
            <a:avLst/>
            <a:gdLst>
              <a:gd name="textAreaLeft" fmla="*/ 1008360 w 5041800"/>
              <a:gd name="textAreaRight" fmla="*/ 6050520 w 5041800"/>
              <a:gd name="textAreaTop" fmla="*/ 195840 h 1511280"/>
              <a:gd name="textAreaBottom" fmla="*/ 1315440 h 151128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Дом-муз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И.С. Ники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58:44Z</dcterms:created>
  <dc:creator>User</dc:creator>
  <dc:description/>
  <dc:language>en-US</dc:language>
  <cp:lastModifiedBy>User</cp:lastModifiedBy>
  <dcterms:modified xsi:type="dcterms:W3CDTF">2006-11-27T21:13:30Z</dcterms:modified>
  <cp:revision>16</cp:revision>
  <dc:subject/>
  <dc:title>Самородки земли русской!</dc:title>
</cp:coreProperties>
</file>