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14A-9A0E-44A2-9FB2-B6CC3441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355-A9E6-47BB-9324-76990DFA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EB2-38F7-41C2-9FC3-CE4C8E76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105-12C0-4666-A406-F354CB7D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47C-2911-445A-BA76-0630F4A2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4C9-9D13-4CAB-9F71-3F5600A9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BC0-51CE-41CD-AEEC-4900B2B6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477-3053-49C5-8D65-4F54742C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C4A-5452-4C26-A691-8D3D97F0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DD6-ED4F-4026-8A29-B0D250B4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EA0-7A44-4CEE-B160-997E1280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301-5034-440F-A95C-C7A19C79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8147-9148-4A21-8E96-6E765584E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628640"/>
            <a:ext cx="82087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Современная модель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на период до 202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(в рамках Программы развития образования в РФ до 2020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Приоритетные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709720"/>
            <a:ext cx="8569440" cy="30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внешняя независимая сертификация профессиональных квалифик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истема поддержки потребителей услуг непрерывного профессиональн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истема поддержки организаций, предоставляющих качественные услуги непрерывного профессиона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341360"/>
            <a:ext cx="820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4. Создание современной системы непрерывного образования, подготовки и переподготовки профессиональных ка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2492280"/>
            <a:ext cx="820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ЦЕЛЕВЫЕ ОРИЕНТИ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РАЗВИТИЯ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к 2012 го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879560"/>
            <a:ext cx="8496360" cy="35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Формирование 3-4 научно-образовательных комплексов мирового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Развитие интегрированных инновационных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вышение доли внебюджетных средств до 2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вышение доли учащихся, обучающихся в соответствии с требованиями современных стандартов (не менее 7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к 2012 го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542960"/>
            <a:ext cx="849636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бновление типологии образовательных программ и учреждений, структуры системы образования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(социо-культурных образовательных комплексов, «центров квалификаций», «ресурсных центров»)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звитие форм финансирования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истема привлечения работодателей к созданию образовательных стандартов и аккредитации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Формирование национальной квалификационной структуры (Н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ереход учреждений профессионального образования на систему адресных стипен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к 2012 го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393920"/>
            <a:ext cx="86756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оздание в образовательных организациях органов самоуправления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попечительских, наблюдательных, управляющих советов)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тандартизированная программа повышения квалификации «Современный образовательный менеджмен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истема независимой общественно-профессиональной аккредитацией програм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истема общественных рейтингов образовательных организаций, программ непрерывного профессиона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к 2016 го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635120"/>
            <a:ext cx="8713800" cy="451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истемы оплаты труда работников, учитывающие качество и результа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словия для обеспечения участия в непрерывном образовании 50%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ограммы «прикладного бакалавриата» по 20% направлений подгото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ведение механизма единых государственных экзаме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бъективный учет учебных и внеучебных достижений выпуск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к 2016 го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125360"/>
            <a:ext cx="8713800" cy="54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ежегодная поддержка до 100 организаций, реализующих лучшие инновационные про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озможность для каждого ребенка освоить программы дошкольного образования до поступления в 1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бучение детей с ограниченными возможностями; «инклюзивное» 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оддержка семейного воспитани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ереход на показатели качества образования в верхней трети рейтинг-листа международных исследо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к 2020 го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442880"/>
            <a:ext cx="8713800" cy="39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редоставление возможностей всем обучающимся старшей школы осваивать индивидуальные образовательные программы, включая профильное 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оздание не менее 500 центров сертификации и присвоения профессиональных квалифик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наличие программ развития персон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лучение услуг непрерывного образования не менее 50% граждан ежегод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к 2020 го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789200"/>
            <a:ext cx="8713800" cy="23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лучение услуг дополнительного образования не менее 60% детей (5-18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беспечение каждому учащемуся возможности получать образование в современных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476280"/>
            <a:ext cx="820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Увеличение расходов на 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806560"/>
            <a:ext cx="8713800" cy="193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бщих до 7% ВВ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в том числе расходов бюджетной системы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до 5,5-6% ВВ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темп роста ежегодно не менее 10%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Основа современной модели образования - принципы проект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844640"/>
            <a:ext cx="820908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ткрытость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именение проектных мет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логика «деньги в обмен на обязательств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онкурсное выявление и поддержка лиде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дресность инструментов ресурсной поддерж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омплексный характер принимаемы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2492280"/>
            <a:ext cx="820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ОБЛИК СОВРЕМЕННОЙ МОДЕЛИ ОБРАЗОВАНИЯ К 2020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476280"/>
            <a:ext cx="820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Ключевые общесистемны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527280"/>
            <a:ext cx="8569440" cy="266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еревод части учреждений образования в статус автономных с сохранением доли бюджетного финанс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гибкая система заработной платы преподав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117880"/>
            <a:ext cx="820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Новый организационно-экономический механиз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476280"/>
            <a:ext cx="820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Ключевые общесистемны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924280"/>
            <a:ext cx="8569440" cy="30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частие общественности в управлении и контроле качества (наблюдательные, попечительские и управляющие совет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беспечение учебными заведениями информации о свое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величение роли профессионального само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117880"/>
            <a:ext cx="820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Принципы упр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476280"/>
            <a:ext cx="820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Ключевые общесистемны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548160"/>
            <a:ext cx="8569440" cy="21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модернизация содержания и методов обучения на основе информационно-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мена образовательных технологий и роли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773360"/>
            <a:ext cx="820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Взаимодействие с глобальной сферой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2852640"/>
            <a:ext cx="820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Доступ к образовательным ресур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708520"/>
            <a:ext cx="820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Кардинальные кадровые изменени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повышение конкурентоспособности кадров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Модель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2149560"/>
            <a:ext cx="8713800" cy="28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истема раннего развития детей (от 0 до 3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лужбы педагогической поддержки раннего семейного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многообразие программ раннего развити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выявление одаренности и возможных трудностей в разви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Модель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543040"/>
            <a:ext cx="8713800" cy="32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хват разнообразными услуг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ивлечение организаций разных форм собств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истема подушевого финансирования программ дошкольн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бюджетное финансирование негосударственны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747800"/>
            <a:ext cx="8569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школьное образование (4-6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 2012 го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Модель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10000"/>
            <a:ext cx="8713800" cy="41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ибкость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«подстраиваемость» под различные потребности сем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руппы дошкольного образования при общеобразовательных учрежд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руппы кратковременного пребывания при ОУ различных типов и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ысокие технологии развития базовых спосо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801800"/>
            <a:ext cx="856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инципиальные треб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Модель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801800"/>
            <a:ext cx="8569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одернизация технологий дошкольного образования - за 4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213000"/>
            <a:ext cx="8569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еподготовка дошкольных работников  - за 4-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622760"/>
            <a:ext cx="8569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 2014 году каждому ребенку – 2 года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Модель общего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508040"/>
            <a:ext cx="8713800" cy="39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разделение по возрастам (специальные школы для младших школьников; для юношей; образовательная ступень подростковой школ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пецифические методы и подходы на разных возрастных ступен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бновление внутренней структуры школьн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риентация на практические навыки, способность применять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Модель общего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341360"/>
            <a:ext cx="8713800" cy="468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силение роли дисциплин социально-гуманитарного цикла и учебных курсов с элементами освоения технолог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бновление всех учебных программ и методов обучения к 2015 году с использованием компетентностного под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рганизационный переход на принципы профильного обучения к 2010 го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озможность построения школьником индивидуальных траекторий при методическом и технологическом их обеспе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689040"/>
            <a:ext cx="820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Дошкольное образование предполаг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846520"/>
            <a:ext cx="8209080" cy="174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гибкость и многообразие форм предоставления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ддержка и полное использование потенциала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Модель общего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508040"/>
            <a:ext cx="8713800" cy="39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разгрузка детей на подростковой ступени при профильном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расширение сферы дополнительного образования за счет бюджета (от 2 до 6 часов в неделю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ценка качества обучения на выборочном статистическом анализе (к 2012 год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единая добровольная цифровая система учета образовательных достижений учащихся (к 2015 год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Модель непрерыв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527280"/>
            <a:ext cx="8569440" cy="174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НЕФОРМАЛЬНОЕ ОБРАЗОВАНИЕ –курсы, тренинги, короткие программы (на любом этапе образования или профессиональной карье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ИНФОРМАЛЬНОЕ ОБРАЗОВАНИЕ - само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628640"/>
            <a:ext cx="82087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раждане, получившие профессиональное образование и желающие повысить уровень своих навыков или получить новые - ключевой ресур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Модель непрерыв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941560"/>
            <a:ext cx="8569440" cy="23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многообразие поставщиков образовательных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розрачная система квалифик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наличие механизма подтверждения результатов образования через экзамены и сертифик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743120"/>
            <a:ext cx="8208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истики неформального образования к 2020 го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702400"/>
            <a:ext cx="8208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ддержка собственной образовательной деятельности граж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Модель непрерыв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2060640"/>
            <a:ext cx="8893440" cy="397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словия для своевременного повышения квалификации и переподгото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инвентаризация требований к повышению квалификации и переподготов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становление норм периодичности П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конкурентные подходы к ПК и переподготов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чет запросов конкретных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ерсонифицированные системы финансирования П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603440"/>
            <a:ext cx="820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снова для непрерывного 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830240"/>
            <a:ext cx="889344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Расширение круга поставщиков дополните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Формирование национальной рамки квалификаций, профессиональных стандартов, системы сертификации квалификаций (центры сертифик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Формирование богатой культурно-образовательной среды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общедоступные национальные библиотеки электронных образовательных ресурсов, дистанционное образование)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истема образовательного консультирования и поддержки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92280"/>
            <a:ext cx="856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мплексная система направлени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292104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689040"/>
            <a:ext cx="820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Развитие общего образования предусматри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349360"/>
            <a:ext cx="8209080" cy="23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индивидуализ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риентацию на практические навыки и фундаментальные у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расширение сферы дополните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689040"/>
            <a:ext cx="820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Цель системы непрерывного образования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456000"/>
            <a:ext cx="8209080" cy="193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внедрение национальной квалификационной рам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истема сертификации квалифик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модульные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025720"/>
            <a:ext cx="820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ОЗДАНИЕ УСЛОВИЙ ДЛЯ САМОРЕАЛИЗАЦИИ ГРАЖДАН В ТЕЧЕНИЕ ВСЕЙ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689040"/>
            <a:ext cx="820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Стратегическая цель государственной политики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6560" y="3038400"/>
            <a:ext cx="820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ВЫШЕНИЕ ДОСТУП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КАЧЕСТВЕН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Приоритетные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492280"/>
            <a:ext cx="8569440" cy="35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истема образовательных услуг, обеспечивающих раннее развитие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бразовательная среда для лиц с ограниченными возможност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система выявления и поддержки одаренных детей и талантливой молодеж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инфраструктура социальной мобильност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341360"/>
            <a:ext cx="820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1. Модернизация институтов образования как инструментов социаль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Приоритетные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708280"/>
            <a:ext cx="8569440" cy="32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ткрытая система информирования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словия для привлечения иностранных студ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озрачная объективная система оценки учебных и внеучебных достижений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механизмы участия в контроле качества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341360"/>
            <a:ext cx="820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2. Формирование механизмов оценки качества и востребованности образователь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Приоритетные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637000"/>
            <a:ext cx="8569440" cy="35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бновление содержания и технологий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развитие вариативности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бновление структуры сети образовательных учреж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бновление механизмов финансирования образовательных учре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341360"/>
            <a:ext cx="820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3. Обеспечение инновационного характера базов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4:03:47Z</dcterms:created>
  <dc:creator>www.PHILka.RU</dc:creator>
  <dc:description/>
  <dc:language>en-US</dc:language>
  <cp:lastModifiedBy>Лена</cp:lastModifiedBy>
  <dcterms:modified xsi:type="dcterms:W3CDTF">2013-09-17T00:32:34Z</dcterms:modified>
  <cp:revision>19</cp:revision>
  <dc:subject/>
  <dc:title>Слайд 1</dc:title>
</cp:coreProperties>
</file>