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BBA-E37C-4860-9D1B-1D124D5A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49A-7C61-4707-91F4-3BF94DA7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356-3967-4C54-8680-BAED233F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8D6E-8353-49EC-9E21-403F8422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CEE-6BA6-4F35-89B8-A7797559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8083-FE9A-4BC0-958E-C4D490E3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BB7-8EF7-4EEF-A60B-5557D268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B61-7D64-414C-A7F4-157EC368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77F2-1049-493B-9396-F8C41F99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FA7-92E2-4A65-B07D-BCA2B026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180-512E-4138-8A85-6B5624FA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070E-BDDE-4C4E-86C2-D8056610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2770-BD29-41C4-A683-D2C367D4BC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20652600">
            <a:off x="3419640" y="2852280"/>
            <a:ext cx="91908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1486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 rot="20612400">
            <a:off x="3059280" y="3860280"/>
            <a:ext cx="4608360" cy="245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редним векам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 rot="20731200">
            <a:off x="395280" y="476280"/>
            <a:ext cx="5184720" cy="20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 математикой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 rot="226800">
            <a:off x="900000" y="0"/>
            <a:ext cx="432288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здравляе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 rot="20992200">
            <a:off x="1403280" y="2204640"/>
            <a:ext cx="5762520" cy="266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 справились с заданиями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43280" y="4724280"/>
            <a:ext cx="5616360" cy="17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!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33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пользуя тему «Наименьшее общее кратное и наибольший общий делитель» определите дату исторического со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3299040" cy="367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92360" y="2492280"/>
            <a:ext cx="5651640" cy="33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роль с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???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с 800 император; из династии Каролингов. Его завоевания (в 773-74 Лангобардского королевства в Италии, в 772-804 области саксов и др.) привели к образованию обширной империи. Политика Карла Великого (покровительство церкви, судейские и военные реформы и др.) содействовала формированию феодальных отношений в Зап. Европе. Империя Карла Великого распалась вскоре после его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11640" y="1773360"/>
            <a:ext cx="3313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л Вели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4360" y="5877000"/>
            <a:ext cx="5252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1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5877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дите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ОК  (192, 25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16720" y="5877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7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18900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Определите протяженность исторического собы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413000"/>
            <a:ext cx="57610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рл Великий почти всю жизнь провел в войнах. Во главе своего войска он совершил десятки походов и приобрел славу непобедимого полководца. Карл хотел объединить под своей властью все германские племена. Для этого оставалось подчинить свободолюбивых язычников-саксов, живших на севере Германии. Противостоять франкам саксы не могли , но, как только Карл покидал страну, саксы восставали, уничтожали возведенные франками крепости и возвращались к язычеству. Лишь к концу жизни Карл добился хотя бы внешней покорности сак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результате многолетних завоеваний королевство Карла Великого выросло почти вдв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21360" y="1557360"/>
            <a:ext cx="2909880" cy="3240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5734080"/>
            <a:ext cx="49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колько лет саксы отстаивали свою свободу в борьбе с франками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920" y="5661000"/>
            <a:ext cx="525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1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5229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Д  (240, 8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602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твет: 3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600"/>
                            </p:stCondLst>
                            <p:childTnLst>
                              <p:par>
                                <p:cTn id="10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1700280"/>
            <a:ext cx="5329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менитый персидский и таджикский  поэт, жил при дворе шаха Махмуда в Газне; умер в 1020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едевром Фирдоуси, является его великая эпическая поэма "Шах-наме" (в переводе "Книга царей"), завершенная в 1010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южетом "Шахнаме" стали мифы и легенды из истории от незапамятных времен до смерти последнего сасанидского правителя Йездегерда III, убитого арабами в 653 после развала его державы. Поэма Фирдоуси посвящена борьбе иранского народа с завоевателями, легендарным геро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659640" y="476280"/>
            <a:ext cx="2255760" cy="322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940360" y="4270320"/>
            <a:ext cx="2952720" cy="227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2" name=""/>
          <p:cNvSpPr txBox="1"/>
          <p:nvPr/>
        </p:nvSpPr>
        <p:spPr>
          <a:xfrm>
            <a:off x="539640" y="404640"/>
            <a:ext cx="525456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French Script MT"/>
              </a:rPr>
              <a:t>Фирдоуси Абулькасим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French Script MT"/>
              <a:ea typeface="French Script MT"/>
            </a:endParaRPr>
          </a:p>
        </p:txBody>
      </p:sp>
    </p:spTree>
  </p:cSld>
  <p:transition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71640" y="3484440"/>
            <a:ext cx="3960720" cy="3048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4" name=""/>
          <p:cNvSpPr txBox="1"/>
          <p:nvPr/>
        </p:nvSpPr>
        <p:spPr>
          <a:xfrm>
            <a:off x="2050920" y="3716280"/>
            <a:ext cx="19432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 л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07920"/>
            <a:ext cx="52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Сколько лет работал поэт над патриотической эпопеей «Шахнаме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2565360"/>
            <a:ext cx="44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ОД  (300, 2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55640" y="-316080"/>
            <a:ext cx="7056360" cy="319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спомните тему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Основное свойство дроби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3429000"/>
            <a:ext cx="712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И вы найдете даты исторических событий, вычислив натуральное число, которое надо записать вместо буквы, чтобы было верным равен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55640" y="549360"/>
                <a:ext cx="158436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4360" y="2421000"/>
                <a:ext cx="17287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num>
                      <m:den>
                        <m:r>
                          <m:t xml:space="preserve">у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55640" y="4437000"/>
                <a:ext cx="172872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т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2340000" y="83664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этом веке началось     великое переселение на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2708280"/>
            <a:ext cx="3672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год гибели Фернанд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гел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4797360"/>
            <a:ext cx="352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– год провозглашения Карла Великого римским импера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614680" cy="182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732720" y="2349360"/>
            <a:ext cx="1771560" cy="1971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732720" y="4581360"/>
            <a:ext cx="1809720" cy="2014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circl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9000"/>
                            </p:stCondLst>
                            <p:childTnLst>
                              <p:par>
                                <p:cTn id="2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19280" y="0"/>
            <a:ext cx="5616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верим ответы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 rot="21141000">
            <a:off x="323640" y="2347560"/>
            <a:ext cx="4103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еликое переселение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родо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чалось в IV в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 rot="1033800">
            <a:off x="4427640" y="3213000"/>
            <a:ext cx="3960720" cy="13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ернандо Магелла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гиб в 1521 г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03280" y="4797360"/>
            <a:ext cx="4896000" cy="176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800 г. Карл Велики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возглашен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имским императором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7628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Что такое великое переселение народ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260280"/>
            <a:ext cx="3889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поха массовых перемещений племен, приведших к гибели Западной римской империи. (конец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IV –VII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в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220500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Чем знаменит Фернандо Магелла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2613240" cy="2906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4932360" y="278136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098800"/>
            <a:ext cx="47880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ртугальский мореплаватель, экспедиция которого совершила первое кругосветное плавание; первооткрыватель части атлантического побережья Южной Америки, прохода из Атлантики в Тихий океан, впервые им пересеченный. Магеллан доказал наличие единого Мирового океана и доказал шарообразность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92720" y="1844640"/>
            <a:ext cx="433440" cy="289080"/>
          </a:xfrm>
          <a:custGeom>
            <a:avLst/>
            <a:gdLst>
              <a:gd name="textAreaLeft" fmla="*/ 178560 w 433440"/>
              <a:gd name="textAreaRight" fmla="*/ 254880 w 43344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1844640"/>
            <a:ext cx="433080" cy="289080"/>
          </a:xfrm>
          <a:custGeom>
            <a:avLst/>
            <a:gdLst>
              <a:gd name="textAreaLeft" fmla="*/ 178560 w 433080"/>
              <a:gd name="textAreaRight" fmla="*/ 254520 w 4330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1844640"/>
            <a:ext cx="433440" cy="289080"/>
          </a:xfrm>
          <a:custGeom>
            <a:avLst/>
            <a:gdLst>
              <a:gd name="textAreaLeft" fmla="*/ 178560 w 433440"/>
              <a:gd name="textAreaRight" fmla="*/ 254880 w 43344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4:54:55Z</dcterms:created>
  <dc:creator>User</dc:creator>
  <dc:description/>
  <dc:language>en-US</dc:language>
  <cp:lastModifiedBy>Директор</cp:lastModifiedBy>
  <dcterms:modified xsi:type="dcterms:W3CDTF">2015-03-12T18:12:36Z</dcterms:modified>
  <cp:revision>62</cp:revision>
  <dc:subject/>
  <dc:title>Слайд 1</dc:title>
</cp:coreProperties>
</file>