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FBC-C82D-4226-9276-9DDCEBFE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532-D7DD-437C-96A0-87B9070C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22E-4C38-488F-AF84-73B7D787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40B-67AB-4B64-BDE1-C71639A5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F7A-A6C1-4106-B13B-789BEF75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412-764C-4E7D-9CF3-539502E1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F6D-0A0C-499C-8A2E-A422BFF0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6D3-1022-4AA1-B7A6-1AA682B0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F32-90D4-4437-A9AB-81BF282F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BC4-24E0-41A0-943A-F5DBFED7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A7B-D8D1-41C1-9868-774C372D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DDD-9FA3-4C1C-AAFF-79CD1FA0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2955-9387-45E2-8ADF-772C8A290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00000"/>
                </a:solidFill>
                <a:latin typeface="Calibri"/>
              </a:rPr>
              <a:t>Моя профессия – бухгалтер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1143000" y="160020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1600200"/>
          <a:ext cx="8229600" cy="29718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 – во (к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а за 1 к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(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й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ло (слив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1. Материальные затра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Сумма материальных затрат на изготовление одной ватрушки составила 5 рублей 30 копеек. Столовая выпекает 225 ватрушек в ден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C:\Documents and Settings\user\Рабочий стол\КРИСТИНА\img_3082-85104B0E5D031AEB.jpg"/>
          <p:cNvPicPr/>
          <p:nvPr/>
        </p:nvPicPr>
        <p:blipFill>
          <a:blip r:embed="rId1"/>
          <a:stretch/>
        </p:blipFill>
        <p:spPr>
          <a:xfrm>
            <a:off x="2362320" y="3200400"/>
            <a:ext cx="3809880" cy="3152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user\Рабочий стол\КРИСТИНА\img_3082-85104B0E5D031AEB.jpg"/>
          <p:cNvPicPr/>
          <p:nvPr/>
        </p:nvPicPr>
        <p:blipFill>
          <a:blip r:embed="rId2"/>
          <a:stretch/>
        </p:blipFill>
        <p:spPr>
          <a:xfrm>
            <a:off x="2362320" y="3200400"/>
            <a:ext cx="3809880" cy="31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2. </a:t>
            </a:r>
            <a:r>
              <a:rPr b="0" lang="ru-RU" sz="2900" spc="-1" strike="noStrike" u="sng">
                <a:solidFill>
                  <a:srgbClr val="c00000"/>
                </a:solidFill>
                <a:uFillTx/>
                <a:latin typeface="Calibri"/>
              </a:rPr>
              <a:t>Расчет электроэнергии.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Допустим, на изготовление ватрушек затрачивается  8 ч.; при этом они жарятся в духовке мощностью 3 КВт., тогда за 8 ч. расходуется 24 КВт./ч. электроэнергии. Так как стоимость 1 КВт./ч. равна 3,37 руб., то общая стоимость электроэнергии в день равна 80,88 руб. Затраты на электроэнергию для одной ватрушки составят: 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80,88 руб. : 225 шт.=0,36 руб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3. 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Расчет трудозатрат и заработной платы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8ч. = 480 мин.; 480 мин. :225 шт. = 2,13 мин. – готовится одна ватрушка. 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1 ч.(60 мин.) рабочего времени стоит 100 руб. Определяем стоимость трудозатрат: 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(2,13 мин. х 100 руб.):60 мин. = 3,55 руб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4. </a:t>
            </a:r>
            <a:r>
              <a:rPr b="0" lang="ru-RU" sz="2900" spc="-1" strike="noStrike" u="sng">
                <a:solidFill>
                  <a:srgbClr val="c00000"/>
                </a:solidFill>
                <a:uFillTx/>
                <a:latin typeface="Calibri"/>
              </a:rPr>
              <a:t>Расчет амортизации оборудования.</a:t>
            </a: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Духовка, в которой жарятся ватрушки, стоит 22000 руб. и служит 7 лет, тогда годовая норма амортизации равна 22000 руб. :7 лет =3142,9 руб. Если духовка эксплуатируется 300 дней в году, то её износ за 8 ч. равен 3142,9 руб.:300 дн.=10,5 руб.. Амортизация духовки на 1 ватрушку равна 10,5 руб.:225 шт.=0,05 руб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5638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5. 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Расчет накладных расходов.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Накладные расходы – это расходы, связанные с транспортировкой и упаковкой продукции. В нашей столовой они составляют 81 рубль в день. Соответственно на одну ватрушку: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81 руб. : 225 шт. = 0,36 руб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6. 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Расчет себестоимости 1 ватрушки: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Материальные затраты (5,30 руб.) + затраты на электроэнергию (0,36 руб.) + затраты на оплату труда (3,55 руб.) + амортизация плиты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(0,05 руб.) + накладные расходы (0,36 руб.) 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= 9,62 руб.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5638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7. 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Определение ожидаемой прибыли и расчетной цены.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Минимально допустимая норма рентабельности (отношение прибыли к себестоимости) равна 20%.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Допустим, норма рентабельности равна не 20%, а 50%. Тогда прибыль будет равна 0,5*С   (0,5*9,62 руб.) = 4руб.81 коп., а допустимая  цена 1 ватрушки на рынке будет равна (9,62 руб. + 4,81 руб.) = 14 руб. 43 коп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5638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C:\Documents and Settings\user\Рабочий стол\КРИСТИНА\img_3082-85104B0E5D031AE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4" descr=""/>
          <p:cNvPicPr/>
          <p:nvPr/>
        </p:nvPicPr>
        <p:blipFill>
          <a:blip r:embed="rId2"/>
          <a:stretch/>
        </p:blipFill>
        <p:spPr>
          <a:xfrm>
            <a:off x="-158760" y="55440"/>
            <a:ext cx="97599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1158840" y="817560"/>
            <a:ext cx="7174080" cy="23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Program Files\Microsoft Office\MEDIA\CAGCAT10\j0300840.wmf"/>
          <p:cNvPicPr/>
          <p:nvPr/>
        </p:nvPicPr>
        <p:blipFill>
          <a:blip r:embed="rId2"/>
          <a:stretch/>
        </p:blipFill>
        <p:spPr>
          <a:xfrm>
            <a:off x="2895480" y="3505320"/>
            <a:ext cx="29718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472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пир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Рисунок 4" descr="Древний манускрипт, обнаруженный в теле мумии второго столетия до н.э.."/>
          <p:cNvPicPr/>
          <p:nvPr/>
        </p:nvPicPr>
        <p:blipFill>
          <a:blip r:embed="rId1"/>
          <a:stretch/>
        </p:blipFill>
        <p:spPr>
          <a:xfrm>
            <a:off x="2590920" y="304920"/>
            <a:ext cx="4190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иняные табли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http://edu.mccme.ru/Project/OL/voskobl.jpg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бб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http://www.sch297.ru/projects/ivt/image/abak.gif"/>
          <p:cNvPicPr/>
          <p:nvPr/>
        </p:nvPicPr>
        <p:blipFill>
          <a:blip r:embed="rId1"/>
          <a:stretch/>
        </p:blipFill>
        <p:spPr>
          <a:xfrm>
            <a:off x="2590920" y="609480"/>
            <a:ext cx="3733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42670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сковые дощеч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Пергамен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http://upload.wikimedia.org/wikipedia/commons/thumb/9/9a/Wachstafel_rem.jpg/350px-Wachstafel_rem.jpg"/>
          <p:cNvPicPr/>
          <p:nvPr/>
        </p:nvPicPr>
        <p:blipFill>
          <a:blip r:embed="rId1"/>
          <a:stretch/>
        </p:blipFill>
        <p:spPr>
          <a:xfrm>
            <a:off x="685800" y="1219320"/>
            <a:ext cx="4648320" cy="29718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http://pochemuha.ru/wp-content/uploads/2010/12/pergament.jpg"/>
          <p:cNvPicPr/>
          <p:nvPr/>
        </p:nvPicPr>
        <p:blipFill>
          <a:blip r:embed="rId2"/>
          <a:stretch/>
        </p:blipFill>
        <p:spPr>
          <a:xfrm>
            <a:off x="6248520" y="2438280"/>
            <a:ext cx="220968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ука Пач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http://prof-director.ru/img/5-2008-121.jpg"/>
          <p:cNvPicPr/>
          <p:nvPr/>
        </p:nvPicPr>
        <p:blipFill>
          <a:blip r:embed="rId1"/>
          <a:stretch/>
        </p:blipFill>
        <p:spPr>
          <a:xfrm>
            <a:off x="2819520" y="1828800"/>
            <a:ext cx="3504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рб бухгалт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http://www.nalogovik.ru/files/c4d19cbcbc14c23bda8b98f4558828aa/2011/01/doc_text2_14_22_gerb.jpg"/>
          <p:cNvPicPr/>
          <p:nvPr/>
        </p:nvPicPr>
        <p:blipFill>
          <a:blip r:embed="rId1"/>
          <a:stretch/>
        </p:blipFill>
        <p:spPr>
          <a:xfrm>
            <a:off x="2590920" y="2057400"/>
            <a:ext cx="3962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Расчёт себестоимости, прибыли и цены ватруш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20T10:56:49Z</dcterms:modified>
  <cp:revision>12</cp:revision>
  <dc:subject/>
  <dc:title>Слайд 1</dc:title>
</cp:coreProperties>
</file>