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gif" ContentType="image/gif"/>
  <Override PartName="/ppt/media/image1.jpeg" ContentType="image/jpeg"/>
  <Override PartName="/ppt/media/image7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16.gif" ContentType="image/gif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3DB-20F0-4F8F-BD15-CF95E430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C1C-77A5-42A4-A35C-7839D09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F8D-7E69-4EB4-9CD5-0E32DB7E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2D8-4305-4E8E-A364-EE9919E4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0BE-6732-4882-83F8-A210E211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AEB-B6E1-47A1-8C0C-8385FC3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0D9-89C0-4366-873B-9859E853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2E4-5B7C-4EE4-818E-FB69BD71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10C-D93B-4F18-8E9F-59B37A29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B96-2826-4C58-A81F-9505AD3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BAF-D06F-482C-8877-3C9BDE13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ED0-DC17-474A-8910-E0666CD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7FC-9727-4F70-B50A-6FF45811D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4211640" cy="561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103720" y="476280"/>
            <a:ext cx="369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62640" y="4540320"/>
            <a:ext cx="73080" cy="73080"/>
          </a:xfrm>
          <a:prstGeom prst="ellipse">
            <a:avLst/>
          </a:prstGeom>
          <a:solidFill>
            <a:srgbClr val="c00c2e"/>
          </a:solidFill>
          <a:ln cap="sq" w="12600">
            <a:solidFill>
              <a:srgbClr val="c00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49800" y="5126040"/>
            <a:ext cx="73080" cy="73080"/>
          </a:xfrm>
          <a:prstGeom prst="ellipse">
            <a:avLst/>
          </a:prstGeom>
          <a:solidFill>
            <a:srgbClr val="c00c2e"/>
          </a:solidFill>
          <a:ln cap="sq" w="12600">
            <a:solidFill>
              <a:srgbClr val="c00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64320" y="483696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4869000"/>
            <a:ext cx="73080" cy="727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3280" y="57499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48480" y="5754600"/>
            <a:ext cx="727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7200" y="60451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884840" y="1916280"/>
            <a:ext cx="2350800" cy="4163760"/>
            <a:chOff x="4884840" y="1916280"/>
            <a:chExt cx="2350800" cy="4163760"/>
          </a:xfrm>
        </p:grpSpPr>
        <p:sp>
          <p:nvSpPr>
            <p:cNvPr id="138" name=""/>
            <p:cNvSpPr/>
            <p:nvPr/>
          </p:nvSpPr>
          <p:spPr>
            <a:xfrm>
              <a:off x="4884840" y="1916280"/>
              <a:ext cx="1540440" cy="4163760"/>
            </a:xfrm>
            <a:custGeom>
              <a:avLst/>
              <a:gdLst/>
              <a:ahLst/>
              <a:rect l="l" t="t" r="r" b="b"/>
              <a:pathLst>
                <a:path w="1096" h="2719">
                  <a:moveTo>
                    <a:pt x="0" y="0"/>
                  </a:moveTo>
                  <a:lnTo>
                    <a:pt x="0" y="18"/>
                  </a:lnTo>
                  <a:lnTo>
                    <a:pt x="5" y="30"/>
                  </a:lnTo>
                  <a:lnTo>
                    <a:pt x="5" y="42"/>
                  </a:lnTo>
                  <a:lnTo>
                    <a:pt x="11" y="60"/>
                  </a:lnTo>
                  <a:lnTo>
                    <a:pt x="11" y="72"/>
                  </a:lnTo>
                  <a:lnTo>
                    <a:pt x="11" y="84"/>
                  </a:lnTo>
                  <a:lnTo>
                    <a:pt x="17" y="102"/>
                  </a:lnTo>
                  <a:lnTo>
                    <a:pt x="17" y="114"/>
                  </a:lnTo>
                  <a:lnTo>
                    <a:pt x="17" y="126"/>
                  </a:lnTo>
                  <a:lnTo>
                    <a:pt x="23" y="144"/>
                  </a:lnTo>
                  <a:lnTo>
                    <a:pt x="23" y="156"/>
                  </a:lnTo>
                  <a:lnTo>
                    <a:pt x="29" y="168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4" y="210"/>
                  </a:lnTo>
                  <a:lnTo>
                    <a:pt x="34" y="222"/>
                  </a:lnTo>
                  <a:lnTo>
                    <a:pt x="40" y="240"/>
                  </a:lnTo>
                  <a:lnTo>
                    <a:pt x="40" y="252"/>
                  </a:lnTo>
                  <a:lnTo>
                    <a:pt x="40" y="264"/>
                  </a:lnTo>
                  <a:lnTo>
                    <a:pt x="46" y="276"/>
                  </a:lnTo>
                  <a:lnTo>
                    <a:pt x="46" y="294"/>
                  </a:lnTo>
                  <a:lnTo>
                    <a:pt x="52" y="306"/>
                  </a:lnTo>
                  <a:lnTo>
                    <a:pt x="52" y="318"/>
                  </a:lnTo>
                  <a:lnTo>
                    <a:pt x="52" y="330"/>
                  </a:lnTo>
                  <a:lnTo>
                    <a:pt x="58" y="348"/>
                  </a:lnTo>
                  <a:lnTo>
                    <a:pt x="58" y="360"/>
                  </a:lnTo>
                  <a:lnTo>
                    <a:pt x="58" y="372"/>
                  </a:lnTo>
                  <a:lnTo>
                    <a:pt x="63" y="384"/>
                  </a:lnTo>
                  <a:lnTo>
                    <a:pt x="63" y="396"/>
                  </a:lnTo>
                  <a:lnTo>
                    <a:pt x="69" y="414"/>
                  </a:lnTo>
                  <a:lnTo>
                    <a:pt x="69" y="426"/>
                  </a:lnTo>
                  <a:lnTo>
                    <a:pt x="69" y="438"/>
                  </a:lnTo>
                  <a:lnTo>
                    <a:pt x="75" y="450"/>
                  </a:lnTo>
                  <a:lnTo>
                    <a:pt x="75" y="462"/>
                  </a:lnTo>
                  <a:lnTo>
                    <a:pt x="81" y="474"/>
                  </a:lnTo>
                  <a:lnTo>
                    <a:pt x="81" y="492"/>
                  </a:lnTo>
                  <a:lnTo>
                    <a:pt x="81" y="504"/>
                  </a:lnTo>
                  <a:lnTo>
                    <a:pt x="87" y="516"/>
                  </a:lnTo>
                  <a:lnTo>
                    <a:pt x="87" y="528"/>
                  </a:lnTo>
                  <a:lnTo>
                    <a:pt x="92" y="540"/>
                  </a:lnTo>
                  <a:lnTo>
                    <a:pt x="92" y="552"/>
                  </a:lnTo>
                  <a:lnTo>
                    <a:pt x="92" y="564"/>
                  </a:lnTo>
                  <a:lnTo>
                    <a:pt x="98" y="576"/>
                  </a:lnTo>
                  <a:lnTo>
                    <a:pt x="98" y="588"/>
                  </a:lnTo>
                  <a:lnTo>
                    <a:pt x="98" y="606"/>
                  </a:lnTo>
                  <a:lnTo>
                    <a:pt x="104" y="618"/>
                  </a:lnTo>
                  <a:lnTo>
                    <a:pt x="104" y="630"/>
                  </a:lnTo>
                  <a:lnTo>
                    <a:pt x="110" y="642"/>
                  </a:lnTo>
                  <a:lnTo>
                    <a:pt x="110" y="654"/>
                  </a:lnTo>
                  <a:lnTo>
                    <a:pt x="110" y="666"/>
                  </a:lnTo>
                  <a:lnTo>
                    <a:pt x="116" y="678"/>
                  </a:lnTo>
                  <a:lnTo>
                    <a:pt x="116" y="690"/>
                  </a:lnTo>
                  <a:lnTo>
                    <a:pt x="121" y="702"/>
                  </a:lnTo>
                  <a:lnTo>
                    <a:pt x="121" y="714"/>
                  </a:lnTo>
                  <a:lnTo>
                    <a:pt x="121" y="726"/>
                  </a:lnTo>
                  <a:lnTo>
                    <a:pt x="127" y="738"/>
                  </a:lnTo>
                  <a:lnTo>
                    <a:pt x="127" y="750"/>
                  </a:lnTo>
                  <a:lnTo>
                    <a:pt x="133" y="762"/>
                  </a:lnTo>
                  <a:lnTo>
                    <a:pt x="133" y="774"/>
                  </a:lnTo>
                  <a:lnTo>
                    <a:pt x="133" y="786"/>
                  </a:lnTo>
                  <a:lnTo>
                    <a:pt x="139" y="798"/>
                  </a:lnTo>
                  <a:lnTo>
                    <a:pt x="139" y="810"/>
                  </a:lnTo>
                  <a:lnTo>
                    <a:pt x="139" y="822"/>
                  </a:lnTo>
                  <a:lnTo>
                    <a:pt x="145" y="834"/>
                  </a:lnTo>
                  <a:lnTo>
                    <a:pt x="145" y="846"/>
                  </a:lnTo>
                  <a:lnTo>
                    <a:pt x="150" y="858"/>
                  </a:lnTo>
                  <a:lnTo>
                    <a:pt x="150" y="870"/>
                  </a:lnTo>
                  <a:lnTo>
                    <a:pt x="150" y="882"/>
                  </a:lnTo>
                  <a:lnTo>
                    <a:pt x="156" y="894"/>
                  </a:lnTo>
                  <a:lnTo>
                    <a:pt x="156" y="906"/>
                  </a:lnTo>
                  <a:lnTo>
                    <a:pt x="162" y="918"/>
                  </a:lnTo>
                  <a:lnTo>
                    <a:pt x="162" y="930"/>
                  </a:lnTo>
                  <a:lnTo>
                    <a:pt x="162" y="942"/>
                  </a:lnTo>
                  <a:lnTo>
                    <a:pt x="168" y="954"/>
                  </a:lnTo>
                  <a:lnTo>
                    <a:pt x="168" y="960"/>
                  </a:lnTo>
                  <a:lnTo>
                    <a:pt x="174" y="972"/>
                  </a:lnTo>
                  <a:lnTo>
                    <a:pt x="174" y="984"/>
                  </a:lnTo>
                  <a:lnTo>
                    <a:pt x="174" y="996"/>
                  </a:lnTo>
                  <a:lnTo>
                    <a:pt x="179" y="1008"/>
                  </a:lnTo>
                  <a:lnTo>
                    <a:pt x="179" y="1020"/>
                  </a:lnTo>
                  <a:lnTo>
                    <a:pt x="179" y="1032"/>
                  </a:lnTo>
                  <a:lnTo>
                    <a:pt x="185" y="1044"/>
                  </a:lnTo>
                  <a:lnTo>
                    <a:pt x="185" y="1050"/>
                  </a:lnTo>
                  <a:lnTo>
                    <a:pt x="191" y="1062"/>
                  </a:lnTo>
                  <a:lnTo>
                    <a:pt x="191" y="1074"/>
                  </a:lnTo>
                  <a:lnTo>
                    <a:pt x="191" y="1086"/>
                  </a:lnTo>
                  <a:lnTo>
                    <a:pt x="197" y="1098"/>
                  </a:lnTo>
                  <a:lnTo>
                    <a:pt x="197" y="1110"/>
                  </a:lnTo>
                  <a:lnTo>
                    <a:pt x="203" y="1116"/>
                  </a:lnTo>
                  <a:lnTo>
                    <a:pt x="203" y="1128"/>
                  </a:lnTo>
                  <a:lnTo>
                    <a:pt x="203" y="1140"/>
                  </a:lnTo>
                  <a:lnTo>
                    <a:pt x="208" y="1152"/>
                  </a:lnTo>
                  <a:lnTo>
                    <a:pt x="208" y="1164"/>
                  </a:lnTo>
                  <a:lnTo>
                    <a:pt x="208" y="1170"/>
                  </a:lnTo>
                  <a:lnTo>
                    <a:pt x="214" y="1182"/>
                  </a:lnTo>
                  <a:lnTo>
                    <a:pt x="214" y="1194"/>
                  </a:lnTo>
                  <a:lnTo>
                    <a:pt x="220" y="1206"/>
                  </a:lnTo>
                  <a:lnTo>
                    <a:pt x="220" y="1218"/>
                  </a:lnTo>
                  <a:lnTo>
                    <a:pt x="220" y="1224"/>
                  </a:lnTo>
                  <a:lnTo>
                    <a:pt x="226" y="1236"/>
                  </a:lnTo>
                  <a:lnTo>
                    <a:pt x="226" y="1248"/>
                  </a:lnTo>
                  <a:lnTo>
                    <a:pt x="232" y="1260"/>
                  </a:lnTo>
                  <a:lnTo>
                    <a:pt x="232" y="1266"/>
                  </a:lnTo>
                  <a:lnTo>
                    <a:pt x="232" y="1278"/>
                  </a:lnTo>
                  <a:lnTo>
                    <a:pt x="237" y="1290"/>
                  </a:lnTo>
                  <a:lnTo>
                    <a:pt x="237" y="1296"/>
                  </a:lnTo>
                  <a:lnTo>
                    <a:pt x="243" y="1308"/>
                  </a:lnTo>
                  <a:lnTo>
                    <a:pt x="243" y="1320"/>
                  </a:lnTo>
                  <a:lnTo>
                    <a:pt x="243" y="1332"/>
                  </a:lnTo>
                  <a:lnTo>
                    <a:pt x="249" y="1338"/>
                  </a:lnTo>
                  <a:lnTo>
                    <a:pt x="249" y="1350"/>
                  </a:lnTo>
                  <a:lnTo>
                    <a:pt x="249" y="1362"/>
                  </a:lnTo>
                  <a:lnTo>
                    <a:pt x="255" y="1368"/>
                  </a:lnTo>
                  <a:lnTo>
                    <a:pt x="255" y="1380"/>
                  </a:lnTo>
                  <a:lnTo>
                    <a:pt x="261" y="1392"/>
                  </a:lnTo>
                  <a:lnTo>
                    <a:pt x="261" y="1398"/>
                  </a:lnTo>
                  <a:lnTo>
                    <a:pt x="261" y="1410"/>
                  </a:lnTo>
                  <a:lnTo>
                    <a:pt x="266" y="1422"/>
                  </a:lnTo>
                  <a:lnTo>
                    <a:pt x="266" y="1428"/>
                  </a:lnTo>
                  <a:lnTo>
                    <a:pt x="272" y="1440"/>
                  </a:lnTo>
                  <a:lnTo>
                    <a:pt x="272" y="1446"/>
                  </a:lnTo>
                  <a:lnTo>
                    <a:pt x="272" y="1458"/>
                  </a:lnTo>
                  <a:lnTo>
                    <a:pt x="278" y="1470"/>
                  </a:lnTo>
                  <a:lnTo>
                    <a:pt x="278" y="1476"/>
                  </a:lnTo>
                  <a:lnTo>
                    <a:pt x="284" y="1488"/>
                  </a:lnTo>
                  <a:lnTo>
                    <a:pt x="284" y="1494"/>
                  </a:lnTo>
                  <a:lnTo>
                    <a:pt x="284" y="1507"/>
                  </a:lnTo>
                  <a:lnTo>
                    <a:pt x="290" y="1519"/>
                  </a:lnTo>
                  <a:lnTo>
                    <a:pt x="290" y="1525"/>
                  </a:lnTo>
                  <a:lnTo>
                    <a:pt x="290" y="1537"/>
                  </a:lnTo>
                  <a:lnTo>
                    <a:pt x="295" y="1543"/>
                  </a:lnTo>
                  <a:lnTo>
                    <a:pt x="295" y="1555"/>
                  </a:lnTo>
                  <a:lnTo>
                    <a:pt x="301" y="1561"/>
                  </a:lnTo>
                  <a:lnTo>
                    <a:pt x="301" y="1573"/>
                  </a:lnTo>
                  <a:lnTo>
                    <a:pt x="301" y="1579"/>
                  </a:lnTo>
                  <a:lnTo>
                    <a:pt x="307" y="1591"/>
                  </a:lnTo>
                  <a:lnTo>
                    <a:pt x="307" y="1603"/>
                  </a:lnTo>
                  <a:lnTo>
                    <a:pt x="313" y="1609"/>
                  </a:lnTo>
                  <a:lnTo>
                    <a:pt x="313" y="1621"/>
                  </a:lnTo>
                  <a:lnTo>
                    <a:pt x="313" y="1627"/>
                  </a:lnTo>
                  <a:lnTo>
                    <a:pt x="319" y="1639"/>
                  </a:lnTo>
                  <a:lnTo>
                    <a:pt x="319" y="1645"/>
                  </a:lnTo>
                  <a:lnTo>
                    <a:pt x="324" y="1657"/>
                  </a:lnTo>
                  <a:lnTo>
                    <a:pt x="324" y="1663"/>
                  </a:lnTo>
                  <a:lnTo>
                    <a:pt x="324" y="1669"/>
                  </a:lnTo>
                  <a:lnTo>
                    <a:pt x="330" y="1681"/>
                  </a:lnTo>
                  <a:lnTo>
                    <a:pt x="330" y="1687"/>
                  </a:lnTo>
                  <a:lnTo>
                    <a:pt x="330" y="1699"/>
                  </a:lnTo>
                  <a:lnTo>
                    <a:pt x="336" y="1705"/>
                  </a:lnTo>
                  <a:lnTo>
                    <a:pt x="336" y="1717"/>
                  </a:lnTo>
                  <a:lnTo>
                    <a:pt x="342" y="1723"/>
                  </a:lnTo>
                  <a:lnTo>
                    <a:pt x="342" y="1735"/>
                  </a:lnTo>
                  <a:lnTo>
                    <a:pt x="342" y="1741"/>
                  </a:lnTo>
                  <a:lnTo>
                    <a:pt x="348" y="1747"/>
                  </a:lnTo>
                  <a:lnTo>
                    <a:pt x="348" y="1759"/>
                  </a:lnTo>
                  <a:lnTo>
                    <a:pt x="353" y="1765"/>
                  </a:lnTo>
                  <a:lnTo>
                    <a:pt x="353" y="1777"/>
                  </a:lnTo>
                  <a:lnTo>
                    <a:pt x="353" y="1783"/>
                  </a:lnTo>
                  <a:lnTo>
                    <a:pt x="359" y="1789"/>
                  </a:lnTo>
                  <a:lnTo>
                    <a:pt x="359" y="1801"/>
                  </a:lnTo>
                  <a:lnTo>
                    <a:pt x="365" y="1807"/>
                  </a:lnTo>
                  <a:lnTo>
                    <a:pt x="365" y="1819"/>
                  </a:lnTo>
                  <a:lnTo>
                    <a:pt x="365" y="1825"/>
                  </a:lnTo>
                  <a:lnTo>
                    <a:pt x="371" y="1831"/>
                  </a:lnTo>
                  <a:lnTo>
                    <a:pt x="371" y="1843"/>
                  </a:lnTo>
                  <a:lnTo>
                    <a:pt x="371" y="1849"/>
                  </a:lnTo>
                  <a:lnTo>
                    <a:pt x="377" y="1855"/>
                  </a:lnTo>
                  <a:lnTo>
                    <a:pt x="377" y="1867"/>
                  </a:lnTo>
                  <a:lnTo>
                    <a:pt x="382" y="1873"/>
                  </a:lnTo>
                  <a:lnTo>
                    <a:pt x="382" y="1879"/>
                  </a:lnTo>
                  <a:lnTo>
                    <a:pt x="382" y="1891"/>
                  </a:lnTo>
                  <a:lnTo>
                    <a:pt x="388" y="1897"/>
                  </a:lnTo>
                  <a:lnTo>
                    <a:pt x="388" y="1903"/>
                  </a:lnTo>
                  <a:lnTo>
                    <a:pt x="394" y="1915"/>
                  </a:lnTo>
                  <a:lnTo>
                    <a:pt x="394" y="1921"/>
                  </a:lnTo>
                  <a:lnTo>
                    <a:pt x="394" y="1927"/>
                  </a:lnTo>
                  <a:lnTo>
                    <a:pt x="400" y="1933"/>
                  </a:lnTo>
                  <a:lnTo>
                    <a:pt x="400" y="1945"/>
                  </a:lnTo>
                  <a:lnTo>
                    <a:pt x="406" y="1951"/>
                  </a:lnTo>
                  <a:lnTo>
                    <a:pt x="406" y="1957"/>
                  </a:lnTo>
                  <a:lnTo>
                    <a:pt x="406" y="1963"/>
                  </a:lnTo>
                  <a:lnTo>
                    <a:pt x="411" y="1975"/>
                  </a:lnTo>
                  <a:lnTo>
                    <a:pt x="411" y="1981"/>
                  </a:lnTo>
                  <a:lnTo>
                    <a:pt x="411" y="1987"/>
                  </a:lnTo>
                  <a:lnTo>
                    <a:pt x="417" y="1993"/>
                  </a:lnTo>
                  <a:lnTo>
                    <a:pt x="417" y="2005"/>
                  </a:lnTo>
                  <a:lnTo>
                    <a:pt x="423" y="2011"/>
                  </a:lnTo>
                  <a:lnTo>
                    <a:pt x="423" y="2017"/>
                  </a:lnTo>
                  <a:lnTo>
                    <a:pt x="423" y="2023"/>
                  </a:lnTo>
                  <a:lnTo>
                    <a:pt x="429" y="2029"/>
                  </a:lnTo>
                  <a:lnTo>
                    <a:pt x="429" y="2041"/>
                  </a:lnTo>
                  <a:lnTo>
                    <a:pt x="435" y="2047"/>
                  </a:lnTo>
                  <a:lnTo>
                    <a:pt x="435" y="2053"/>
                  </a:lnTo>
                  <a:lnTo>
                    <a:pt x="435" y="2059"/>
                  </a:lnTo>
                  <a:lnTo>
                    <a:pt x="440" y="2065"/>
                  </a:lnTo>
                  <a:lnTo>
                    <a:pt x="440" y="2071"/>
                  </a:lnTo>
                  <a:lnTo>
                    <a:pt x="446" y="2083"/>
                  </a:lnTo>
                  <a:lnTo>
                    <a:pt x="446" y="2089"/>
                  </a:lnTo>
                  <a:lnTo>
                    <a:pt x="446" y="2095"/>
                  </a:lnTo>
                  <a:lnTo>
                    <a:pt x="452" y="2101"/>
                  </a:lnTo>
                  <a:lnTo>
                    <a:pt x="452" y="2107"/>
                  </a:lnTo>
                  <a:lnTo>
                    <a:pt x="452" y="2113"/>
                  </a:lnTo>
                  <a:lnTo>
                    <a:pt x="458" y="2119"/>
                  </a:lnTo>
                  <a:lnTo>
                    <a:pt x="458" y="2125"/>
                  </a:lnTo>
                  <a:lnTo>
                    <a:pt x="464" y="2137"/>
                  </a:lnTo>
                  <a:lnTo>
                    <a:pt x="464" y="2143"/>
                  </a:lnTo>
                  <a:lnTo>
                    <a:pt x="464" y="2149"/>
                  </a:lnTo>
                  <a:lnTo>
                    <a:pt x="469" y="2155"/>
                  </a:lnTo>
                  <a:lnTo>
                    <a:pt x="469" y="2161"/>
                  </a:lnTo>
                  <a:lnTo>
                    <a:pt x="475" y="2167"/>
                  </a:lnTo>
                  <a:lnTo>
                    <a:pt x="475" y="2173"/>
                  </a:lnTo>
                  <a:lnTo>
                    <a:pt x="475" y="2179"/>
                  </a:lnTo>
                  <a:lnTo>
                    <a:pt x="481" y="2185"/>
                  </a:lnTo>
                  <a:lnTo>
                    <a:pt x="481" y="2191"/>
                  </a:lnTo>
                  <a:lnTo>
                    <a:pt x="487" y="2197"/>
                  </a:lnTo>
                  <a:lnTo>
                    <a:pt x="487" y="2203"/>
                  </a:lnTo>
                  <a:lnTo>
                    <a:pt x="487" y="2209"/>
                  </a:lnTo>
                  <a:lnTo>
                    <a:pt x="493" y="2215"/>
                  </a:lnTo>
                  <a:lnTo>
                    <a:pt x="493" y="2221"/>
                  </a:lnTo>
                  <a:lnTo>
                    <a:pt x="493" y="2227"/>
                  </a:lnTo>
                  <a:lnTo>
                    <a:pt x="498" y="2233"/>
                  </a:lnTo>
                  <a:lnTo>
                    <a:pt x="498" y="2239"/>
                  </a:lnTo>
                  <a:lnTo>
                    <a:pt x="504" y="2245"/>
                  </a:lnTo>
                  <a:lnTo>
                    <a:pt x="504" y="2251"/>
                  </a:lnTo>
                  <a:lnTo>
                    <a:pt x="504" y="2257"/>
                  </a:lnTo>
                  <a:lnTo>
                    <a:pt x="510" y="2263"/>
                  </a:lnTo>
                  <a:lnTo>
                    <a:pt x="510" y="2269"/>
                  </a:lnTo>
                  <a:lnTo>
                    <a:pt x="516" y="2275"/>
                  </a:lnTo>
                  <a:lnTo>
                    <a:pt x="516" y="2281"/>
                  </a:lnTo>
                  <a:lnTo>
                    <a:pt x="516" y="2287"/>
                  </a:lnTo>
                  <a:lnTo>
                    <a:pt x="522" y="2293"/>
                  </a:lnTo>
                  <a:lnTo>
                    <a:pt x="522" y="2299"/>
                  </a:lnTo>
                  <a:lnTo>
                    <a:pt x="527" y="2305"/>
                  </a:lnTo>
                  <a:lnTo>
                    <a:pt x="527" y="2311"/>
                  </a:lnTo>
                  <a:lnTo>
                    <a:pt x="527" y="2317"/>
                  </a:lnTo>
                  <a:lnTo>
                    <a:pt x="533" y="2323"/>
                  </a:lnTo>
                  <a:lnTo>
                    <a:pt x="533" y="2329"/>
                  </a:lnTo>
                  <a:lnTo>
                    <a:pt x="539" y="2335"/>
                  </a:lnTo>
                  <a:lnTo>
                    <a:pt x="539" y="2341"/>
                  </a:lnTo>
                  <a:lnTo>
                    <a:pt x="545" y="2347"/>
                  </a:lnTo>
                  <a:lnTo>
                    <a:pt x="545" y="2353"/>
                  </a:lnTo>
                  <a:lnTo>
                    <a:pt x="545" y="2359"/>
                  </a:lnTo>
                  <a:lnTo>
                    <a:pt x="551" y="2365"/>
                  </a:lnTo>
                  <a:lnTo>
                    <a:pt x="551" y="2371"/>
                  </a:lnTo>
                  <a:lnTo>
                    <a:pt x="556" y="2371"/>
                  </a:lnTo>
                  <a:lnTo>
                    <a:pt x="556" y="2377"/>
                  </a:lnTo>
                  <a:lnTo>
                    <a:pt x="556" y="2383"/>
                  </a:lnTo>
                  <a:lnTo>
                    <a:pt x="562" y="2389"/>
                  </a:lnTo>
                  <a:lnTo>
                    <a:pt x="562" y="2395"/>
                  </a:lnTo>
                  <a:lnTo>
                    <a:pt x="562" y="2401"/>
                  </a:lnTo>
                  <a:lnTo>
                    <a:pt x="568" y="2401"/>
                  </a:lnTo>
                  <a:lnTo>
                    <a:pt x="568" y="2407"/>
                  </a:lnTo>
                  <a:lnTo>
                    <a:pt x="574" y="2413"/>
                  </a:lnTo>
                  <a:lnTo>
                    <a:pt x="574" y="2419"/>
                  </a:lnTo>
                  <a:lnTo>
                    <a:pt x="580" y="2425"/>
                  </a:lnTo>
                  <a:lnTo>
                    <a:pt x="580" y="2431"/>
                  </a:lnTo>
                  <a:lnTo>
                    <a:pt x="585" y="2437"/>
                  </a:lnTo>
                  <a:lnTo>
                    <a:pt x="585" y="2443"/>
                  </a:lnTo>
                  <a:lnTo>
                    <a:pt x="591" y="2449"/>
                  </a:lnTo>
                  <a:lnTo>
                    <a:pt x="591" y="2455"/>
                  </a:lnTo>
                  <a:lnTo>
                    <a:pt x="597" y="2461"/>
                  </a:lnTo>
                  <a:lnTo>
                    <a:pt x="597" y="2467"/>
                  </a:lnTo>
                  <a:lnTo>
                    <a:pt x="603" y="2473"/>
                  </a:lnTo>
                  <a:lnTo>
                    <a:pt x="603" y="2479"/>
                  </a:lnTo>
                  <a:lnTo>
                    <a:pt x="609" y="2485"/>
                  </a:lnTo>
                  <a:lnTo>
                    <a:pt x="609" y="2491"/>
                  </a:lnTo>
                  <a:lnTo>
                    <a:pt x="614" y="2491"/>
                  </a:lnTo>
                  <a:lnTo>
                    <a:pt x="614" y="2497"/>
                  </a:lnTo>
                  <a:lnTo>
                    <a:pt x="614" y="2503"/>
                  </a:lnTo>
                  <a:lnTo>
                    <a:pt x="620" y="2503"/>
                  </a:lnTo>
                  <a:lnTo>
                    <a:pt x="620" y="2509"/>
                  </a:lnTo>
                  <a:lnTo>
                    <a:pt x="626" y="2515"/>
                  </a:lnTo>
                  <a:lnTo>
                    <a:pt x="626" y="2521"/>
                  </a:lnTo>
                  <a:lnTo>
                    <a:pt x="632" y="2521"/>
                  </a:lnTo>
                  <a:lnTo>
                    <a:pt x="632" y="2527"/>
                  </a:lnTo>
                  <a:lnTo>
                    <a:pt x="638" y="2533"/>
                  </a:lnTo>
                  <a:lnTo>
                    <a:pt x="638" y="2539"/>
                  </a:lnTo>
                  <a:lnTo>
                    <a:pt x="643" y="2545"/>
                  </a:lnTo>
                  <a:lnTo>
                    <a:pt x="643" y="2551"/>
                  </a:lnTo>
                  <a:lnTo>
                    <a:pt x="649" y="2551"/>
                  </a:lnTo>
                  <a:lnTo>
                    <a:pt x="649" y="2557"/>
                  </a:lnTo>
                  <a:lnTo>
                    <a:pt x="655" y="2563"/>
                  </a:lnTo>
                  <a:lnTo>
                    <a:pt x="655" y="2569"/>
                  </a:lnTo>
                  <a:lnTo>
                    <a:pt x="661" y="2569"/>
                  </a:lnTo>
                  <a:lnTo>
                    <a:pt x="661" y="2575"/>
                  </a:lnTo>
                  <a:lnTo>
                    <a:pt x="667" y="2575"/>
                  </a:lnTo>
                  <a:lnTo>
                    <a:pt x="667" y="2581"/>
                  </a:lnTo>
                  <a:lnTo>
                    <a:pt x="672" y="2587"/>
                  </a:lnTo>
                  <a:lnTo>
                    <a:pt x="678" y="2593"/>
                  </a:lnTo>
                  <a:lnTo>
                    <a:pt x="678" y="2599"/>
                  </a:lnTo>
                  <a:lnTo>
                    <a:pt x="684" y="2599"/>
                  </a:lnTo>
                  <a:lnTo>
                    <a:pt x="684" y="2605"/>
                  </a:lnTo>
                  <a:lnTo>
                    <a:pt x="690" y="2611"/>
                  </a:lnTo>
                  <a:lnTo>
                    <a:pt x="696" y="2617"/>
                  </a:lnTo>
                  <a:lnTo>
                    <a:pt x="696" y="2623"/>
                  </a:lnTo>
                  <a:lnTo>
                    <a:pt x="701" y="2623"/>
                  </a:lnTo>
                  <a:lnTo>
                    <a:pt x="701" y="2629"/>
                  </a:lnTo>
                  <a:lnTo>
                    <a:pt x="707" y="2629"/>
                  </a:lnTo>
                  <a:lnTo>
                    <a:pt x="707" y="2635"/>
                  </a:lnTo>
                  <a:lnTo>
                    <a:pt x="713" y="2635"/>
                  </a:lnTo>
                  <a:lnTo>
                    <a:pt x="713" y="2641"/>
                  </a:lnTo>
                  <a:lnTo>
                    <a:pt x="719" y="2641"/>
                  </a:lnTo>
                  <a:lnTo>
                    <a:pt x="719" y="2647"/>
                  </a:lnTo>
                  <a:lnTo>
                    <a:pt x="725" y="2647"/>
                  </a:lnTo>
                  <a:lnTo>
                    <a:pt x="725" y="2653"/>
                  </a:lnTo>
                  <a:lnTo>
                    <a:pt x="730" y="2653"/>
                  </a:lnTo>
                  <a:lnTo>
                    <a:pt x="730" y="2659"/>
                  </a:lnTo>
                  <a:lnTo>
                    <a:pt x="736" y="2659"/>
                  </a:lnTo>
                  <a:lnTo>
                    <a:pt x="736" y="2665"/>
                  </a:lnTo>
                  <a:lnTo>
                    <a:pt x="742" y="2665"/>
                  </a:lnTo>
                  <a:lnTo>
                    <a:pt x="748" y="2671"/>
                  </a:lnTo>
                  <a:lnTo>
                    <a:pt x="754" y="2677"/>
                  </a:lnTo>
                  <a:lnTo>
                    <a:pt x="759" y="2677"/>
                  </a:lnTo>
                  <a:lnTo>
                    <a:pt x="759" y="2683"/>
                  </a:lnTo>
                  <a:lnTo>
                    <a:pt x="765" y="2683"/>
                  </a:lnTo>
                  <a:lnTo>
                    <a:pt x="765" y="2689"/>
                  </a:lnTo>
                  <a:lnTo>
                    <a:pt x="771" y="2689"/>
                  </a:lnTo>
                  <a:lnTo>
                    <a:pt x="777" y="2689"/>
                  </a:lnTo>
                  <a:lnTo>
                    <a:pt x="777" y="2695"/>
                  </a:lnTo>
                  <a:lnTo>
                    <a:pt x="783" y="2695"/>
                  </a:lnTo>
                  <a:lnTo>
                    <a:pt x="788" y="2701"/>
                  </a:lnTo>
                  <a:lnTo>
                    <a:pt x="794" y="2701"/>
                  </a:lnTo>
                  <a:lnTo>
                    <a:pt x="800" y="2701"/>
                  </a:lnTo>
                  <a:lnTo>
                    <a:pt x="800" y="2707"/>
                  </a:lnTo>
                  <a:lnTo>
                    <a:pt x="806" y="2707"/>
                  </a:lnTo>
                  <a:lnTo>
                    <a:pt x="812" y="2707"/>
                  </a:lnTo>
                  <a:lnTo>
                    <a:pt x="812" y="2713"/>
                  </a:lnTo>
                  <a:lnTo>
                    <a:pt x="817" y="2713"/>
                  </a:lnTo>
                  <a:lnTo>
                    <a:pt x="823" y="2713"/>
                  </a:lnTo>
                  <a:lnTo>
                    <a:pt x="829" y="2713"/>
                  </a:lnTo>
                  <a:lnTo>
                    <a:pt x="835" y="2719"/>
                  </a:lnTo>
                  <a:lnTo>
                    <a:pt x="841" y="2719"/>
                  </a:lnTo>
                  <a:lnTo>
                    <a:pt x="846" y="2719"/>
                  </a:lnTo>
                  <a:lnTo>
                    <a:pt x="852" y="2719"/>
                  </a:lnTo>
                  <a:lnTo>
                    <a:pt x="858" y="2719"/>
                  </a:lnTo>
                  <a:lnTo>
                    <a:pt x="864" y="2719"/>
                  </a:lnTo>
                  <a:lnTo>
                    <a:pt x="870" y="2719"/>
                  </a:lnTo>
                  <a:lnTo>
                    <a:pt x="875" y="2719"/>
                  </a:lnTo>
                  <a:lnTo>
                    <a:pt x="881" y="2719"/>
                  </a:lnTo>
                  <a:lnTo>
                    <a:pt x="887" y="2719"/>
                  </a:lnTo>
                  <a:lnTo>
                    <a:pt x="893" y="2713"/>
                  </a:lnTo>
                  <a:lnTo>
                    <a:pt x="899" y="2713"/>
                  </a:lnTo>
                  <a:lnTo>
                    <a:pt x="904" y="2713"/>
                  </a:lnTo>
                  <a:lnTo>
                    <a:pt x="910" y="2713"/>
                  </a:lnTo>
                  <a:lnTo>
                    <a:pt x="910" y="2707"/>
                  </a:lnTo>
                  <a:lnTo>
                    <a:pt x="916" y="2707"/>
                  </a:lnTo>
                  <a:lnTo>
                    <a:pt x="922" y="2707"/>
                  </a:lnTo>
                  <a:lnTo>
                    <a:pt x="928" y="2701"/>
                  </a:lnTo>
                  <a:lnTo>
                    <a:pt x="933" y="2701"/>
                  </a:lnTo>
                  <a:lnTo>
                    <a:pt x="939" y="2701"/>
                  </a:lnTo>
                  <a:lnTo>
                    <a:pt x="939" y="2695"/>
                  </a:lnTo>
                  <a:lnTo>
                    <a:pt x="945" y="2695"/>
                  </a:lnTo>
                  <a:lnTo>
                    <a:pt x="951" y="2689"/>
                  </a:lnTo>
                  <a:lnTo>
                    <a:pt x="957" y="2689"/>
                  </a:lnTo>
                  <a:lnTo>
                    <a:pt x="957" y="2683"/>
                  </a:lnTo>
                  <a:lnTo>
                    <a:pt x="962" y="2683"/>
                  </a:lnTo>
                  <a:lnTo>
                    <a:pt x="968" y="2677"/>
                  </a:lnTo>
                  <a:lnTo>
                    <a:pt x="974" y="2671"/>
                  </a:lnTo>
                  <a:lnTo>
                    <a:pt x="980" y="2671"/>
                  </a:lnTo>
                  <a:lnTo>
                    <a:pt x="980" y="2665"/>
                  </a:lnTo>
                  <a:lnTo>
                    <a:pt x="986" y="2665"/>
                  </a:lnTo>
                  <a:lnTo>
                    <a:pt x="986" y="2659"/>
                  </a:lnTo>
                  <a:lnTo>
                    <a:pt x="991" y="2659"/>
                  </a:lnTo>
                  <a:lnTo>
                    <a:pt x="991" y="2653"/>
                  </a:lnTo>
                  <a:lnTo>
                    <a:pt x="997" y="2653"/>
                  </a:lnTo>
                  <a:lnTo>
                    <a:pt x="997" y="2647"/>
                  </a:lnTo>
                  <a:lnTo>
                    <a:pt x="1003" y="2647"/>
                  </a:lnTo>
                  <a:lnTo>
                    <a:pt x="1009" y="2641"/>
                  </a:lnTo>
                  <a:lnTo>
                    <a:pt x="1009" y="2635"/>
                  </a:lnTo>
                  <a:lnTo>
                    <a:pt x="1015" y="2635"/>
                  </a:lnTo>
                  <a:lnTo>
                    <a:pt x="1015" y="2629"/>
                  </a:lnTo>
                  <a:lnTo>
                    <a:pt x="1020" y="2629"/>
                  </a:lnTo>
                  <a:lnTo>
                    <a:pt x="1020" y="2623"/>
                  </a:lnTo>
                  <a:lnTo>
                    <a:pt x="1026" y="2623"/>
                  </a:lnTo>
                  <a:lnTo>
                    <a:pt x="1026" y="2617"/>
                  </a:lnTo>
                  <a:lnTo>
                    <a:pt x="1032" y="2617"/>
                  </a:lnTo>
                  <a:lnTo>
                    <a:pt x="1032" y="2611"/>
                  </a:lnTo>
                  <a:lnTo>
                    <a:pt x="1038" y="2605"/>
                  </a:lnTo>
                  <a:lnTo>
                    <a:pt x="1038" y="2599"/>
                  </a:lnTo>
                  <a:lnTo>
                    <a:pt x="1044" y="2599"/>
                  </a:lnTo>
                  <a:lnTo>
                    <a:pt x="1044" y="2593"/>
                  </a:lnTo>
                  <a:lnTo>
                    <a:pt x="1049" y="2593"/>
                  </a:lnTo>
                  <a:lnTo>
                    <a:pt x="1049" y="2587"/>
                  </a:lnTo>
                  <a:lnTo>
                    <a:pt x="1055" y="2581"/>
                  </a:lnTo>
                  <a:lnTo>
                    <a:pt x="1061" y="2575"/>
                  </a:lnTo>
                  <a:lnTo>
                    <a:pt x="1061" y="2569"/>
                  </a:lnTo>
                  <a:lnTo>
                    <a:pt x="1067" y="2569"/>
                  </a:lnTo>
                  <a:lnTo>
                    <a:pt x="1067" y="2563"/>
                  </a:lnTo>
                  <a:lnTo>
                    <a:pt x="1073" y="2563"/>
                  </a:lnTo>
                  <a:lnTo>
                    <a:pt x="1073" y="2557"/>
                  </a:lnTo>
                  <a:lnTo>
                    <a:pt x="1073" y="2551"/>
                  </a:lnTo>
                  <a:lnTo>
                    <a:pt x="1078" y="2551"/>
                  </a:lnTo>
                  <a:lnTo>
                    <a:pt x="1078" y="2545"/>
                  </a:lnTo>
                  <a:lnTo>
                    <a:pt x="1084" y="2539"/>
                  </a:lnTo>
                  <a:lnTo>
                    <a:pt x="1084" y="2533"/>
                  </a:lnTo>
                  <a:lnTo>
                    <a:pt x="1090" y="2533"/>
                  </a:lnTo>
                  <a:lnTo>
                    <a:pt x="1090" y="2527"/>
                  </a:lnTo>
                  <a:lnTo>
                    <a:pt x="1090" y="2521"/>
                  </a:lnTo>
                  <a:lnTo>
                    <a:pt x="1096" y="2521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18800" y="1919160"/>
              <a:ext cx="816840" cy="3872520"/>
            </a:xfrm>
            <a:custGeom>
              <a:avLst/>
              <a:gdLst/>
              <a:ahLst/>
              <a:rect l="l" t="t" r="r" b="b"/>
              <a:pathLst>
                <a:path w="626" h="2521">
                  <a:moveTo>
                    <a:pt x="0" y="2521"/>
                  </a:moveTo>
                  <a:lnTo>
                    <a:pt x="0" y="2515"/>
                  </a:lnTo>
                  <a:lnTo>
                    <a:pt x="6" y="2515"/>
                  </a:lnTo>
                  <a:lnTo>
                    <a:pt x="6" y="2509"/>
                  </a:lnTo>
                  <a:lnTo>
                    <a:pt x="6" y="2503"/>
                  </a:lnTo>
                  <a:lnTo>
                    <a:pt x="11" y="2503"/>
                  </a:lnTo>
                  <a:lnTo>
                    <a:pt x="11" y="2497"/>
                  </a:lnTo>
                  <a:lnTo>
                    <a:pt x="17" y="2491"/>
                  </a:lnTo>
                  <a:lnTo>
                    <a:pt x="17" y="2485"/>
                  </a:lnTo>
                  <a:lnTo>
                    <a:pt x="23" y="2479"/>
                  </a:lnTo>
                  <a:lnTo>
                    <a:pt x="23" y="2473"/>
                  </a:lnTo>
                  <a:lnTo>
                    <a:pt x="29" y="2467"/>
                  </a:lnTo>
                  <a:lnTo>
                    <a:pt x="29" y="2461"/>
                  </a:lnTo>
                  <a:lnTo>
                    <a:pt x="35" y="2461"/>
                  </a:lnTo>
                  <a:lnTo>
                    <a:pt x="35" y="2455"/>
                  </a:lnTo>
                  <a:lnTo>
                    <a:pt x="35" y="2449"/>
                  </a:lnTo>
                  <a:lnTo>
                    <a:pt x="40" y="2443"/>
                  </a:lnTo>
                  <a:lnTo>
                    <a:pt x="46" y="2437"/>
                  </a:lnTo>
                  <a:lnTo>
                    <a:pt x="46" y="2431"/>
                  </a:lnTo>
                  <a:lnTo>
                    <a:pt x="46" y="2425"/>
                  </a:lnTo>
                  <a:lnTo>
                    <a:pt x="52" y="2419"/>
                  </a:lnTo>
                  <a:lnTo>
                    <a:pt x="58" y="2413"/>
                  </a:lnTo>
                  <a:lnTo>
                    <a:pt x="58" y="2407"/>
                  </a:lnTo>
                  <a:lnTo>
                    <a:pt x="58" y="2401"/>
                  </a:lnTo>
                  <a:lnTo>
                    <a:pt x="64" y="2395"/>
                  </a:lnTo>
                  <a:lnTo>
                    <a:pt x="64" y="2389"/>
                  </a:lnTo>
                  <a:lnTo>
                    <a:pt x="69" y="2383"/>
                  </a:lnTo>
                  <a:lnTo>
                    <a:pt x="69" y="2377"/>
                  </a:lnTo>
                  <a:lnTo>
                    <a:pt x="75" y="2371"/>
                  </a:lnTo>
                  <a:lnTo>
                    <a:pt x="75" y="2365"/>
                  </a:lnTo>
                  <a:lnTo>
                    <a:pt x="81" y="2359"/>
                  </a:lnTo>
                  <a:lnTo>
                    <a:pt x="81" y="2353"/>
                  </a:lnTo>
                  <a:lnTo>
                    <a:pt x="87" y="2347"/>
                  </a:lnTo>
                  <a:lnTo>
                    <a:pt x="87" y="2341"/>
                  </a:lnTo>
                  <a:lnTo>
                    <a:pt x="87" y="2335"/>
                  </a:lnTo>
                  <a:lnTo>
                    <a:pt x="93" y="2329"/>
                  </a:lnTo>
                  <a:lnTo>
                    <a:pt x="93" y="2323"/>
                  </a:lnTo>
                  <a:lnTo>
                    <a:pt x="98" y="2323"/>
                  </a:lnTo>
                  <a:lnTo>
                    <a:pt x="98" y="2317"/>
                  </a:lnTo>
                  <a:lnTo>
                    <a:pt x="98" y="2311"/>
                  </a:lnTo>
                  <a:lnTo>
                    <a:pt x="104" y="2305"/>
                  </a:lnTo>
                  <a:lnTo>
                    <a:pt x="104" y="2299"/>
                  </a:lnTo>
                  <a:lnTo>
                    <a:pt x="104" y="2293"/>
                  </a:lnTo>
                  <a:lnTo>
                    <a:pt x="110" y="2287"/>
                  </a:lnTo>
                  <a:lnTo>
                    <a:pt x="110" y="2281"/>
                  </a:lnTo>
                  <a:lnTo>
                    <a:pt x="116" y="2275"/>
                  </a:lnTo>
                  <a:lnTo>
                    <a:pt x="116" y="2269"/>
                  </a:lnTo>
                  <a:lnTo>
                    <a:pt x="116" y="2263"/>
                  </a:lnTo>
                  <a:lnTo>
                    <a:pt x="122" y="2257"/>
                  </a:lnTo>
                  <a:lnTo>
                    <a:pt x="122" y="2251"/>
                  </a:lnTo>
                  <a:lnTo>
                    <a:pt x="127" y="2245"/>
                  </a:lnTo>
                  <a:lnTo>
                    <a:pt x="127" y="2239"/>
                  </a:lnTo>
                  <a:lnTo>
                    <a:pt x="127" y="2233"/>
                  </a:lnTo>
                  <a:lnTo>
                    <a:pt x="133" y="2227"/>
                  </a:lnTo>
                  <a:lnTo>
                    <a:pt x="133" y="2221"/>
                  </a:lnTo>
                  <a:lnTo>
                    <a:pt x="139" y="2215"/>
                  </a:lnTo>
                  <a:lnTo>
                    <a:pt x="139" y="2209"/>
                  </a:lnTo>
                  <a:lnTo>
                    <a:pt x="139" y="2203"/>
                  </a:lnTo>
                  <a:lnTo>
                    <a:pt x="145" y="2197"/>
                  </a:lnTo>
                  <a:lnTo>
                    <a:pt x="145" y="2191"/>
                  </a:lnTo>
                  <a:lnTo>
                    <a:pt x="145" y="2185"/>
                  </a:lnTo>
                  <a:lnTo>
                    <a:pt x="151" y="2179"/>
                  </a:lnTo>
                  <a:lnTo>
                    <a:pt x="151" y="2173"/>
                  </a:lnTo>
                  <a:lnTo>
                    <a:pt x="156" y="2167"/>
                  </a:lnTo>
                  <a:lnTo>
                    <a:pt x="156" y="2161"/>
                  </a:lnTo>
                  <a:lnTo>
                    <a:pt x="156" y="2155"/>
                  </a:lnTo>
                  <a:lnTo>
                    <a:pt x="162" y="2149"/>
                  </a:lnTo>
                  <a:lnTo>
                    <a:pt x="162" y="2143"/>
                  </a:lnTo>
                  <a:lnTo>
                    <a:pt x="168" y="2137"/>
                  </a:lnTo>
                  <a:lnTo>
                    <a:pt x="168" y="2125"/>
                  </a:lnTo>
                  <a:lnTo>
                    <a:pt x="168" y="2119"/>
                  </a:lnTo>
                  <a:lnTo>
                    <a:pt x="174" y="2113"/>
                  </a:lnTo>
                  <a:lnTo>
                    <a:pt x="174" y="2107"/>
                  </a:lnTo>
                  <a:lnTo>
                    <a:pt x="180" y="2101"/>
                  </a:lnTo>
                  <a:lnTo>
                    <a:pt x="180" y="2095"/>
                  </a:lnTo>
                  <a:lnTo>
                    <a:pt x="180" y="2089"/>
                  </a:lnTo>
                  <a:lnTo>
                    <a:pt x="185" y="2083"/>
                  </a:lnTo>
                  <a:lnTo>
                    <a:pt x="185" y="2071"/>
                  </a:lnTo>
                  <a:lnTo>
                    <a:pt x="185" y="2065"/>
                  </a:lnTo>
                  <a:lnTo>
                    <a:pt x="191" y="2059"/>
                  </a:lnTo>
                  <a:lnTo>
                    <a:pt x="191" y="2053"/>
                  </a:lnTo>
                  <a:lnTo>
                    <a:pt x="197" y="2047"/>
                  </a:lnTo>
                  <a:lnTo>
                    <a:pt x="197" y="2041"/>
                  </a:lnTo>
                  <a:lnTo>
                    <a:pt x="197" y="2029"/>
                  </a:lnTo>
                  <a:lnTo>
                    <a:pt x="203" y="2023"/>
                  </a:lnTo>
                  <a:lnTo>
                    <a:pt x="203" y="2017"/>
                  </a:lnTo>
                  <a:lnTo>
                    <a:pt x="209" y="2011"/>
                  </a:lnTo>
                  <a:lnTo>
                    <a:pt x="209" y="2005"/>
                  </a:lnTo>
                  <a:lnTo>
                    <a:pt x="209" y="1993"/>
                  </a:lnTo>
                  <a:lnTo>
                    <a:pt x="214" y="1987"/>
                  </a:lnTo>
                  <a:lnTo>
                    <a:pt x="214" y="1981"/>
                  </a:lnTo>
                  <a:lnTo>
                    <a:pt x="214" y="1975"/>
                  </a:lnTo>
                  <a:lnTo>
                    <a:pt x="220" y="1963"/>
                  </a:lnTo>
                  <a:lnTo>
                    <a:pt x="220" y="1957"/>
                  </a:lnTo>
                  <a:lnTo>
                    <a:pt x="226" y="1951"/>
                  </a:lnTo>
                  <a:lnTo>
                    <a:pt x="226" y="1945"/>
                  </a:lnTo>
                  <a:lnTo>
                    <a:pt x="226" y="1933"/>
                  </a:lnTo>
                  <a:lnTo>
                    <a:pt x="232" y="1927"/>
                  </a:lnTo>
                  <a:lnTo>
                    <a:pt x="232" y="1921"/>
                  </a:lnTo>
                  <a:lnTo>
                    <a:pt x="238" y="1909"/>
                  </a:lnTo>
                  <a:lnTo>
                    <a:pt x="238" y="1903"/>
                  </a:lnTo>
                  <a:lnTo>
                    <a:pt x="238" y="1897"/>
                  </a:lnTo>
                  <a:lnTo>
                    <a:pt x="243" y="1891"/>
                  </a:lnTo>
                  <a:lnTo>
                    <a:pt x="243" y="1879"/>
                  </a:lnTo>
                  <a:lnTo>
                    <a:pt x="249" y="1873"/>
                  </a:lnTo>
                  <a:lnTo>
                    <a:pt x="249" y="1867"/>
                  </a:lnTo>
                  <a:lnTo>
                    <a:pt x="249" y="1855"/>
                  </a:lnTo>
                  <a:lnTo>
                    <a:pt x="255" y="1849"/>
                  </a:lnTo>
                  <a:lnTo>
                    <a:pt x="255" y="1843"/>
                  </a:lnTo>
                  <a:lnTo>
                    <a:pt x="255" y="1831"/>
                  </a:lnTo>
                  <a:lnTo>
                    <a:pt x="261" y="1825"/>
                  </a:lnTo>
                  <a:lnTo>
                    <a:pt x="261" y="1819"/>
                  </a:lnTo>
                  <a:lnTo>
                    <a:pt x="267" y="1807"/>
                  </a:lnTo>
                  <a:lnTo>
                    <a:pt x="267" y="1801"/>
                  </a:lnTo>
                  <a:lnTo>
                    <a:pt x="267" y="1789"/>
                  </a:lnTo>
                  <a:lnTo>
                    <a:pt x="272" y="1783"/>
                  </a:lnTo>
                  <a:lnTo>
                    <a:pt x="272" y="1777"/>
                  </a:lnTo>
                  <a:lnTo>
                    <a:pt x="278" y="1765"/>
                  </a:lnTo>
                  <a:lnTo>
                    <a:pt x="278" y="1759"/>
                  </a:lnTo>
                  <a:lnTo>
                    <a:pt x="278" y="1747"/>
                  </a:lnTo>
                  <a:lnTo>
                    <a:pt x="284" y="1741"/>
                  </a:lnTo>
                  <a:lnTo>
                    <a:pt x="284" y="1735"/>
                  </a:lnTo>
                  <a:lnTo>
                    <a:pt x="290" y="1723"/>
                  </a:lnTo>
                  <a:lnTo>
                    <a:pt x="290" y="1717"/>
                  </a:lnTo>
                  <a:lnTo>
                    <a:pt x="290" y="1705"/>
                  </a:lnTo>
                  <a:lnTo>
                    <a:pt x="296" y="1699"/>
                  </a:lnTo>
                  <a:lnTo>
                    <a:pt x="296" y="1687"/>
                  </a:lnTo>
                  <a:lnTo>
                    <a:pt x="296" y="1681"/>
                  </a:lnTo>
                  <a:lnTo>
                    <a:pt x="301" y="1669"/>
                  </a:lnTo>
                  <a:lnTo>
                    <a:pt x="301" y="1663"/>
                  </a:lnTo>
                  <a:lnTo>
                    <a:pt x="307" y="1657"/>
                  </a:lnTo>
                  <a:lnTo>
                    <a:pt x="307" y="1645"/>
                  </a:lnTo>
                  <a:lnTo>
                    <a:pt x="307" y="1639"/>
                  </a:lnTo>
                  <a:lnTo>
                    <a:pt x="313" y="1627"/>
                  </a:lnTo>
                  <a:lnTo>
                    <a:pt x="313" y="1621"/>
                  </a:lnTo>
                  <a:lnTo>
                    <a:pt x="319" y="1609"/>
                  </a:lnTo>
                  <a:lnTo>
                    <a:pt x="319" y="1603"/>
                  </a:lnTo>
                  <a:lnTo>
                    <a:pt x="319" y="1591"/>
                  </a:lnTo>
                  <a:lnTo>
                    <a:pt x="325" y="1579"/>
                  </a:lnTo>
                  <a:lnTo>
                    <a:pt x="325" y="1573"/>
                  </a:lnTo>
                  <a:lnTo>
                    <a:pt x="330" y="1561"/>
                  </a:lnTo>
                  <a:lnTo>
                    <a:pt x="330" y="1555"/>
                  </a:lnTo>
                  <a:lnTo>
                    <a:pt x="330" y="1543"/>
                  </a:lnTo>
                  <a:lnTo>
                    <a:pt x="336" y="1537"/>
                  </a:lnTo>
                  <a:lnTo>
                    <a:pt x="336" y="1525"/>
                  </a:lnTo>
                  <a:lnTo>
                    <a:pt x="336" y="1519"/>
                  </a:lnTo>
                  <a:lnTo>
                    <a:pt x="342" y="1507"/>
                  </a:lnTo>
                  <a:lnTo>
                    <a:pt x="342" y="1494"/>
                  </a:lnTo>
                  <a:lnTo>
                    <a:pt x="348" y="1488"/>
                  </a:lnTo>
                  <a:lnTo>
                    <a:pt x="348" y="1476"/>
                  </a:lnTo>
                  <a:lnTo>
                    <a:pt x="348" y="1470"/>
                  </a:lnTo>
                  <a:lnTo>
                    <a:pt x="354" y="1458"/>
                  </a:lnTo>
                  <a:lnTo>
                    <a:pt x="354" y="1446"/>
                  </a:lnTo>
                  <a:lnTo>
                    <a:pt x="359" y="1440"/>
                  </a:lnTo>
                  <a:lnTo>
                    <a:pt x="359" y="1428"/>
                  </a:lnTo>
                  <a:lnTo>
                    <a:pt x="359" y="1422"/>
                  </a:lnTo>
                  <a:lnTo>
                    <a:pt x="365" y="1410"/>
                  </a:lnTo>
                  <a:lnTo>
                    <a:pt x="365" y="1398"/>
                  </a:lnTo>
                  <a:lnTo>
                    <a:pt x="371" y="1392"/>
                  </a:lnTo>
                  <a:lnTo>
                    <a:pt x="371" y="1380"/>
                  </a:lnTo>
                  <a:lnTo>
                    <a:pt x="371" y="1368"/>
                  </a:lnTo>
                  <a:lnTo>
                    <a:pt x="377" y="1362"/>
                  </a:lnTo>
                  <a:lnTo>
                    <a:pt x="377" y="1350"/>
                  </a:lnTo>
                  <a:lnTo>
                    <a:pt x="377" y="1338"/>
                  </a:lnTo>
                  <a:lnTo>
                    <a:pt x="383" y="1332"/>
                  </a:lnTo>
                  <a:lnTo>
                    <a:pt x="383" y="1320"/>
                  </a:lnTo>
                  <a:lnTo>
                    <a:pt x="388" y="1308"/>
                  </a:lnTo>
                  <a:lnTo>
                    <a:pt x="388" y="1296"/>
                  </a:lnTo>
                  <a:lnTo>
                    <a:pt x="388" y="1290"/>
                  </a:lnTo>
                  <a:lnTo>
                    <a:pt x="394" y="1278"/>
                  </a:lnTo>
                  <a:lnTo>
                    <a:pt x="394" y="1266"/>
                  </a:lnTo>
                  <a:lnTo>
                    <a:pt x="400" y="1260"/>
                  </a:lnTo>
                  <a:lnTo>
                    <a:pt x="400" y="1248"/>
                  </a:lnTo>
                  <a:lnTo>
                    <a:pt x="400" y="1236"/>
                  </a:lnTo>
                  <a:lnTo>
                    <a:pt x="406" y="1224"/>
                  </a:lnTo>
                  <a:lnTo>
                    <a:pt x="406" y="1218"/>
                  </a:lnTo>
                  <a:lnTo>
                    <a:pt x="412" y="1206"/>
                  </a:lnTo>
                  <a:lnTo>
                    <a:pt x="412" y="1194"/>
                  </a:lnTo>
                  <a:lnTo>
                    <a:pt x="412" y="1182"/>
                  </a:lnTo>
                  <a:lnTo>
                    <a:pt x="417" y="1170"/>
                  </a:lnTo>
                  <a:lnTo>
                    <a:pt x="417" y="1164"/>
                  </a:lnTo>
                  <a:lnTo>
                    <a:pt x="417" y="1152"/>
                  </a:lnTo>
                  <a:lnTo>
                    <a:pt x="423" y="1140"/>
                  </a:lnTo>
                  <a:lnTo>
                    <a:pt x="423" y="1128"/>
                  </a:lnTo>
                  <a:lnTo>
                    <a:pt x="429" y="1116"/>
                  </a:lnTo>
                  <a:lnTo>
                    <a:pt x="429" y="1110"/>
                  </a:lnTo>
                  <a:lnTo>
                    <a:pt x="429" y="1098"/>
                  </a:lnTo>
                  <a:lnTo>
                    <a:pt x="435" y="1086"/>
                  </a:lnTo>
                  <a:lnTo>
                    <a:pt x="435" y="1074"/>
                  </a:lnTo>
                  <a:lnTo>
                    <a:pt x="441" y="1062"/>
                  </a:lnTo>
                  <a:lnTo>
                    <a:pt x="441" y="1050"/>
                  </a:lnTo>
                  <a:lnTo>
                    <a:pt x="441" y="1044"/>
                  </a:lnTo>
                  <a:lnTo>
                    <a:pt x="446" y="1032"/>
                  </a:lnTo>
                  <a:lnTo>
                    <a:pt x="446" y="1020"/>
                  </a:lnTo>
                  <a:lnTo>
                    <a:pt x="452" y="1008"/>
                  </a:lnTo>
                  <a:lnTo>
                    <a:pt x="452" y="996"/>
                  </a:lnTo>
                  <a:lnTo>
                    <a:pt x="452" y="984"/>
                  </a:lnTo>
                  <a:lnTo>
                    <a:pt x="458" y="972"/>
                  </a:lnTo>
                  <a:lnTo>
                    <a:pt x="458" y="960"/>
                  </a:lnTo>
                  <a:lnTo>
                    <a:pt x="458" y="954"/>
                  </a:lnTo>
                  <a:lnTo>
                    <a:pt x="464" y="942"/>
                  </a:lnTo>
                  <a:lnTo>
                    <a:pt x="464" y="930"/>
                  </a:lnTo>
                  <a:lnTo>
                    <a:pt x="470" y="918"/>
                  </a:lnTo>
                  <a:lnTo>
                    <a:pt x="470" y="906"/>
                  </a:lnTo>
                  <a:lnTo>
                    <a:pt x="470" y="894"/>
                  </a:lnTo>
                  <a:lnTo>
                    <a:pt x="475" y="882"/>
                  </a:lnTo>
                  <a:lnTo>
                    <a:pt x="475" y="870"/>
                  </a:lnTo>
                  <a:lnTo>
                    <a:pt x="481" y="858"/>
                  </a:lnTo>
                  <a:lnTo>
                    <a:pt x="481" y="846"/>
                  </a:lnTo>
                  <a:lnTo>
                    <a:pt x="481" y="834"/>
                  </a:lnTo>
                  <a:lnTo>
                    <a:pt x="487" y="822"/>
                  </a:lnTo>
                  <a:lnTo>
                    <a:pt x="487" y="810"/>
                  </a:lnTo>
                  <a:lnTo>
                    <a:pt x="493" y="798"/>
                  </a:lnTo>
                  <a:lnTo>
                    <a:pt x="493" y="786"/>
                  </a:lnTo>
                  <a:lnTo>
                    <a:pt x="493" y="774"/>
                  </a:lnTo>
                  <a:lnTo>
                    <a:pt x="499" y="762"/>
                  </a:lnTo>
                  <a:lnTo>
                    <a:pt x="499" y="750"/>
                  </a:lnTo>
                  <a:lnTo>
                    <a:pt x="499" y="738"/>
                  </a:lnTo>
                  <a:lnTo>
                    <a:pt x="504" y="726"/>
                  </a:lnTo>
                  <a:lnTo>
                    <a:pt x="504" y="714"/>
                  </a:lnTo>
                  <a:lnTo>
                    <a:pt x="510" y="702"/>
                  </a:lnTo>
                  <a:lnTo>
                    <a:pt x="510" y="690"/>
                  </a:lnTo>
                  <a:lnTo>
                    <a:pt x="510" y="678"/>
                  </a:lnTo>
                  <a:lnTo>
                    <a:pt x="516" y="666"/>
                  </a:lnTo>
                  <a:lnTo>
                    <a:pt x="516" y="654"/>
                  </a:lnTo>
                  <a:lnTo>
                    <a:pt x="522" y="642"/>
                  </a:lnTo>
                  <a:lnTo>
                    <a:pt x="522" y="630"/>
                  </a:lnTo>
                  <a:lnTo>
                    <a:pt x="522" y="618"/>
                  </a:lnTo>
                  <a:lnTo>
                    <a:pt x="528" y="606"/>
                  </a:lnTo>
                  <a:lnTo>
                    <a:pt x="528" y="588"/>
                  </a:lnTo>
                  <a:lnTo>
                    <a:pt x="533" y="576"/>
                  </a:lnTo>
                  <a:lnTo>
                    <a:pt x="533" y="564"/>
                  </a:lnTo>
                  <a:lnTo>
                    <a:pt x="533" y="552"/>
                  </a:lnTo>
                  <a:lnTo>
                    <a:pt x="539" y="540"/>
                  </a:lnTo>
                  <a:lnTo>
                    <a:pt x="539" y="528"/>
                  </a:lnTo>
                  <a:lnTo>
                    <a:pt x="539" y="516"/>
                  </a:lnTo>
                  <a:lnTo>
                    <a:pt x="545" y="504"/>
                  </a:lnTo>
                  <a:lnTo>
                    <a:pt x="545" y="492"/>
                  </a:lnTo>
                  <a:lnTo>
                    <a:pt x="551" y="474"/>
                  </a:lnTo>
                  <a:lnTo>
                    <a:pt x="551" y="462"/>
                  </a:lnTo>
                  <a:lnTo>
                    <a:pt x="551" y="450"/>
                  </a:lnTo>
                  <a:lnTo>
                    <a:pt x="557" y="438"/>
                  </a:lnTo>
                  <a:lnTo>
                    <a:pt x="557" y="426"/>
                  </a:lnTo>
                  <a:lnTo>
                    <a:pt x="562" y="414"/>
                  </a:lnTo>
                  <a:lnTo>
                    <a:pt x="562" y="396"/>
                  </a:lnTo>
                  <a:lnTo>
                    <a:pt x="562" y="384"/>
                  </a:lnTo>
                  <a:lnTo>
                    <a:pt x="568" y="372"/>
                  </a:lnTo>
                  <a:lnTo>
                    <a:pt x="568" y="360"/>
                  </a:lnTo>
                  <a:lnTo>
                    <a:pt x="574" y="348"/>
                  </a:lnTo>
                  <a:lnTo>
                    <a:pt x="574" y="330"/>
                  </a:lnTo>
                  <a:lnTo>
                    <a:pt x="574" y="318"/>
                  </a:lnTo>
                  <a:lnTo>
                    <a:pt x="580" y="306"/>
                  </a:lnTo>
                  <a:lnTo>
                    <a:pt x="580" y="294"/>
                  </a:lnTo>
                  <a:lnTo>
                    <a:pt x="580" y="276"/>
                  </a:lnTo>
                  <a:lnTo>
                    <a:pt x="586" y="264"/>
                  </a:lnTo>
                  <a:lnTo>
                    <a:pt x="586" y="252"/>
                  </a:lnTo>
                  <a:lnTo>
                    <a:pt x="591" y="240"/>
                  </a:lnTo>
                  <a:lnTo>
                    <a:pt x="591" y="222"/>
                  </a:lnTo>
                  <a:lnTo>
                    <a:pt x="591" y="210"/>
                  </a:lnTo>
                  <a:lnTo>
                    <a:pt x="597" y="198"/>
                  </a:lnTo>
                  <a:lnTo>
                    <a:pt x="597" y="186"/>
                  </a:lnTo>
                  <a:lnTo>
                    <a:pt x="603" y="168"/>
                  </a:lnTo>
                  <a:lnTo>
                    <a:pt x="603" y="156"/>
                  </a:lnTo>
                  <a:lnTo>
                    <a:pt x="603" y="144"/>
                  </a:lnTo>
                  <a:lnTo>
                    <a:pt x="609" y="126"/>
                  </a:lnTo>
                  <a:lnTo>
                    <a:pt x="609" y="114"/>
                  </a:lnTo>
                  <a:lnTo>
                    <a:pt x="609" y="102"/>
                  </a:lnTo>
                  <a:lnTo>
                    <a:pt x="615" y="84"/>
                  </a:lnTo>
                  <a:lnTo>
                    <a:pt x="615" y="72"/>
                  </a:lnTo>
                  <a:lnTo>
                    <a:pt x="620" y="60"/>
                  </a:lnTo>
                  <a:lnTo>
                    <a:pt x="620" y="42"/>
                  </a:lnTo>
                  <a:lnTo>
                    <a:pt x="620" y="30"/>
                  </a:lnTo>
                  <a:lnTo>
                    <a:pt x="626" y="18"/>
                  </a:lnTo>
                  <a:lnTo>
                    <a:pt x="626" y="0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573440" y="5900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240" y="4827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89640" y="4789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65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4869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5157720"/>
            <a:ext cx="0" cy="64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3284640"/>
            <a:ext cx="73080" cy="71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18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6160" y="47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1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84720" y="198900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35640" y="2060640"/>
            <a:ext cx="2305080" cy="439272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8508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5157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01164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6000" y="515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3080" y="40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3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2960" y="912960"/>
            <a:ext cx="62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разуем уравнение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2х – 3 = 0 к виду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 = 2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5950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60" y="1341360"/>
            <a:ext cx="84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роим в одной системе координат графики функций у =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3 и у = 2х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    – это пара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2х         – это 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005360"/>
            <a:ext cx="4193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нями уравнения являют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абсциссы точек пересече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-1 и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-1,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395280" y="630864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3080" y="40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4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989000"/>
            <a:ext cx="33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2    – это 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         – это 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7560" y="91296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разуем уравнение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2х – 3 = 0 к виду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2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12000" y="765000"/>
                <a:ext cx="2808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6160" y="1484280"/>
            <a:ext cx="81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роим в одной системе координат графики функций у = х – 2 и у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956720" y="1341360"/>
                <a:ext cx="280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71640" y="2565360"/>
                <a:ext cx="280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80640" y="4724280"/>
            <a:ext cx="4193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нями уравнения являют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абсциссы точек пересече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-1 и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-1,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72200" y="4581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4343400" cy="446400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395280" y="630864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13080" y="40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5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6560" y="91296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разуем уравнение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2х – 3 = 0 к виду (х -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40" y="1484280"/>
            <a:ext cx="84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роим в одной системе координат графики функций у = (х –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 у = 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13372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 (х -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сдвиг параболы вправо на 1 еди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4            - это пря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5661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77080" y="2492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4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1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4072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12000" y="2565360"/>
            <a:ext cx="2231640" cy="3083040"/>
            <a:chOff x="6012000" y="2565360"/>
            <a:chExt cx="2231640" cy="3083040"/>
          </a:xfrm>
        </p:grpSpPr>
        <p:sp>
          <p:nvSpPr>
            <p:cNvPr id="191" name=""/>
            <p:cNvSpPr/>
            <p:nvPr/>
          </p:nvSpPr>
          <p:spPr>
            <a:xfrm>
              <a:off x="6012000" y="2565360"/>
              <a:ext cx="1462320" cy="3083040"/>
            </a:xfrm>
            <a:custGeom>
              <a:avLst/>
              <a:gdLst/>
              <a:ahLst/>
              <a:rect l="l" t="t" r="r" b="b"/>
              <a:pathLst>
                <a:path w="1096" h="2719">
                  <a:moveTo>
                    <a:pt x="0" y="0"/>
                  </a:moveTo>
                  <a:lnTo>
                    <a:pt x="0" y="18"/>
                  </a:lnTo>
                  <a:lnTo>
                    <a:pt x="5" y="30"/>
                  </a:lnTo>
                  <a:lnTo>
                    <a:pt x="5" y="42"/>
                  </a:lnTo>
                  <a:lnTo>
                    <a:pt x="11" y="60"/>
                  </a:lnTo>
                  <a:lnTo>
                    <a:pt x="11" y="72"/>
                  </a:lnTo>
                  <a:lnTo>
                    <a:pt x="11" y="84"/>
                  </a:lnTo>
                  <a:lnTo>
                    <a:pt x="17" y="102"/>
                  </a:lnTo>
                  <a:lnTo>
                    <a:pt x="17" y="114"/>
                  </a:lnTo>
                  <a:lnTo>
                    <a:pt x="17" y="126"/>
                  </a:lnTo>
                  <a:lnTo>
                    <a:pt x="23" y="144"/>
                  </a:lnTo>
                  <a:lnTo>
                    <a:pt x="23" y="156"/>
                  </a:lnTo>
                  <a:lnTo>
                    <a:pt x="29" y="168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4" y="210"/>
                  </a:lnTo>
                  <a:lnTo>
                    <a:pt x="34" y="222"/>
                  </a:lnTo>
                  <a:lnTo>
                    <a:pt x="40" y="240"/>
                  </a:lnTo>
                  <a:lnTo>
                    <a:pt x="40" y="252"/>
                  </a:lnTo>
                  <a:lnTo>
                    <a:pt x="40" y="264"/>
                  </a:lnTo>
                  <a:lnTo>
                    <a:pt x="46" y="276"/>
                  </a:lnTo>
                  <a:lnTo>
                    <a:pt x="46" y="294"/>
                  </a:lnTo>
                  <a:lnTo>
                    <a:pt x="52" y="306"/>
                  </a:lnTo>
                  <a:lnTo>
                    <a:pt x="52" y="318"/>
                  </a:lnTo>
                  <a:lnTo>
                    <a:pt x="52" y="330"/>
                  </a:lnTo>
                  <a:lnTo>
                    <a:pt x="58" y="348"/>
                  </a:lnTo>
                  <a:lnTo>
                    <a:pt x="58" y="360"/>
                  </a:lnTo>
                  <a:lnTo>
                    <a:pt x="58" y="372"/>
                  </a:lnTo>
                  <a:lnTo>
                    <a:pt x="63" y="384"/>
                  </a:lnTo>
                  <a:lnTo>
                    <a:pt x="63" y="396"/>
                  </a:lnTo>
                  <a:lnTo>
                    <a:pt x="69" y="414"/>
                  </a:lnTo>
                  <a:lnTo>
                    <a:pt x="69" y="426"/>
                  </a:lnTo>
                  <a:lnTo>
                    <a:pt x="69" y="438"/>
                  </a:lnTo>
                  <a:lnTo>
                    <a:pt x="75" y="450"/>
                  </a:lnTo>
                  <a:lnTo>
                    <a:pt x="75" y="462"/>
                  </a:lnTo>
                  <a:lnTo>
                    <a:pt x="81" y="474"/>
                  </a:lnTo>
                  <a:lnTo>
                    <a:pt x="81" y="492"/>
                  </a:lnTo>
                  <a:lnTo>
                    <a:pt x="81" y="504"/>
                  </a:lnTo>
                  <a:lnTo>
                    <a:pt x="87" y="516"/>
                  </a:lnTo>
                  <a:lnTo>
                    <a:pt x="87" y="528"/>
                  </a:lnTo>
                  <a:lnTo>
                    <a:pt x="92" y="540"/>
                  </a:lnTo>
                  <a:lnTo>
                    <a:pt x="92" y="552"/>
                  </a:lnTo>
                  <a:lnTo>
                    <a:pt x="92" y="564"/>
                  </a:lnTo>
                  <a:lnTo>
                    <a:pt x="98" y="576"/>
                  </a:lnTo>
                  <a:lnTo>
                    <a:pt x="98" y="588"/>
                  </a:lnTo>
                  <a:lnTo>
                    <a:pt x="98" y="606"/>
                  </a:lnTo>
                  <a:lnTo>
                    <a:pt x="104" y="618"/>
                  </a:lnTo>
                  <a:lnTo>
                    <a:pt x="104" y="630"/>
                  </a:lnTo>
                  <a:lnTo>
                    <a:pt x="110" y="642"/>
                  </a:lnTo>
                  <a:lnTo>
                    <a:pt x="110" y="654"/>
                  </a:lnTo>
                  <a:lnTo>
                    <a:pt x="110" y="666"/>
                  </a:lnTo>
                  <a:lnTo>
                    <a:pt x="116" y="678"/>
                  </a:lnTo>
                  <a:lnTo>
                    <a:pt x="116" y="690"/>
                  </a:lnTo>
                  <a:lnTo>
                    <a:pt x="121" y="702"/>
                  </a:lnTo>
                  <a:lnTo>
                    <a:pt x="121" y="714"/>
                  </a:lnTo>
                  <a:lnTo>
                    <a:pt x="121" y="726"/>
                  </a:lnTo>
                  <a:lnTo>
                    <a:pt x="127" y="738"/>
                  </a:lnTo>
                  <a:lnTo>
                    <a:pt x="127" y="750"/>
                  </a:lnTo>
                  <a:lnTo>
                    <a:pt x="133" y="762"/>
                  </a:lnTo>
                  <a:lnTo>
                    <a:pt x="133" y="774"/>
                  </a:lnTo>
                  <a:lnTo>
                    <a:pt x="133" y="786"/>
                  </a:lnTo>
                  <a:lnTo>
                    <a:pt x="139" y="798"/>
                  </a:lnTo>
                  <a:lnTo>
                    <a:pt x="139" y="810"/>
                  </a:lnTo>
                  <a:lnTo>
                    <a:pt x="139" y="822"/>
                  </a:lnTo>
                  <a:lnTo>
                    <a:pt x="145" y="834"/>
                  </a:lnTo>
                  <a:lnTo>
                    <a:pt x="145" y="846"/>
                  </a:lnTo>
                  <a:lnTo>
                    <a:pt x="150" y="858"/>
                  </a:lnTo>
                  <a:lnTo>
                    <a:pt x="150" y="870"/>
                  </a:lnTo>
                  <a:lnTo>
                    <a:pt x="150" y="882"/>
                  </a:lnTo>
                  <a:lnTo>
                    <a:pt x="156" y="894"/>
                  </a:lnTo>
                  <a:lnTo>
                    <a:pt x="156" y="906"/>
                  </a:lnTo>
                  <a:lnTo>
                    <a:pt x="162" y="918"/>
                  </a:lnTo>
                  <a:lnTo>
                    <a:pt x="162" y="930"/>
                  </a:lnTo>
                  <a:lnTo>
                    <a:pt x="162" y="942"/>
                  </a:lnTo>
                  <a:lnTo>
                    <a:pt x="168" y="954"/>
                  </a:lnTo>
                  <a:lnTo>
                    <a:pt x="168" y="960"/>
                  </a:lnTo>
                  <a:lnTo>
                    <a:pt x="174" y="972"/>
                  </a:lnTo>
                  <a:lnTo>
                    <a:pt x="174" y="984"/>
                  </a:lnTo>
                  <a:lnTo>
                    <a:pt x="174" y="996"/>
                  </a:lnTo>
                  <a:lnTo>
                    <a:pt x="179" y="1008"/>
                  </a:lnTo>
                  <a:lnTo>
                    <a:pt x="179" y="1020"/>
                  </a:lnTo>
                  <a:lnTo>
                    <a:pt x="179" y="1032"/>
                  </a:lnTo>
                  <a:lnTo>
                    <a:pt x="185" y="1044"/>
                  </a:lnTo>
                  <a:lnTo>
                    <a:pt x="185" y="1050"/>
                  </a:lnTo>
                  <a:lnTo>
                    <a:pt x="191" y="1062"/>
                  </a:lnTo>
                  <a:lnTo>
                    <a:pt x="191" y="1074"/>
                  </a:lnTo>
                  <a:lnTo>
                    <a:pt x="191" y="1086"/>
                  </a:lnTo>
                  <a:lnTo>
                    <a:pt x="197" y="1098"/>
                  </a:lnTo>
                  <a:lnTo>
                    <a:pt x="197" y="1110"/>
                  </a:lnTo>
                  <a:lnTo>
                    <a:pt x="203" y="1116"/>
                  </a:lnTo>
                  <a:lnTo>
                    <a:pt x="203" y="1128"/>
                  </a:lnTo>
                  <a:lnTo>
                    <a:pt x="203" y="1140"/>
                  </a:lnTo>
                  <a:lnTo>
                    <a:pt x="208" y="1152"/>
                  </a:lnTo>
                  <a:lnTo>
                    <a:pt x="208" y="1164"/>
                  </a:lnTo>
                  <a:lnTo>
                    <a:pt x="208" y="1170"/>
                  </a:lnTo>
                  <a:lnTo>
                    <a:pt x="214" y="1182"/>
                  </a:lnTo>
                  <a:lnTo>
                    <a:pt x="214" y="1194"/>
                  </a:lnTo>
                  <a:lnTo>
                    <a:pt x="220" y="1206"/>
                  </a:lnTo>
                  <a:lnTo>
                    <a:pt x="220" y="1218"/>
                  </a:lnTo>
                  <a:lnTo>
                    <a:pt x="220" y="1224"/>
                  </a:lnTo>
                  <a:lnTo>
                    <a:pt x="226" y="1236"/>
                  </a:lnTo>
                  <a:lnTo>
                    <a:pt x="226" y="1248"/>
                  </a:lnTo>
                  <a:lnTo>
                    <a:pt x="232" y="1260"/>
                  </a:lnTo>
                  <a:lnTo>
                    <a:pt x="232" y="1266"/>
                  </a:lnTo>
                  <a:lnTo>
                    <a:pt x="232" y="1278"/>
                  </a:lnTo>
                  <a:lnTo>
                    <a:pt x="237" y="1290"/>
                  </a:lnTo>
                  <a:lnTo>
                    <a:pt x="237" y="1296"/>
                  </a:lnTo>
                  <a:lnTo>
                    <a:pt x="243" y="1308"/>
                  </a:lnTo>
                  <a:lnTo>
                    <a:pt x="243" y="1320"/>
                  </a:lnTo>
                  <a:lnTo>
                    <a:pt x="243" y="1332"/>
                  </a:lnTo>
                  <a:lnTo>
                    <a:pt x="249" y="1338"/>
                  </a:lnTo>
                  <a:lnTo>
                    <a:pt x="249" y="1350"/>
                  </a:lnTo>
                  <a:lnTo>
                    <a:pt x="249" y="1362"/>
                  </a:lnTo>
                  <a:lnTo>
                    <a:pt x="255" y="1368"/>
                  </a:lnTo>
                  <a:lnTo>
                    <a:pt x="255" y="1380"/>
                  </a:lnTo>
                  <a:lnTo>
                    <a:pt x="261" y="1392"/>
                  </a:lnTo>
                  <a:lnTo>
                    <a:pt x="261" y="1398"/>
                  </a:lnTo>
                  <a:lnTo>
                    <a:pt x="261" y="1410"/>
                  </a:lnTo>
                  <a:lnTo>
                    <a:pt x="266" y="1422"/>
                  </a:lnTo>
                  <a:lnTo>
                    <a:pt x="266" y="1428"/>
                  </a:lnTo>
                  <a:lnTo>
                    <a:pt x="272" y="1440"/>
                  </a:lnTo>
                  <a:lnTo>
                    <a:pt x="272" y="1446"/>
                  </a:lnTo>
                  <a:lnTo>
                    <a:pt x="272" y="1458"/>
                  </a:lnTo>
                  <a:lnTo>
                    <a:pt x="278" y="1470"/>
                  </a:lnTo>
                  <a:lnTo>
                    <a:pt x="278" y="1476"/>
                  </a:lnTo>
                  <a:lnTo>
                    <a:pt x="284" y="1488"/>
                  </a:lnTo>
                  <a:lnTo>
                    <a:pt x="284" y="1494"/>
                  </a:lnTo>
                  <a:lnTo>
                    <a:pt x="284" y="1507"/>
                  </a:lnTo>
                  <a:lnTo>
                    <a:pt x="290" y="1519"/>
                  </a:lnTo>
                  <a:lnTo>
                    <a:pt x="290" y="1525"/>
                  </a:lnTo>
                  <a:lnTo>
                    <a:pt x="290" y="1537"/>
                  </a:lnTo>
                  <a:lnTo>
                    <a:pt x="295" y="1543"/>
                  </a:lnTo>
                  <a:lnTo>
                    <a:pt x="295" y="1555"/>
                  </a:lnTo>
                  <a:lnTo>
                    <a:pt x="301" y="1561"/>
                  </a:lnTo>
                  <a:lnTo>
                    <a:pt x="301" y="1573"/>
                  </a:lnTo>
                  <a:lnTo>
                    <a:pt x="301" y="1579"/>
                  </a:lnTo>
                  <a:lnTo>
                    <a:pt x="307" y="1591"/>
                  </a:lnTo>
                  <a:lnTo>
                    <a:pt x="307" y="1603"/>
                  </a:lnTo>
                  <a:lnTo>
                    <a:pt x="313" y="1609"/>
                  </a:lnTo>
                  <a:lnTo>
                    <a:pt x="313" y="1621"/>
                  </a:lnTo>
                  <a:lnTo>
                    <a:pt x="313" y="1627"/>
                  </a:lnTo>
                  <a:lnTo>
                    <a:pt x="319" y="1639"/>
                  </a:lnTo>
                  <a:lnTo>
                    <a:pt x="319" y="1645"/>
                  </a:lnTo>
                  <a:lnTo>
                    <a:pt x="324" y="1657"/>
                  </a:lnTo>
                  <a:lnTo>
                    <a:pt x="324" y="1663"/>
                  </a:lnTo>
                  <a:lnTo>
                    <a:pt x="324" y="1669"/>
                  </a:lnTo>
                  <a:lnTo>
                    <a:pt x="330" y="1681"/>
                  </a:lnTo>
                  <a:lnTo>
                    <a:pt x="330" y="1687"/>
                  </a:lnTo>
                  <a:lnTo>
                    <a:pt x="330" y="1699"/>
                  </a:lnTo>
                  <a:lnTo>
                    <a:pt x="336" y="1705"/>
                  </a:lnTo>
                  <a:lnTo>
                    <a:pt x="336" y="1717"/>
                  </a:lnTo>
                  <a:lnTo>
                    <a:pt x="342" y="1723"/>
                  </a:lnTo>
                  <a:lnTo>
                    <a:pt x="342" y="1735"/>
                  </a:lnTo>
                  <a:lnTo>
                    <a:pt x="342" y="1741"/>
                  </a:lnTo>
                  <a:lnTo>
                    <a:pt x="348" y="1747"/>
                  </a:lnTo>
                  <a:lnTo>
                    <a:pt x="348" y="1759"/>
                  </a:lnTo>
                  <a:lnTo>
                    <a:pt x="353" y="1765"/>
                  </a:lnTo>
                  <a:lnTo>
                    <a:pt x="353" y="1777"/>
                  </a:lnTo>
                  <a:lnTo>
                    <a:pt x="353" y="1783"/>
                  </a:lnTo>
                  <a:lnTo>
                    <a:pt x="359" y="1789"/>
                  </a:lnTo>
                  <a:lnTo>
                    <a:pt x="359" y="1801"/>
                  </a:lnTo>
                  <a:lnTo>
                    <a:pt x="365" y="1807"/>
                  </a:lnTo>
                  <a:lnTo>
                    <a:pt x="365" y="1819"/>
                  </a:lnTo>
                  <a:lnTo>
                    <a:pt x="365" y="1825"/>
                  </a:lnTo>
                  <a:lnTo>
                    <a:pt x="371" y="1831"/>
                  </a:lnTo>
                  <a:lnTo>
                    <a:pt x="371" y="1843"/>
                  </a:lnTo>
                  <a:lnTo>
                    <a:pt x="371" y="1849"/>
                  </a:lnTo>
                  <a:lnTo>
                    <a:pt x="377" y="1855"/>
                  </a:lnTo>
                  <a:lnTo>
                    <a:pt x="377" y="1867"/>
                  </a:lnTo>
                  <a:lnTo>
                    <a:pt x="382" y="1873"/>
                  </a:lnTo>
                  <a:lnTo>
                    <a:pt x="382" y="1879"/>
                  </a:lnTo>
                  <a:lnTo>
                    <a:pt x="382" y="1891"/>
                  </a:lnTo>
                  <a:lnTo>
                    <a:pt x="388" y="1897"/>
                  </a:lnTo>
                  <a:lnTo>
                    <a:pt x="388" y="1903"/>
                  </a:lnTo>
                  <a:lnTo>
                    <a:pt x="394" y="1915"/>
                  </a:lnTo>
                  <a:lnTo>
                    <a:pt x="394" y="1921"/>
                  </a:lnTo>
                  <a:lnTo>
                    <a:pt x="394" y="1927"/>
                  </a:lnTo>
                  <a:lnTo>
                    <a:pt x="400" y="1933"/>
                  </a:lnTo>
                  <a:lnTo>
                    <a:pt x="400" y="1945"/>
                  </a:lnTo>
                  <a:lnTo>
                    <a:pt x="406" y="1951"/>
                  </a:lnTo>
                  <a:lnTo>
                    <a:pt x="406" y="1957"/>
                  </a:lnTo>
                  <a:lnTo>
                    <a:pt x="406" y="1963"/>
                  </a:lnTo>
                  <a:lnTo>
                    <a:pt x="411" y="1975"/>
                  </a:lnTo>
                  <a:lnTo>
                    <a:pt x="411" y="1981"/>
                  </a:lnTo>
                  <a:lnTo>
                    <a:pt x="411" y="1987"/>
                  </a:lnTo>
                  <a:lnTo>
                    <a:pt x="417" y="1993"/>
                  </a:lnTo>
                  <a:lnTo>
                    <a:pt x="417" y="2005"/>
                  </a:lnTo>
                  <a:lnTo>
                    <a:pt x="423" y="2011"/>
                  </a:lnTo>
                  <a:lnTo>
                    <a:pt x="423" y="2017"/>
                  </a:lnTo>
                  <a:lnTo>
                    <a:pt x="423" y="2023"/>
                  </a:lnTo>
                  <a:lnTo>
                    <a:pt x="429" y="2029"/>
                  </a:lnTo>
                  <a:lnTo>
                    <a:pt x="429" y="2041"/>
                  </a:lnTo>
                  <a:lnTo>
                    <a:pt x="435" y="2047"/>
                  </a:lnTo>
                  <a:lnTo>
                    <a:pt x="435" y="2053"/>
                  </a:lnTo>
                  <a:lnTo>
                    <a:pt x="435" y="2059"/>
                  </a:lnTo>
                  <a:lnTo>
                    <a:pt x="440" y="2065"/>
                  </a:lnTo>
                  <a:lnTo>
                    <a:pt x="440" y="2071"/>
                  </a:lnTo>
                  <a:lnTo>
                    <a:pt x="446" y="2083"/>
                  </a:lnTo>
                  <a:lnTo>
                    <a:pt x="446" y="2089"/>
                  </a:lnTo>
                  <a:lnTo>
                    <a:pt x="446" y="2095"/>
                  </a:lnTo>
                  <a:lnTo>
                    <a:pt x="452" y="2101"/>
                  </a:lnTo>
                  <a:lnTo>
                    <a:pt x="452" y="2107"/>
                  </a:lnTo>
                  <a:lnTo>
                    <a:pt x="452" y="2113"/>
                  </a:lnTo>
                  <a:lnTo>
                    <a:pt x="458" y="2119"/>
                  </a:lnTo>
                  <a:lnTo>
                    <a:pt x="458" y="2125"/>
                  </a:lnTo>
                  <a:lnTo>
                    <a:pt x="464" y="2137"/>
                  </a:lnTo>
                  <a:lnTo>
                    <a:pt x="464" y="2143"/>
                  </a:lnTo>
                  <a:lnTo>
                    <a:pt x="464" y="2149"/>
                  </a:lnTo>
                  <a:lnTo>
                    <a:pt x="469" y="2155"/>
                  </a:lnTo>
                  <a:lnTo>
                    <a:pt x="469" y="2161"/>
                  </a:lnTo>
                  <a:lnTo>
                    <a:pt x="475" y="2167"/>
                  </a:lnTo>
                  <a:lnTo>
                    <a:pt x="475" y="2173"/>
                  </a:lnTo>
                  <a:lnTo>
                    <a:pt x="475" y="2179"/>
                  </a:lnTo>
                  <a:lnTo>
                    <a:pt x="481" y="2185"/>
                  </a:lnTo>
                  <a:lnTo>
                    <a:pt x="481" y="2191"/>
                  </a:lnTo>
                  <a:lnTo>
                    <a:pt x="487" y="2197"/>
                  </a:lnTo>
                  <a:lnTo>
                    <a:pt x="487" y="2203"/>
                  </a:lnTo>
                  <a:lnTo>
                    <a:pt x="487" y="2209"/>
                  </a:lnTo>
                  <a:lnTo>
                    <a:pt x="493" y="2215"/>
                  </a:lnTo>
                  <a:lnTo>
                    <a:pt x="493" y="2221"/>
                  </a:lnTo>
                  <a:lnTo>
                    <a:pt x="493" y="2227"/>
                  </a:lnTo>
                  <a:lnTo>
                    <a:pt x="498" y="2233"/>
                  </a:lnTo>
                  <a:lnTo>
                    <a:pt x="498" y="2239"/>
                  </a:lnTo>
                  <a:lnTo>
                    <a:pt x="504" y="2245"/>
                  </a:lnTo>
                  <a:lnTo>
                    <a:pt x="504" y="2251"/>
                  </a:lnTo>
                  <a:lnTo>
                    <a:pt x="504" y="2257"/>
                  </a:lnTo>
                  <a:lnTo>
                    <a:pt x="510" y="2263"/>
                  </a:lnTo>
                  <a:lnTo>
                    <a:pt x="510" y="2269"/>
                  </a:lnTo>
                  <a:lnTo>
                    <a:pt x="516" y="2275"/>
                  </a:lnTo>
                  <a:lnTo>
                    <a:pt x="516" y="2281"/>
                  </a:lnTo>
                  <a:lnTo>
                    <a:pt x="516" y="2287"/>
                  </a:lnTo>
                  <a:lnTo>
                    <a:pt x="522" y="2293"/>
                  </a:lnTo>
                  <a:lnTo>
                    <a:pt x="522" y="2299"/>
                  </a:lnTo>
                  <a:lnTo>
                    <a:pt x="527" y="2305"/>
                  </a:lnTo>
                  <a:lnTo>
                    <a:pt x="527" y="2311"/>
                  </a:lnTo>
                  <a:lnTo>
                    <a:pt x="527" y="2317"/>
                  </a:lnTo>
                  <a:lnTo>
                    <a:pt x="533" y="2323"/>
                  </a:lnTo>
                  <a:lnTo>
                    <a:pt x="533" y="2329"/>
                  </a:lnTo>
                  <a:lnTo>
                    <a:pt x="539" y="2335"/>
                  </a:lnTo>
                  <a:lnTo>
                    <a:pt x="539" y="2341"/>
                  </a:lnTo>
                  <a:lnTo>
                    <a:pt x="545" y="2347"/>
                  </a:lnTo>
                  <a:lnTo>
                    <a:pt x="545" y="2353"/>
                  </a:lnTo>
                  <a:lnTo>
                    <a:pt x="545" y="2359"/>
                  </a:lnTo>
                  <a:lnTo>
                    <a:pt x="551" y="2365"/>
                  </a:lnTo>
                  <a:lnTo>
                    <a:pt x="551" y="2371"/>
                  </a:lnTo>
                  <a:lnTo>
                    <a:pt x="556" y="2371"/>
                  </a:lnTo>
                  <a:lnTo>
                    <a:pt x="556" y="2377"/>
                  </a:lnTo>
                  <a:lnTo>
                    <a:pt x="556" y="2383"/>
                  </a:lnTo>
                  <a:lnTo>
                    <a:pt x="562" y="2389"/>
                  </a:lnTo>
                  <a:lnTo>
                    <a:pt x="562" y="2395"/>
                  </a:lnTo>
                  <a:lnTo>
                    <a:pt x="562" y="2401"/>
                  </a:lnTo>
                  <a:lnTo>
                    <a:pt x="568" y="2401"/>
                  </a:lnTo>
                  <a:lnTo>
                    <a:pt x="568" y="2407"/>
                  </a:lnTo>
                  <a:lnTo>
                    <a:pt x="574" y="2413"/>
                  </a:lnTo>
                  <a:lnTo>
                    <a:pt x="574" y="2419"/>
                  </a:lnTo>
                  <a:lnTo>
                    <a:pt x="580" y="2425"/>
                  </a:lnTo>
                  <a:lnTo>
                    <a:pt x="580" y="2431"/>
                  </a:lnTo>
                  <a:lnTo>
                    <a:pt x="585" y="2437"/>
                  </a:lnTo>
                  <a:lnTo>
                    <a:pt x="585" y="2443"/>
                  </a:lnTo>
                  <a:lnTo>
                    <a:pt x="591" y="2449"/>
                  </a:lnTo>
                  <a:lnTo>
                    <a:pt x="591" y="2455"/>
                  </a:lnTo>
                  <a:lnTo>
                    <a:pt x="597" y="2461"/>
                  </a:lnTo>
                  <a:lnTo>
                    <a:pt x="597" y="2467"/>
                  </a:lnTo>
                  <a:lnTo>
                    <a:pt x="603" y="2473"/>
                  </a:lnTo>
                  <a:lnTo>
                    <a:pt x="603" y="2479"/>
                  </a:lnTo>
                  <a:lnTo>
                    <a:pt x="609" y="2485"/>
                  </a:lnTo>
                  <a:lnTo>
                    <a:pt x="609" y="2491"/>
                  </a:lnTo>
                  <a:lnTo>
                    <a:pt x="614" y="2491"/>
                  </a:lnTo>
                  <a:lnTo>
                    <a:pt x="614" y="2497"/>
                  </a:lnTo>
                  <a:lnTo>
                    <a:pt x="614" y="2503"/>
                  </a:lnTo>
                  <a:lnTo>
                    <a:pt x="620" y="2503"/>
                  </a:lnTo>
                  <a:lnTo>
                    <a:pt x="620" y="2509"/>
                  </a:lnTo>
                  <a:lnTo>
                    <a:pt x="626" y="2515"/>
                  </a:lnTo>
                  <a:lnTo>
                    <a:pt x="626" y="2521"/>
                  </a:lnTo>
                  <a:lnTo>
                    <a:pt x="632" y="2521"/>
                  </a:lnTo>
                  <a:lnTo>
                    <a:pt x="632" y="2527"/>
                  </a:lnTo>
                  <a:lnTo>
                    <a:pt x="638" y="2533"/>
                  </a:lnTo>
                  <a:lnTo>
                    <a:pt x="638" y="2539"/>
                  </a:lnTo>
                  <a:lnTo>
                    <a:pt x="643" y="2545"/>
                  </a:lnTo>
                  <a:lnTo>
                    <a:pt x="643" y="2551"/>
                  </a:lnTo>
                  <a:lnTo>
                    <a:pt x="649" y="2551"/>
                  </a:lnTo>
                  <a:lnTo>
                    <a:pt x="649" y="2557"/>
                  </a:lnTo>
                  <a:lnTo>
                    <a:pt x="655" y="2563"/>
                  </a:lnTo>
                  <a:lnTo>
                    <a:pt x="655" y="2569"/>
                  </a:lnTo>
                  <a:lnTo>
                    <a:pt x="661" y="2569"/>
                  </a:lnTo>
                  <a:lnTo>
                    <a:pt x="661" y="2575"/>
                  </a:lnTo>
                  <a:lnTo>
                    <a:pt x="667" y="2575"/>
                  </a:lnTo>
                  <a:lnTo>
                    <a:pt x="667" y="2581"/>
                  </a:lnTo>
                  <a:lnTo>
                    <a:pt x="672" y="2587"/>
                  </a:lnTo>
                  <a:lnTo>
                    <a:pt x="678" y="2593"/>
                  </a:lnTo>
                  <a:lnTo>
                    <a:pt x="678" y="2599"/>
                  </a:lnTo>
                  <a:lnTo>
                    <a:pt x="684" y="2599"/>
                  </a:lnTo>
                  <a:lnTo>
                    <a:pt x="684" y="2605"/>
                  </a:lnTo>
                  <a:lnTo>
                    <a:pt x="690" y="2611"/>
                  </a:lnTo>
                  <a:lnTo>
                    <a:pt x="696" y="2617"/>
                  </a:lnTo>
                  <a:lnTo>
                    <a:pt x="696" y="2623"/>
                  </a:lnTo>
                  <a:lnTo>
                    <a:pt x="701" y="2623"/>
                  </a:lnTo>
                  <a:lnTo>
                    <a:pt x="701" y="2629"/>
                  </a:lnTo>
                  <a:lnTo>
                    <a:pt x="707" y="2629"/>
                  </a:lnTo>
                  <a:lnTo>
                    <a:pt x="707" y="2635"/>
                  </a:lnTo>
                  <a:lnTo>
                    <a:pt x="713" y="2635"/>
                  </a:lnTo>
                  <a:lnTo>
                    <a:pt x="713" y="2641"/>
                  </a:lnTo>
                  <a:lnTo>
                    <a:pt x="719" y="2641"/>
                  </a:lnTo>
                  <a:lnTo>
                    <a:pt x="719" y="2647"/>
                  </a:lnTo>
                  <a:lnTo>
                    <a:pt x="725" y="2647"/>
                  </a:lnTo>
                  <a:lnTo>
                    <a:pt x="725" y="2653"/>
                  </a:lnTo>
                  <a:lnTo>
                    <a:pt x="730" y="2653"/>
                  </a:lnTo>
                  <a:lnTo>
                    <a:pt x="730" y="2659"/>
                  </a:lnTo>
                  <a:lnTo>
                    <a:pt x="736" y="2659"/>
                  </a:lnTo>
                  <a:lnTo>
                    <a:pt x="736" y="2665"/>
                  </a:lnTo>
                  <a:lnTo>
                    <a:pt x="742" y="2665"/>
                  </a:lnTo>
                  <a:lnTo>
                    <a:pt x="748" y="2671"/>
                  </a:lnTo>
                  <a:lnTo>
                    <a:pt x="754" y="2677"/>
                  </a:lnTo>
                  <a:lnTo>
                    <a:pt x="759" y="2677"/>
                  </a:lnTo>
                  <a:lnTo>
                    <a:pt x="759" y="2683"/>
                  </a:lnTo>
                  <a:lnTo>
                    <a:pt x="765" y="2683"/>
                  </a:lnTo>
                  <a:lnTo>
                    <a:pt x="765" y="2689"/>
                  </a:lnTo>
                  <a:lnTo>
                    <a:pt x="771" y="2689"/>
                  </a:lnTo>
                  <a:lnTo>
                    <a:pt x="777" y="2689"/>
                  </a:lnTo>
                  <a:lnTo>
                    <a:pt x="777" y="2695"/>
                  </a:lnTo>
                  <a:lnTo>
                    <a:pt x="783" y="2695"/>
                  </a:lnTo>
                  <a:lnTo>
                    <a:pt x="788" y="2701"/>
                  </a:lnTo>
                  <a:lnTo>
                    <a:pt x="794" y="2701"/>
                  </a:lnTo>
                  <a:lnTo>
                    <a:pt x="800" y="2701"/>
                  </a:lnTo>
                  <a:lnTo>
                    <a:pt x="800" y="2707"/>
                  </a:lnTo>
                  <a:lnTo>
                    <a:pt x="806" y="2707"/>
                  </a:lnTo>
                  <a:lnTo>
                    <a:pt x="812" y="2707"/>
                  </a:lnTo>
                  <a:lnTo>
                    <a:pt x="812" y="2713"/>
                  </a:lnTo>
                  <a:lnTo>
                    <a:pt x="817" y="2713"/>
                  </a:lnTo>
                  <a:lnTo>
                    <a:pt x="823" y="2713"/>
                  </a:lnTo>
                  <a:lnTo>
                    <a:pt x="829" y="2713"/>
                  </a:lnTo>
                  <a:lnTo>
                    <a:pt x="835" y="2719"/>
                  </a:lnTo>
                  <a:lnTo>
                    <a:pt x="841" y="2719"/>
                  </a:lnTo>
                  <a:lnTo>
                    <a:pt x="846" y="2719"/>
                  </a:lnTo>
                  <a:lnTo>
                    <a:pt x="852" y="2719"/>
                  </a:lnTo>
                  <a:lnTo>
                    <a:pt x="858" y="2719"/>
                  </a:lnTo>
                  <a:lnTo>
                    <a:pt x="864" y="2719"/>
                  </a:lnTo>
                  <a:lnTo>
                    <a:pt x="870" y="2719"/>
                  </a:lnTo>
                  <a:lnTo>
                    <a:pt x="875" y="2719"/>
                  </a:lnTo>
                  <a:lnTo>
                    <a:pt x="881" y="2719"/>
                  </a:lnTo>
                  <a:lnTo>
                    <a:pt x="887" y="2719"/>
                  </a:lnTo>
                  <a:lnTo>
                    <a:pt x="893" y="2713"/>
                  </a:lnTo>
                  <a:lnTo>
                    <a:pt x="899" y="2713"/>
                  </a:lnTo>
                  <a:lnTo>
                    <a:pt x="904" y="2713"/>
                  </a:lnTo>
                  <a:lnTo>
                    <a:pt x="910" y="2713"/>
                  </a:lnTo>
                  <a:lnTo>
                    <a:pt x="910" y="2707"/>
                  </a:lnTo>
                  <a:lnTo>
                    <a:pt x="916" y="2707"/>
                  </a:lnTo>
                  <a:lnTo>
                    <a:pt x="922" y="2707"/>
                  </a:lnTo>
                  <a:lnTo>
                    <a:pt x="928" y="2701"/>
                  </a:lnTo>
                  <a:lnTo>
                    <a:pt x="933" y="2701"/>
                  </a:lnTo>
                  <a:lnTo>
                    <a:pt x="939" y="2701"/>
                  </a:lnTo>
                  <a:lnTo>
                    <a:pt x="939" y="2695"/>
                  </a:lnTo>
                  <a:lnTo>
                    <a:pt x="945" y="2695"/>
                  </a:lnTo>
                  <a:lnTo>
                    <a:pt x="951" y="2689"/>
                  </a:lnTo>
                  <a:lnTo>
                    <a:pt x="957" y="2689"/>
                  </a:lnTo>
                  <a:lnTo>
                    <a:pt x="957" y="2683"/>
                  </a:lnTo>
                  <a:lnTo>
                    <a:pt x="962" y="2683"/>
                  </a:lnTo>
                  <a:lnTo>
                    <a:pt x="968" y="2677"/>
                  </a:lnTo>
                  <a:lnTo>
                    <a:pt x="974" y="2671"/>
                  </a:lnTo>
                  <a:lnTo>
                    <a:pt x="980" y="2671"/>
                  </a:lnTo>
                  <a:lnTo>
                    <a:pt x="980" y="2665"/>
                  </a:lnTo>
                  <a:lnTo>
                    <a:pt x="986" y="2665"/>
                  </a:lnTo>
                  <a:lnTo>
                    <a:pt x="986" y="2659"/>
                  </a:lnTo>
                  <a:lnTo>
                    <a:pt x="991" y="2659"/>
                  </a:lnTo>
                  <a:lnTo>
                    <a:pt x="991" y="2653"/>
                  </a:lnTo>
                  <a:lnTo>
                    <a:pt x="997" y="2653"/>
                  </a:lnTo>
                  <a:lnTo>
                    <a:pt x="997" y="2647"/>
                  </a:lnTo>
                  <a:lnTo>
                    <a:pt x="1003" y="2647"/>
                  </a:lnTo>
                  <a:lnTo>
                    <a:pt x="1009" y="2641"/>
                  </a:lnTo>
                  <a:lnTo>
                    <a:pt x="1009" y="2635"/>
                  </a:lnTo>
                  <a:lnTo>
                    <a:pt x="1015" y="2635"/>
                  </a:lnTo>
                  <a:lnTo>
                    <a:pt x="1015" y="2629"/>
                  </a:lnTo>
                  <a:lnTo>
                    <a:pt x="1020" y="2629"/>
                  </a:lnTo>
                  <a:lnTo>
                    <a:pt x="1020" y="2623"/>
                  </a:lnTo>
                  <a:lnTo>
                    <a:pt x="1026" y="2623"/>
                  </a:lnTo>
                  <a:lnTo>
                    <a:pt x="1026" y="2617"/>
                  </a:lnTo>
                  <a:lnTo>
                    <a:pt x="1032" y="2617"/>
                  </a:lnTo>
                  <a:lnTo>
                    <a:pt x="1032" y="2611"/>
                  </a:lnTo>
                  <a:lnTo>
                    <a:pt x="1038" y="2605"/>
                  </a:lnTo>
                  <a:lnTo>
                    <a:pt x="1038" y="2599"/>
                  </a:lnTo>
                  <a:lnTo>
                    <a:pt x="1044" y="2599"/>
                  </a:lnTo>
                  <a:lnTo>
                    <a:pt x="1044" y="2593"/>
                  </a:lnTo>
                  <a:lnTo>
                    <a:pt x="1049" y="2593"/>
                  </a:lnTo>
                  <a:lnTo>
                    <a:pt x="1049" y="2587"/>
                  </a:lnTo>
                  <a:lnTo>
                    <a:pt x="1055" y="2581"/>
                  </a:lnTo>
                  <a:lnTo>
                    <a:pt x="1061" y="2575"/>
                  </a:lnTo>
                  <a:lnTo>
                    <a:pt x="1061" y="2569"/>
                  </a:lnTo>
                  <a:lnTo>
                    <a:pt x="1067" y="2569"/>
                  </a:lnTo>
                  <a:lnTo>
                    <a:pt x="1067" y="2563"/>
                  </a:lnTo>
                  <a:lnTo>
                    <a:pt x="1073" y="2563"/>
                  </a:lnTo>
                  <a:lnTo>
                    <a:pt x="1073" y="2557"/>
                  </a:lnTo>
                  <a:lnTo>
                    <a:pt x="1073" y="2551"/>
                  </a:lnTo>
                  <a:lnTo>
                    <a:pt x="1078" y="2551"/>
                  </a:lnTo>
                  <a:lnTo>
                    <a:pt x="1078" y="2545"/>
                  </a:lnTo>
                  <a:lnTo>
                    <a:pt x="1084" y="2539"/>
                  </a:lnTo>
                  <a:lnTo>
                    <a:pt x="1084" y="2533"/>
                  </a:lnTo>
                  <a:lnTo>
                    <a:pt x="1090" y="2533"/>
                  </a:lnTo>
                  <a:lnTo>
                    <a:pt x="1090" y="2527"/>
                  </a:lnTo>
                  <a:lnTo>
                    <a:pt x="1090" y="2521"/>
                  </a:lnTo>
                  <a:lnTo>
                    <a:pt x="1096" y="2521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68200" y="2567520"/>
              <a:ext cx="775440" cy="2867400"/>
            </a:xfrm>
            <a:custGeom>
              <a:avLst/>
              <a:gdLst/>
              <a:ahLst/>
              <a:rect l="l" t="t" r="r" b="b"/>
              <a:pathLst>
                <a:path w="626" h="2521">
                  <a:moveTo>
                    <a:pt x="0" y="2521"/>
                  </a:moveTo>
                  <a:lnTo>
                    <a:pt x="0" y="2515"/>
                  </a:lnTo>
                  <a:lnTo>
                    <a:pt x="6" y="2515"/>
                  </a:lnTo>
                  <a:lnTo>
                    <a:pt x="6" y="2509"/>
                  </a:lnTo>
                  <a:lnTo>
                    <a:pt x="6" y="2503"/>
                  </a:lnTo>
                  <a:lnTo>
                    <a:pt x="11" y="2503"/>
                  </a:lnTo>
                  <a:lnTo>
                    <a:pt x="11" y="2497"/>
                  </a:lnTo>
                  <a:lnTo>
                    <a:pt x="17" y="2491"/>
                  </a:lnTo>
                  <a:lnTo>
                    <a:pt x="17" y="2485"/>
                  </a:lnTo>
                  <a:lnTo>
                    <a:pt x="23" y="2479"/>
                  </a:lnTo>
                  <a:lnTo>
                    <a:pt x="23" y="2473"/>
                  </a:lnTo>
                  <a:lnTo>
                    <a:pt x="29" y="2467"/>
                  </a:lnTo>
                  <a:lnTo>
                    <a:pt x="29" y="2461"/>
                  </a:lnTo>
                  <a:lnTo>
                    <a:pt x="35" y="2461"/>
                  </a:lnTo>
                  <a:lnTo>
                    <a:pt x="35" y="2455"/>
                  </a:lnTo>
                  <a:lnTo>
                    <a:pt x="35" y="2449"/>
                  </a:lnTo>
                  <a:lnTo>
                    <a:pt x="40" y="2443"/>
                  </a:lnTo>
                  <a:lnTo>
                    <a:pt x="46" y="2437"/>
                  </a:lnTo>
                  <a:lnTo>
                    <a:pt x="46" y="2431"/>
                  </a:lnTo>
                  <a:lnTo>
                    <a:pt x="46" y="2425"/>
                  </a:lnTo>
                  <a:lnTo>
                    <a:pt x="52" y="2419"/>
                  </a:lnTo>
                  <a:lnTo>
                    <a:pt x="58" y="2413"/>
                  </a:lnTo>
                  <a:lnTo>
                    <a:pt x="58" y="2407"/>
                  </a:lnTo>
                  <a:lnTo>
                    <a:pt x="58" y="2401"/>
                  </a:lnTo>
                  <a:lnTo>
                    <a:pt x="64" y="2395"/>
                  </a:lnTo>
                  <a:lnTo>
                    <a:pt x="64" y="2389"/>
                  </a:lnTo>
                  <a:lnTo>
                    <a:pt x="69" y="2383"/>
                  </a:lnTo>
                  <a:lnTo>
                    <a:pt x="69" y="2377"/>
                  </a:lnTo>
                  <a:lnTo>
                    <a:pt x="75" y="2371"/>
                  </a:lnTo>
                  <a:lnTo>
                    <a:pt x="75" y="2365"/>
                  </a:lnTo>
                  <a:lnTo>
                    <a:pt x="81" y="2359"/>
                  </a:lnTo>
                  <a:lnTo>
                    <a:pt x="81" y="2353"/>
                  </a:lnTo>
                  <a:lnTo>
                    <a:pt x="87" y="2347"/>
                  </a:lnTo>
                  <a:lnTo>
                    <a:pt x="87" y="2341"/>
                  </a:lnTo>
                  <a:lnTo>
                    <a:pt x="87" y="2335"/>
                  </a:lnTo>
                  <a:lnTo>
                    <a:pt x="93" y="2329"/>
                  </a:lnTo>
                  <a:lnTo>
                    <a:pt x="93" y="2323"/>
                  </a:lnTo>
                  <a:lnTo>
                    <a:pt x="98" y="2323"/>
                  </a:lnTo>
                  <a:lnTo>
                    <a:pt x="98" y="2317"/>
                  </a:lnTo>
                  <a:lnTo>
                    <a:pt x="98" y="2311"/>
                  </a:lnTo>
                  <a:lnTo>
                    <a:pt x="104" y="2305"/>
                  </a:lnTo>
                  <a:lnTo>
                    <a:pt x="104" y="2299"/>
                  </a:lnTo>
                  <a:lnTo>
                    <a:pt x="104" y="2293"/>
                  </a:lnTo>
                  <a:lnTo>
                    <a:pt x="110" y="2287"/>
                  </a:lnTo>
                  <a:lnTo>
                    <a:pt x="110" y="2281"/>
                  </a:lnTo>
                  <a:lnTo>
                    <a:pt x="116" y="2275"/>
                  </a:lnTo>
                  <a:lnTo>
                    <a:pt x="116" y="2269"/>
                  </a:lnTo>
                  <a:lnTo>
                    <a:pt x="116" y="2263"/>
                  </a:lnTo>
                  <a:lnTo>
                    <a:pt x="122" y="2257"/>
                  </a:lnTo>
                  <a:lnTo>
                    <a:pt x="122" y="2251"/>
                  </a:lnTo>
                  <a:lnTo>
                    <a:pt x="127" y="2245"/>
                  </a:lnTo>
                  <a:lnTo>
                    <a:pt x="127" y="2239"/>
                  </a:lnTo>
                  <a:lnTo>
                    <a:pt x="127" y="2233"/>
                  </a:lnTo>
                  <a:lnTo>
                    <a:pt x="133" y="2227"/>
                  </a:lnTo>
                  <a:lnTo>
                    <a:pt x="133" y="2221"/>
                  </a:lnTo>
                  <a:lnTo>
                    <a:pt x="139" y="2215"/>
                  </a:lnTo>
                  <a:lnTo>
                    <a:pt x="139" y="2209"/>
                  </a:lnTo>
                  <a:lnTo>
                    <a:pt x="139" y="2203"/>
                  </a:lnTo>
                  <a:lnTo>
                    <a:pt x="145" y="2197"/>
                  </a:lnTo>
                  <a:lnTo>
                    <a:pt x="145" y="2191"/>
                  </a:lnTo>
                  <a:lnTo>
                    <a:pt x="145" y="2185"/>
                  </a:lnTo>
                  <a:lnTo>
                    <a:pt x="151" y="2179"/>
                  </a:lnTo>
                  <a:lnTo>
                    <a:pt x="151" y="2173"/>
                  </a:lnTo>
                  <a:lnTo>
                    <a:pt x="156" y="2167"/>
                  </a:lnTo>
                  <a:lnTo>
                    <a:pt x="156" y="2161"/>
                  </a:lnTo>
                  <a:lnTo>
                    <a:pt x="156" y="2155"/>
                  </a:lnTo>
                  <a:lnTo>
                    <a:pt x="162" y="2149"/>
                  </a:lnTo>
                  <a:lnTo>
                    <a:pt x="162" y="2143"/>
                  </a:lnTo>
                  <a:lnTo>
                    <a:pt x="168" y="2137"/>
                  </a:lnTo>
                  <a:lnTo>
                    <a:pt x="168" y="2125"/>
                  </a:lnTo>
                  <a:lnTo>
                    <a:pt x="168" y="2119"/>
                  </a:lnTo>
                  <a:lnTo>
                    <a:pt x="174" y="2113"/>
                  </a:lnTo>
                  <a:lnTo>
                    <a:pt x="174" y="2107"/>
                  </a:lnTo>
                  <a:lnTo>
                    <a:pt x="180" y="2101"/>
                  </a:lnTo>
                  <a:lnTo>
                    <a:pt x="180" y="2095"/>
                  </a:lnTo>
                  <a:lnTo>
                    <a:pt x="180" y="2089"/>
                  </a:lnTo>
                  <a:lnTo>
                    <a:pt x="185" y="2083"/>
                  </a:lnTo>
                  <a:lnTo>
                    <a:pt x="185" y="2071"/>
                  </a:lnTo>
                  <a:lnTo>
                    <a:pt x="185" y="2065"/>
                  </a:lnTo>
                  <a:lnTo>
                    <a:pt x="191" y="2059"/>
                  </a:lnTo>
                  <a:lnTo>
                    <a:pt x="191" y="2053"/>
                  </a:lnTo>
                  <a:lnTo>
                    <a:pt x="197" y="2047"/>
                  </a:lnTo>
                  <a:lnTo>
                    <a:pt x="197" y="2041"/>
                  </a:lnTo>
                  <a:lnTo>
                    <a:pt x="197" y="2029"/>
                  </a:lnTo>
                  <a:lnTo>
                    <a:pt x="203" y="2023"/>
                  </a:lnTo>
                  <a:lnTo>
                    <a:pt x="203" y="2017"/>
                  </a:lnTo>
                  <a:lnTo>
                    <a:pt x="209" y="2011"/>
                  </a:lnTo>
                  <a:lnTo>
                    <a:pt x="209" y="2005"/>
                  </a:lnTo>
                  <a:lnTo>
                    <a:pt x="209" y="1993"/>
                  </a:lnTo>
                  <a:lnTo>
                    <a:pt x="214" y="1987"/>
                  </a:lnTo>
                  <a:lnTo>
                    <a:pt x="214" y="1981"/>
                  </a:lnTo>
                  <a:lnTo>
                    <a:pt x="214" y="1975"/>
                  </a:lnTo>
                  <a:lnTo>
                    <a:pt x="220" y="1963"/>
                  </a:lnTo>
                  <a:lnTo>
                    <a:pt x="220" y="1957"/>
                  </a:lnTo>
                  <a:lnTo>
                    <a:pt x="226" y="1951"/>
                  </a:lnTo>
                  <a:lnTo>
                    <a:pt x="226" y="1945"/>
                  </a:lnTo>
                  <a:lnTo>
                    <a:pt x="226" y="1933"/>
                  </a:lnTo>
                  <a:lnTo>
                    <a:pt x="232" y="1927"/>
                  </a:lnTo>
                  <a:lnTo>
                    <a:pt x="232" y="1921"/>
                  </a:lnTo>
                  <a:lnTo>
                    <a:pt x="238" y="1909"/>
                  </a:lnTo>
                  <a:lnTo>
                    <a:pt x="238" y="1903"/>
                  </a:lnTo>
                  <a:lnTo>
                    <a:pt x="238" y="1897"/>
                  </a:lnTo>
                  <a:lnTo>
                    <a:pt x="243" y="1891"/>
                  </a:lnTo>
                  <a:lnTo>
                    <a:pt x="243" y="1879"/>
                  </a:lnTo>
                  <a:lnTo>
                    <a:pt x="249" y="1873"/>
                  </a:lnTo>
                  <a:lnTo>
                    <a:pt x="249" y="1867"/>
                  </a:lnTo>
                  <a:lnTo>
                    <a:pt x="249" y="1855"/>
                  </a:lnTo>
                  <a:lnTo>
                    <a:pt x="255" y="1849"/>
                  </a:lnTo>
                  <a:lnTo>
                    <a:pt x="255" y="1843"/>
                  </a:lnTo>
                  <a:lnTo>
                    <a:pt x="255" y="1831"/>
                  </a:lnTo>
                  <a:lnTo>
                    <a:pt x="261" y="1825"/>
                  </a:lnTo>
                  <a:lnTo>
                    <a:pt x="261" y="1819"/>
                  </a:lnTo>
                  <a:lnTo>
                    <a:pt x="267" y="1807"/>
                  </a:lnTo>
                  <a:lnTo>
                    <a:pt x="267" y="1801"/>
                  </a:lnTo>
                  <a:lnTo>
                    <a:pt x="267" y="1789"/>
                  </a:lnTo>
                  <a:lnTo>
                    <a:pt x="272" y="1783"/>
                  </a:lnTo>
                  <a:lnTo>
                    <a:pt x="272" y="1777"/>
                  </a:lnTo>
                  <a:lnTo>
                    <a:pt x="278" y="1765"/>
                  </a:lnTo>
                  <a:lnTo>
                    <a:pt x="278" y="1759"/>
                  </a:lnTo>
                  <a:lnTo>
                    <a:pt x="278" y="1747"/>
                  </a:lnTo>
                  <a:lnTo>
                    <a:pt x="284" y="1741"/>
                  </a:lnTo>
                  <a:lnTo>
                    <a:pt x="284" y="1735"/>
                  </a:lnTo>
                  <a:lnTo>
                    <a:pt x="290" y="1723"/>
                  </a:lnTo>
                  <a:lnTo>
                    <a:pt x="290" y="1717"/>
                  </a:lnTo>
                  <a:lnTo>
                    <a:pt x="290" y="1705"/>
                  </a:lnTo>
                  <a:lnTo>
                    <a:pt x="296" y="1699"/>
                  </a:lnTo>
                  <a:lnTo>
                    <a:pt x="296" y="1687"/>
                  </a:lnTo>
                  <a:lnTo>
                    <a:pt x="296" y="1681"/>
                  </a:lnTo>
                  <a:lnTo>
                    <a:pt x="301" y="1669"/>
                  </a:lnTo>
                  <a:lnTo>
                    <a:pt x="301" y="1663"/>
                  </a:lnTo>
                  <a:lnTo>
                    <a:pt x="307" y="1657"/>
                  </a:lnTo>
                  <a:lnTo>
                    <a:pt x="307" y="1645"/>
                  </a:lnTo>
                  <a:lnTo>
                    <a:pt x="307" y="1639"/>
                  </a:lnTo>
                  <a:lnTo>
                    <a:pt x="313" y="1627"/>
                  </a:lnTo>
                  <a:lnTo>
                    <a:pt x="313" y="1621"/>
                  </a:lnTo>
                  <a:lnTo>
                    <a:pt x="319" y="1609"/>
                  </a:lnTo>
                  <a:lnTo>
                    <a:pt x="319" y="1603"/>
                  </a:lnTo>
                  <a:lnTo>
                    <a:pt x="319" y="1591"/>
                  </a:lnTo>
                  <a:lnTo>
                    <a:pt x="325" y="1579"/>
                  </a:lnTo>
                  <a:lnTo>
                    <a:pt x="325" y="1573"/>
                  </a:lnTo>
                  <a:lnTo>
                    <a:pt x="330" y="1561"/>
                  </a:lnTo>
                  <a:lnTo>
                    <a:pt x="330" y="1555"/>
                  </a:lnTo>
                  <a:lnTo>
                    <a:pt x="330" y="1543"/>
                  </a:lnTo>
                  <a:lnTo>
                    <a:pt x="336" y="1537"/>
                  </a:lnTo>
                  <a:lnTo>
                    <a:pt x="336" y="1525"/>
                  </a:lnTo>
                  <a:lnTo>
                    <a:pt x="336" y="1519"/>
                  </a:lnTo>
                  <a:lnTo>
                    <a:pt x="342" y="1507"/>
                  </a:lnTo>
                  <a:lnTo>
                    <a:pt x="342" y="1494"/>
                  </a:lnTo>
                  <a:lnTo>
                    <a:pt x="348" y="1488"/>
                  </a:lnTo>
                  <a:lnTo>
                    <a:pt x="348" y="1476"/>
                  </a:lnTo>
                  <a:lnTo>
                    <a:pt x="348" y="1470"/>
                  </a:lnTo>
                  <a:lnTo>
                    <a:pt x="354" y="1458"/>
                  </a:lnTo>
                  <a:lnTo>
                    <a:pt x="354" y="1446"/>
                  </a:lnTo>
                  <a:lnTo>
                    <a:pt x="359" y="1440"/>
                  </a:lnTo>
                  <a:lnTo>
                    <a:pt x="359" y="1428"/>
                  </a:lnTo>
                  <a:lnTo>
                    <a:pt x="359" y="1422"/>
                  </a:lnTo>
                  <a:lnTo>
                    <a:pt x="365" y="1410"/>
                  </a:lnTo>
                  <a:lnTo>
                    <a:pt x="365" y="1398"/>
                  </a:lnTo>
                  <a:lnTo>
                    <a:pt x="371" y="1392"/>
                  </a:lnTo>
                  <a:lnTo>
                    <a:pt x="371" y="1380"/>
                  </a:lnTo>
                  <a:lnTo>
                    <a:pt x="371" y="1368"/>
                  </a:lnTo>
                  <a:lnTo>
                    <a:pt x="377" y="1362"/>
                  </a:lnTo>
                  <a:lnTo>
                    <a:pt x="377" y="1350"/>
                  </a:lnTo>
                  <a:lnTo>
                    <a:pt x="377" y="1338"/>
                  </a:lnTo>
                  <a:lnTo>
                    <a:pt x="383" y="1332"/>
                  </a:lnTo>
                  <a:lnTo>
                    <a:pt x="383" y="1320"/>
                  </a:lnTo>
                  <a:lnTo>
                    <a:pt x="388" y="1308"/>
                  </a:lnTo>
                  <a:lnTo>
                    <a:pt x="388" y="1296"/>
                  </a:lnTo>
                  <a:lnTo>
                    <a:pt x="388" y="1290"/>
                  </a:lnTo>
                  <a:lnTo>
                    <a:pt x="394" y="1278"/>
                  </a:lnTo>
                  <a:lnTo>
                    <a:pt x="394" y="1266"/>
                  </a:lnTo>
                  <a:lnTo>
                    <a:pt x="400" y="1260"/>
                  </a:lnTo>
                  <a:lnTo>
                    <a:pt x="400" y="1248"/>
                  </a:lnTo>
                  <a:lnTo>
                    <a:pt x="400" y="1236"/>
                  </a:lnTo>
                  <a:lnTo>
                    <a:pt x="406" y="1224"/>
                  </a:lnTo>
                  <a:lnTo>
                    <a:pt x="406" y="1218"/>
                  </a:lnTo>
                  <a:lnTo>
                    <a:pt x="412" y="1206"/>
                  </a:lnTo>
                  <a:lnTo>
                    <a:pt x="412" y="1194"/>
                  </a:lnTo>
                  <a:lnTo>
                    <a:pt x="412" y="1182"/>
                  </a:lnTo>
                  <a:lnTo>
                    <a:pt x="417" y="1170"/>
                  </a:lnTo>
                  <a:lnTo>
                    <a:pt x="417" y="1164"/>
                  </a:lnTo>
                  <a:lnTo>
                    <a:pt x="417" y="1152"/>
                  </a:lnTo>
                  <a:lnTo>
                    <a:pt x="423" y="1140"/>
                  </a:lnTo>
                  <a:lnTo>
                    <a:pt x="423" y="1128"/>
                  </a:lnTo>
                  <a:lnTo>
                    <a:pt x="429" y="1116"/>
                  </a:lnTo>
                  <a:lnTo>
                    <a:pt x="429" y="1110"/>
                  </a:lnTo>
                  <a:lnTo>
                    <a:pt x="429" y="1098"/>
                  </a:lnTo>
                  <a:lnTo>
                    <a:pt x="435" y="1086"/>
                  </a:lnTo>
                  <a:lnTo>
                    <a:pt x="435" y="1074"/>
                  </a:lnTo>
                  <a:lnTo>
                    <a:pt x="441" y="1062"/>
                  </a:lnTo>
                  <a:lnTo>
                    <a:pt x="441" y="1050"/>
                  </a:lnTo>
                  <a:lnTo>
                    <a:pt x="441" y="1044"/>
                  </a:lnTo>
                  <a:lnTo>
                    <a:pt x="446" y="1032"/>
                  </a:lnTo>
                  <a:lnTo>
                    <a:pt x="446" y="1020"/>
                  </a:lnTo>
                  <a:lnTo>
                    <a:pt x="452" y="1008"/>
                  </a:lnTo>
                  <a:lnTo>
                    <a:pt x="452" y="996"/>
                  </a:lnTo>
                  <a:lnTo>
                    <a:pt x="452" y="984"/>
                  </a:lnTo>
                  <a:lnTo>
                    <a:pt x="458" y="972"/>
                  </a:lnTo>
                  <a:lnTo>
                    <a:pt x="458" y="960"/>
                  </a:lnTo>
                  <a:lnTo>
                    <a:pt x="458" y="954"/>
                  </a:lnTo>
                  <a:lnTo>
                    <a:pt x="464" y="942"/>
                  </a:lnTo>
                  <a:lnTo>
                    <a:pt x="464" y="930"/>
                  </a:lnTo>
                  <a:lnTo>
                    <a:pt x="470" y="918"/>
                  </a:lnTo>
                  <a:lnTo>
                    <a:pt x="470" y="906"/>
                  </a:lnTo>
                  <a:lnTo>
                    <a:pt x="470" y="894"/>
                  </a:lnTo>
                  <a:lnTo>
                    <a:pt x="475" y="882"/>
                  </a:lnTo>
                  <a:lnTo>
                    <a:pt x="475" y="870"/>
                  </a:lnTo>
                  <a:lnTo>
                    <a:pt x="481" y="858"/>
                  </a:lnTo>
                  <a:lnTo>
                    <a:pt x="481" y="846"/>
                  </a:lnTo>
                  <a:lnTo>
                    <a:pt x="481" y="834"/>
                  </a:lnTo>
                  <a:lnTo>
                    <a:pt x="487" y="822"/>
                  </a:lnTo>
                  <a:lnTo>
                    <a:pt x="487" y="810"/>
                  </a:lnTo>
                  <a:lnTo>
                    <a:pt x="493" y="798"/>
                  </a:lnTo>
                  <a:lnTo>
                    <a:pt x="493" y="786"/>
                  </a:lnTo>
                  <a:lnTo>
                    <a:pt x="493" y="774"/>
                  </a:lnTo>
                  <a:lnTo>
                    <a:pt x="499" y="762"/>
                  </a:lnTo>
                  <a:lnTo>
                    <a:pt x="499" y="750"/>
                  </a:lnTo>
                  <a:lnTo>
                    <a:pt x="499" y="738"/>
                  </a:lnTo>
                  <a:lnTo>
                    <a:pt x="504" y="726"/>
                  </a:lnTo>
                  <a:lnTo>
                    <a:pt x="504" y="714"/>
                  </a:lnTo>
                  <a:lnTo>
                    <a:pt x="510" y="702"/>
                  </a:lnTo>
                  <a:lnTo>
                    <a:pt x="510" y="690"/>
                  </a:lnTo>
                  <a:lnTo>
                    <a:pt x="510" y="678"/>
                  </a:lnTo>
                  <a:lnTo>
                    <a:pt x="516" y="666"/>
                  </a:lnTo>
                  <a:lnTo>
                    <a:pt x="516" y="654"/>
                  </a:lnTo>
                  <a:lnTo>
                    <a:pt x="522" y="642"/>
                  </a:lnTo>
                  <a:lnTo>
                    <a:pt x="522" y="630"/>
                  </a:lnTo>
                  <a:lnTo>
                    <a:pt x="522" y="618"/>
                  </a:lnTo>
                  <a:lnTo>
                    <a:pt x="528" y="606"/>
                  </a:lnTo>
                  <a:lnTo>
                    <a:pt x="528" y="588"/>
                  </a:lnTo>
                  <a:lnTo>
                    <a:pt x="533" y="576"/>
                  </a:lnTo>
                  <a:lnTo>
                    <a:pt x="533" y="564"/>
                  </a:lnTo>
                  <a:lnTo>
                    <a:pt x="533" y="552"/>
                  </a:lnTo>
                  <a:lnTo>
                    <a:pt x="539" y="540"/>
                  </a:lnTo>
                  <a:lnTo>
                    <a:pt x="539" y="528"/>
                  </a:lnTo>
                  <a:lnTo>
                    <a:pt x="539" y="516"/>
                  </a:lnTo>
                  <a:lnTo>
                    <a:pt x="545" y="504"/>
                  </a:lnTo>
                  <a:lnTo>
                    <a:pt x="545" y="492"/>
                  </a:lnTo>
                  <a:lnTo>
                    <a:pt x="551" y="474"/>
                  </a:lnTo>
                  <a:lnTo>
                    <a:pt x="551" y="462"/>
                  </a:lnTo>
                  <a:lnTo>
                    <a:pt x="551" y="450"/>
                  </a:lnTo>
                  <a:lnTo>
                    <a:pt x="557" y="438"/>
                  </a:lnTo>
                  <a:lnTo>
                    <a:pt x="557" y="426"/>
                  </a:lnTo>
                  <a:lnTo>
                    <a:pt x="562" y="414"/>
                  </a:lnTo>
                  <a:lnTo>
                    <a:pt x="562" y="396"/>
                  </a:lnTo>
                  <a:lnTo>
                    <a:pt x="562" y="384"/>
                  </a:lnTo>
                  <a:lnTo>
                    <a:pt x="568" y="372"/>
                  </a:lnTo>
                  <a:lnTo>
                    <a:pt x="568" y="360"/>
                  </a:lnTo>
                  <a:lnTo>
                    <a:pt x="574" y="348"/>
                  </a:lnTo>
                  <a:lnTo>
                    <a:pt x="574" y="330"/>
                  </a:lnTo>
                  <a:lnTo>
                    <a:pt x="574" y="318"/>
                  </a:lnTo>
                  <a:lnTo>
                    <a:pt x="580" y="306"/>
                  </a:lnTo>
                  <a:lnTo>
                    <a:pt x="580" y="294"/>
                  </a:lnTo>
                  <a:lnTo>
                    <a:pt x="580" y="276"/>
                  </a:lnTo>
                  <a:lnTo>
                    <a:pt x="586" y="264"/>
                  </a:lnTo>
                  <a:lnTo>
                    <a:pt x="586" y="252"/>
                  </a:lnTo>
                  <a:lnTo>
                    <a:pt x="591" y="240"/>
                  </a:lnTo>
                  <a:lnTo>
                    <a:pt x="591" y="222"/>
                  </a:lnTo>
                  <a:lnTo>
                    <a:pt x="591" y="210"/>
                  </a:lnTo>
                  <a:lnTo>
                    <a:pt x="597" y="198"/>
                  </a:lnTo>
                  <a:lnTo>
                    <a:pt x="597" y="186"/>
                  </a:lnTo>
                  <a:lnTo>
                    <a:pt x="603" y="168"/>
                  </a:lnTo>
                  <a:lnTo>
                    <a:pt x="603" y="156"/>
                  </a:lnTo>
                  <a:lnTo>
                    <a:pt x="603" y="144"/>
                  </a:lnTo>
                  <a:lnTo>
                    <a:pt x="609" y="126"/>
                  </a:lnTo>
                  <a:lnTo>
                    <a:pt x="609" y="114"/>
                  </a:lnTo>
                  <a:lnTo>
                    <a:pt x="609" y="102"/>
                  </a:lnTo>
                  <a:lnTo>
                    <a:pt x="615" y="84"/>
                  </a:lnTo>
                  <a:lnTo>
                    <a:pt x="615" y="72"/>
                  </a:lnTo>
                  <a:lnTo>
                    <a:pt x="620" y="60"/>
                  </a:lnTo>
                  <a:lnTo>
                    <a:pt x="620" y="42"/>
                  </a:lnTo>
                  <a:lnTo>
                    <a:pt x="620" y="30"/>
                  </a:lnTo>
                  <a:lnTo>
                    <a:pt x="626" y="18"/>
                  </a:lnTo>
                  <a:lnTo>
                    <a:pt x="626" y="0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0400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2920" y="4797360"/>
            <a:ext cx="25941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479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43700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8360" y="566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360" y="4581360"/>
            <a:ext cx="4193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нями уравнения являют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абсциссы точек пересече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-1 и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-1,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2162160" cy="2590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3640" y="765000"/>
            <a:ext cx="2557440" cy="2953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516720" y="836640"/>
            <a:ext cx="2462040" cy="3024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2732040" cy="2808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932360" y="4049640"/>
            <a:ext cx="2739960" cy="2808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0160" y="189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0160" y="1159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5800" y="189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3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5080" y="3213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4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3800" y="328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5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4000" y="476280"/>
                <a:ext cx="1296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708360" y="476280"/>
                <a:ext cx="115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738480" y="4762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3 = 2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9280" y="35733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 - 2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124000" y="3500280"/>
                <a:ext cx="22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657760" y="3645000"/>
            <a:ext cx="13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 - 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47640" y="620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х – 3 = 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1557360"/>
            <a:ext cx="352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им втор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х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– параб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х + 3  – пря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573408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2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88000" y="1484280"/>
            <a:ext cx="2592000" cy="4258800"/>
            <a:chOff x="4788000" y="1484280"/>
            <a:chExt cx="2592000" cy="425880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788000" y="3873600"/>
                  <a:ext cx="114120" cy="22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5119200" y="1644480"/>
              <a:ext cx="1401840" cy="4098600"/>
            </a:xfrm>
            <a:custGeom>
              <a:avLst/>
              <a:gdLst/>
              <a:ahLst/>
              <a:rect l="l" t="t" r="r" b="b"/>
              <a:pathLst>
                <a:path w="1096" h="2719">
                  <a:moveTo>
                    <a:pt x="0" y="0"/>
                  </a:moveTo>
                  <a:lnTo>
                    <a:pt x="0" y="18"/>
                  </a:lnTo>
                  <a:lnTo>
                    <a:pt x="5" y="30"/>
                  </a:lnTo>
                  <a:lnTo>
                    <a:pt x="5" y="42"/>
                  </a:lnTo>
                  <a:lnTo>
                    <a:pt x="11" y="60"/>
                  </a:lnTo>
                  <a:lnTo>
                    <a:pt x="11" y="72"/>
                  </a:lnTo>
                  <a:lnTo>
                    <a:pt x="11" y="84"/>
                  </a:lnTo>
                  <a:lnTo>
                    <a:pt x="17" y="102"/>
                  </a:lnTo>
                  <a:lnTo>
                    <a:pt x="17" y="114"/>
                  </a:lnTo>
                  <a:lnTo>
                    <a:pt x="17" y="126"/>
                  </a:lnTo>
                  <a:lnTo>
                    <a:pt x="23" y="144"/>
                  </a:lnTo>
                  <a:lnTo>
                    <a:pt x="23" y="156"/>
                  </a:lnTo>
                  <a:lnTo>
                    <a:pt x="29" y="168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4" y="210"/>
                  </a:lnTo>
                  <a:lnTo>
                    <a:pt x="34" y="222"/>
                  </a:lnTo>
                  <a:lnTo>
                    <a:pt x="40" y="240"/>
                  </a:lnTo>
                  <a:lnTo>
                    <a:pt x="40" y="252"/>
                  </a:lnTo>
                  <a:lnTo>
                    <a:pt x="40" y="264"/>
                  </a:lnTo>
                  <a:lnTo>
                    <a:pt x="46" y="276"/>
                  </a:lnTo>
                  <a:lnTo>
                    <a:pt x="46" y="294"/>
                  </a:lnTo>
                  <a:lnTo>
                    <a:pt x="52" y="306"/>
                  </a:lnTo>
                  <a:lnTo>
                    <a:pt x="52" y="318"/>
                  </a:lnTo>
                  <a:lnTo>
                    <a:pt x="52" y="330"/>
                  </a:lnTo>
                  <a:lnTo>
                    <a:pt x="58" y="348"/>
                  </a:lnTo>
                  <a:lnTo>
                    <a:pt x="58" y="360"/>
                  </a:lnTo>
                  <a:lnTo>
                    <a:pt x="58" y="372"/>
                  </a:lnTo>
                  <a:lnTo>
                    <a:pt x="63" y="384"/>
                  </a:lnTo>
                  <a:lnTo>
                    <a:pt x="63" y="396"/>
                  </a:lnTo>
                  <a:lnTo>
                    <a:pt x="69" y="414"/>
                  </a:lnTo>
                  <a:lnTo>
                    <a:pt x="69" y="426"/>
                  </a:lnTo>
                  <a:lnTo>
                    <a:pt x="69" y="438"/>
                  </a:lnTo>
                  <a:lnTo>
                    <a:pt x="75" y="450"/>
                  </a:lnTo>
                  <a:lnTo>
                    <a:pt x="75" y="462"/>
                  </a:lnTo>
                  <a:lnTo>
                    <a:pt x="81" y="474"/>
                  </a:lnTo>
                  <a:lnTo>
                    <a:pt x="81" y="492"/>
                  </a:lnTo>
                  <a:lnTo>
                    <a:pt x="81" y="504"/>
                  </a:lnTo>
                  <a:lnTo>
                    <a:pt x="87" y="516"/>
                  </a:lnTo>
                  <a:lnTo>
                    <a:pt x="87" y="528"/>
                  </a:lnTo>
                  <a:lnTo>
                    <a:pt x="92" y="540"/>
                  </a:lnTo>
                  <a:lnTo>
                    <a:pt x="92" y="552"/>
                  </a:lnTo>
                  <a:lnTo>
                    <a:pt x="92" y="564"/>
                  </a:lnTo>
                  <a:lnTo>
                    <a:pt x="98" y="576"/>
                  </a:lnTo>
                  <a:lnTo>
                    <a:pt x="98" y="588"/>
                  </a:lnTo>
                  <a:lnTo>
                    <a:pt x="98" y="606"/>
                  </a:lnTo>
                  <a:lnTo>
                    <a:pt x="104" y="618"/>
                  </a:lnTo>
                  <a:lnTo>
                    <a:pt x="104" y="630"/>
                  </a:lnTo>
                  <a:lnTo>
                    <a:pt x="110" y="642"/>
                  </a:lnTo>
                  <a:lnTo>
                    <a:pt x="110" y="654"/>
                  </a:lnTo>
                  <a:lnTo>
                    <a:pt x="110" y="666"/>
                  </a:lnTo>
                  <a:lnTo>
                    <a:pt x="116" y="678"/>
                  </a:lnTo>
                  <a:lnTo>
                    <a:pt x="116" y="690"/>
                  </a:lnTo>
                  <a:lnTo>
                    <a:pt x="121" y="702"/>
                  </a:lnTo>
                  <a:lnTo>
                    <a:pt x="121" y="714"/>
                  </a:lnTo>
                  <a:lnTo>
                    <a:pt x="121" y="726"/>
                  </a:lnTo>
                  <a:lnTo>
                    <a:pt x="127" y="738"/>
                  </a:lnTo>
                  <a:lnTo>
                    <a:pt x="127" y="750"/>
                  </a:lnTo>
                  <a:lnTo>
                    <a:pt x="133" y="762"/>
                  </a:lnTo>
                  <a:lnTo>
                    <a:pt x="133" y="774"/>
                  </a:lnTo>
                  <a:lnTo>
                    <a:pt x="133" y="786"/>
                  </a:lnTo>
                  <a:lnTo>
                    <a:pt x="139" y="798"/>
                  </a:lnTo>
                  <a:lnTo>
                    <a:pt x="139" y="810"/>
                  </a:lnTo>
                  <a:lnTo>
                    <a:pt x="139" y="822"/>
                  </a:lnTo>
                  <a:lnTo>
                    <a:pt x="145" y="834"/>
                  </a:lnTo>
                  <a:lnTo>
                    <a:pt x="145" y="846"/>
                  </a:lnTo>
                  <a:lnTo>
                    <a:pt x="150" y="858"/>
                  </a:lnTo>
                  <a:lnTo>
                    <a:pt x="150" y="870"/>
                  </a:lnTo>
                  <a:lnTo>
                    <a:pt x="150" y="882"/>
                  </a:lnTo>
                  <a:lnTo>
                    <a:pt x="156" y="894"/>
                  </a:lnTo>
                  <a:lnTo>
                    <a:pt x="156" y="906"/>
                  </a:lnTo>
                  <a:lnTo>
                    <a:pt x="162" y="918"/>
                  </a:lnTo>
                  <a:lnTo>
                    <a:pt x="162" y="930"/>
                  </a:lnTo>
                  <a:lnTo>
                    <a:pt x="162" y="942"/>
                  </a:lnTo>
                  <a:lnTo>
                    <a:pt x="168" y="954"/>
                  </a:lnTo>
                  <a:lnTo>
                    <a:pt x="168" y="960"/>
                  </a:lnTo>
                  <a:lnTo>
                    <a:pt x="174" y="972"/>
                  </a:lnTo>
                  <a:lnTo>
                    <a:pt x="174" y="984"/>
                  </a:lnTo>
                  <a:lnTo>
                    <a:pt x="174" y="996"/>
                  </a:lnTo>
                  <a:lnTo>
                    <a:pt x="179" y="1008"/>
                  </a:lnTo>
                  <a:lnTo>
                    <a:pt x="179" y="1020"/>
                  </a:lnTo>
                  <a:lnTo>
                    <a:pt x="179" y="1032"/>
                  </a:lnTo>
                  <a:lnTo>
                    <a:pt x="185" y="1044"/>
                  </a:lnTo>
                  <a:lnTo>
                    <a:pt x="185" y="1050"/>
                  </a:lnTo>
                  <a:lnTo>
                    <a:pt x="191" y="1062"/>
                  </a:lnTo>
                  <a:lnTo>
                    <a:pt x="191" y="1074"/>
                  </a:lnTo>
                  <a:lnTo>
                    <a:pt x="191" y="1086"/>
                  </a:lnTo>
                  <a:lnTo>
                    <a:pt x="197" y="1098"/>
                  </a:lnTo>
                  <a:lnTo>
                    <a:pt x="197" y="1110"/>
                  </a:lnTo>
                  <a:lnTo>
                    <a:pt x="203" y="1116"/>
                  </a:lnTo>
                  <a:lnTo>
                    <a:pt x="203" y="1128"/>
                  </a:lnTo>
                  <a:lnTo>
                    <a:pt x="203" y="1140"/>
                  </a:lnTo>
                  <a:lnTo>
                    <a:pt x="208" y="1152"/>
                  </a:lnTo>
                  <a:lnTo>
                    <a:pt x="208" y="1164"/>
                  </a:lnTo>
                  <a:lnTo>
                    <a:pt x="208" y="1170"/>
                  </a:lnTo>
                  <a:lnTo>
                    <a:pt x="214" y="1182"/>
                  </a:lnTo>
                  <a:lnTo>
                    <a:pt x="214" y="1194"/>
                  </a:lnTo>
                  <a:lnTo>
                    <a:pt x="220" y="1206"/>
                  </a:lnTo>
                  <a:lnTo>
                    <a:pt x="220" y="1218"/>
                  </a:lnTo>
                  <a:lnTo>
                    <a:pt x="220" y="1224"/>
                  </a:lnTo>
                  <a:lnTo>
                    <a:pt x="226" y="1236"/>
                  </a:lnTo>
                  <a:lnTo>
                    <a:pt x="226" y="1248"/>
                  </a:lnTo>
                  <a:lnTo>
                    <a:pt x="232" y="1260"/>
                  </a:lnTo>
                  <a:lnTo>
                    <a:pt x="232" y="1266"/>
                  </a:lnTo>
                  <a:lnTo>
                    <a:pt x="232" y="1278"/>
                  </a:lnTo>
                  <a:lnTo>
                    <a:pt x="237" y="1290"/>
                  </a:lnTo>
                  <a:lnTo>
                    <a:pt x="237" y="1296"/>
                  </a:lnTo>
                  <a:lnTo>
                    <a:pt x="243" y="1308"/>
                  </a:lnTo>
                  <a:lnTo>
                    <a:pt x="243" y="1320"/>
                  </a:lnTo>
                  <a:lnTo>
                    <a:pt x="243" y="1332"/>
                  </a:lnTo>
                  <a:lnTo>
                    <a:pt x="249" y="1338"/>
                  </a:lnTo>
                  <a:lnTo>
                    <a:pt x="249" y="1350"/>
                  </a:lnTo>
                  <a:lnTo>
                    <a:pt x="249" y="1362"/>
                  </a:lnTo>
                  <a:lnTo>
                    <a:pt x="255" y="1368"/>
                  </a:lnTo>
                  <a:lnTo>
                    <a:pt x="255" y="1380"/>
                  </a:lnTo>
                  <a:lnTo>
                    <a:pt x="261" y="1392"/>
                  </a:lnTo>
                  <a:lnTo>
                    <a:pt x="261" y="1398"/>
                  </a:lnTo>
                  <a:lnTo>
                    <a:pt x="261" y="1410"/>
                  </a:lnTo>
                  <a:lnTo>
                    <a:pt x="266" y="1422"/>
                  </a:lnTo>
                  <a:lnTo>
                    <a:pt x="266" y="1428"/>
                  </a:lnTo>
                  <a:lnTo>
                    <a:pt x="272" y="1440"/>
                  </a:lnTo>
                  <a:lnTo>
                    <a:pt x="272" y="1446"/>
                  </a:lnTo>
                  <a:lnTo>
                    <a:pt x="272" y="1458"/>
                  </a:lnTo>
                  <a:lnTo>
                    <a:pt x="278" y="1470"/>
                  </a:lnTo>
                  <a:lnTo>
                    <a:pt x="278" y="1476"/>
                  </a:lnTo>
                  <a:lnTo>
                    <a:pt x="284" y="1488"/>
                  </a:lnTo>
                  <a:lnTo>
                    <a:pt x="284" y="1494"/>
                  </a:lnTo>
                  <a:lnTo>
                    <a:pt x="284" y="1507"/>
                  </a:lnTo>
                  <a:lnTo>
                    <a:pt x="290" y="1519"/>
                  </a:lnTo>
                  <a:lnTo>
                    <a:pt x="290" y="1525"/>
                  </a:lnTo>
                  <a:lnTo>
                    <a:pt x="290" y="1537"/>
                  </a:lnTo>
                  <a:lnTo>
                    <a:pt x="295" y="1543"/>
                  </a:lnTo>
                  <a:lnTo>
                    <a:pt x="295" y="1555"/>
                  </a:lnTo>
                  <a:lnTo>
                    <a:pt x="301" y="1561"/>
                  </a:lnTo>
                  <a:lnTo>
                    <a:pt x="301" y="1573"/>
                  </a:lnTo>
                  <a:lnTo>
                    <a:pt x="301" y="1579"/>
                  </a:lnTo>
                  <a:lnTo>
                    <a:pt x="307" y="1591"/>
                  </a:lnTo>
                  <a:lnTo>
                    <a:pt x="307" y="1603"/>
                  </a:lnTo>
                  <a:lnTo>
                    <a:pt x="313" y="1609"/>
                  </a:lnTo>
                  <a:lnTo>
                    <a:pt x="313" y="1621"/>
                  </a:lnTo>
                  <a:lnTo>
                    <a:pt x="313" y="1627"/>
                  </a:lnTo>
                  <a:lnTo>
                    <a:pt x="319" y="1639"/>
                  </a:lnTo>
                  <a:lnTo>
                    <a:pt x="319" y="1645"/>
                  </a:lnTo>
                  <a:lnTo>
                    <a:pt x="324" y="1657"/>
                  </a:lnTo>
                  <a:lnTo>
                    <a:pt x="324" y="1663"/>
                  </a:lnTo>
                  <a:lnTo>
                    <a:pt x="324" y="1669"/>
                  </a:lnTo>
                  <a:lnTo>
                    <a:pt x="330" y="1681"/>
                  </a:lnTo>
                  <a:lnTo>
                    <a:pt x="330" y="1687"/>
                  </a:lnTo>
                  <a:lnTo>
                    <a:pt x="330" y="1699"/>
                  </a:lnTo>
                  <a:lnTo>
                    <a:pt x="336" y="1705"/>
                  </a:lnTo>
                  <a:lnTo>
                    <a:pt x="336" y="1717"/>
                  </a:lnTo>
                  <a:lnTo>
                    <a:pt x="342" y="1723"/>
                  </a:lnTo>
                  <a:lnTo>
                    <a:pt x="342" y="1735"/>
                  </a:lnTo>
                  <a:lnTo>
                    <a:pt x="342" y="1741"/>
                  </a:lnTo>
                  <a:lnTo>
                    <a:pt x="348" y="1747"/>
                  </a:lnTo>
                  <a:lnTo>
                    <a:pt x="348" y="1759"/>
                  </a:lnTo>
                  <a:lnTo>
                    <a:pt x="353" y="1765"/>
                  </a:lnTo>
                  <a:lnTo>
                    <a:pt x="353" y="1777"/>
                  </a:lnTo>
                  <a:lnTo>
                    <a:pt x="353" y="1783"/>
                  </a:lnTo>
                  <a:lnTo>
                    <a:pt x="359" y="1789"/>
                  </a:lnTo>
                  <a:lnTo>
                    <a:pt x="359" y="1801"/>
                  </a:lnTo>
                  <a:lnTo>
                    <a:pt x="365" y="1807"/>
                  </a:lnTo>
                  <a:lnTo>
                    <a:pt x="365" y="1819"/>
                  </a:lnTo>
                  <a:lnTo>
                    <a:pt x="365" y="1825"/>
                  </a:lnTo>
                  <a:lnTo>
                    <a:pt x="371" y="1831"/>
                  </a:lnTo>
                  <a:lnTo>
                    <a:pt x="371" y="1843"/>
                  </a:lnTo>
                  <a:lnTo>
                    <a:pt x="371" y="1849"/>
                  </a:lnTo>
                  <a:lnTo>
                    <a:pt x="377" y="1855"/>
                  </a:lnTo>
                  <a:lnTo>
                    <a:pt x="377" y="1867"/>
                  </a:lnTo>
                  <a:lnTo>
                    <a:pt x="382" y="1873"/>
                  </a:lnTo>
                  <a:lnTo>
                    <a:pt x="382" y="1879"/>
                  </a:lnTo>
                  <a:lnTo>
                    <a:pt x="382" y="1891"/>
                  </a:lnTo>
                  <a:lnTo>
                    <a:pt x="388" y="1897"/>
                  </a:lnTo>
                  <a:lnTo>
                    <a:pt x="388" y="1903"/>
                  </a:lnTo>
                  <a:lnTo>
                    <a:pt x="394" y="1915"/>
                  </a:lnTo>
                  <a:lnTo>
                    <a:pt x="394" y="1921"/>
                  </a:lnTo>
                  <a:lnTo>
                    <a:pt x="394" y="1927"/>
                  </a:lnTo>
                  <a:lnTo>
                    <a:pt x="400" y="1933"/>
                  </a:lnTo>
                  <a:lnTo>
                    <a:pt x="400" y="1945"/>
                  </a:lnTo>
                  <a:lnTo>
                    <a:pt x="406" y="1951"/>
                  </a:lnTo>
                  <a:lnTo>
                    <a:pt x="406" y="1957"/>
                  </a:lnTo>
                  <a:lnTo>
                    <a:pt x="406" y="1963"/>
                  </a:lnTo>
                  <a:lnTo>
                    <a:pt x="411" y="1975"/>
                  </a:lnTo>
                  <a:lnTo>
                    <a:pt x="411" y="1981"/>
                  </a:lnTo>
                  <a:lnTo>
                    <a:pt x="411" y="1987"/>
                  </a:lnTo>
                  <a:lnTo>
                    <a:pt x="417" y="1993"/>
                  </a:lnTo>
                  <a:lnTo>
                    <a:pt x="417" y="2005"/>
                  </a:lnTo>
                  <a:lnTo>
                    <a:pt x="423" y="2011"/>
                  </a:lnTo>
                  <a:lnTo>
                    <a:pt x="423" y="2017"/>
                  </a:lnTo>
                  <a:lnTo>
                    <a:pt x="423" y="2023"/>
                  </a:lnTo>
                  <a:lnTo>
                    <a:pt x="429" y="2029"/>
                  </a:lnTo>
                  <a:lnTo>
                    <a:pt x="429" y="2041"/>
                  </a:lnTo>
                  <a:lnTo>
                    <a:pt x="435" y="2047"/>
                  </a:lnTo>
                  <a:lnTo>
                    <a:pt x="435" y="2053"/>
                  </a:lnTo>
                  <a:lnTo>
                    <a:pt x="435" y="2059"/>
                  </a:lnTo>
                  <a:lnTo>
                    <a:pt x="440" y="2065"/>
                  </a:lnTo>
                  <a:lnTo>
                    <a:pt x="440" y="2071"/>
                  </a:lnTo>
                  <a:lnTo>
                    <a:pt x="446" y="2083"/>
                  </a:lnTo>
                  <a:lnTo>
                    <a:pt x="446" y="2089"/>
                  </a:lnTo>
                  <a:lnTo>
                    <a:pt x="446" y="2095"/>
                  </a:lnTo>
                  <a:lnTo>
                    <a:pt x="452" y="2101"/>
                  </a:lnTo>
                  <a:lnTo>
                    <a:pt x="452" y="2107"/>
                  </a:lnTo>
                  <a:lnTo>
                    <a:pt x="452" y="2113"/>
                  </a:lnTo>
                  <a:lnTo>
                    <a:pt x="458" y="2119"/>
                  </a:lnTo>
                  <a:lnTo>
                    <a:pt x="458" y="2125"/>
                  </a:lnTo>
                  <a:lnTo>
                    <a:pt x="464" y="2137"/>
                  </a:lnTo>
                  <a:lnTo>
                    <a:pt x="464" y="2143"/>
                  </a:lnTo>
                  <a:lnTo>
                    <a:pt x="464" y="2149"/>
                  </a:lnTo>
                  <a:lnTo>
                    <a:pt x="469" y="2155"/>
                  </a:lnTo>
                  <a:lnTo>
                    <a:pt x="469" y="2161"/>
                  </a:lnTo>
                  <a:lnTo>
                    <a:pt x="475" y="2167"/>
                  </a:lnTo>
                  <a:lnTo>
                    <a:pt x="475" y="2173"/>
                  </a:lnTo>
                  <a:lnTo>
                    <a:pt x="475" y="2179"/>
                  </a:lnTo>
                  <a:lnTo>
                    <a:pt x="481" y="2185"/>
                  </a:lnTo>
                  <a:lnTo>
                    <a:pt x="481" y="2191"/>
                  </a:lnTo>
                  <a:lnTo>
                    <a:pt x="487" y="2197"/>
                  </a:lnTo>
                  <a:lnTo>
                    <a:pt x="487" y="2203"/>
                  </a:lnTo>
                  <a:lnTo>
                    <a:pt x="487" y="2209"/>
                  </a:lnTo>
                  <a:lnTo>
                    <a:pt x="493" y="2215"/>
                  </a:lnTo>
                  <a:lnTo>
                    <a:pt x="493" y="2221"/>
                  </a:lnTo>
                  <a:lnTo>
                    <a:pt x="493" y="2227"/>
                  </a:lnTo>
                  <a:lnTo>
                    <a:pt x="498" y="2233"/>
                  </a:lnTo>
                  <a:lnTo>
                    <a:pt x="498" y="2239"/>
                  </a:lnTo>
                  <a:lnTo>
                    <a:pt x="504" y="2245"/>
                  </a:lnTo>
                  <a:lnTo>
                    <a:pt x="504" y="2251"/>
                  </a:lnTo>
                  <a:lnTo>
                    <a:pt x="504" y="2257"/>
                  </a:lnTo>
                  <a:lnTo>
                    <a:pt x="510" y="2263"/>
                  </a:lnTo>
                  <a:lnTo>
                    <a:pt x="510" y="2269"/>
                  </a:lnTo>
                  <a:lnTo>
                    <a:pt x="516" y="2275"/>
                  </a:lnTo>
                  <a:lnTo>
                    <a:pt x="516" y="2281"/>
                  </a:lnTo>
                  <a:lnTo>
                    <a:pt x="516" y="2287"/>
                  </a:lnTo>
                  <a:lnTo>
                    <a:pt x="522" y="2293"/>
                  </a:lnTo>
                  <a:lnTo>
                    <a:pt x="522" y="2299"/>
                  </a:lnTo>
                  <a:lnTo>
                    <a:pt x="527" y="2305"/>
                  </a:lnTo>
                  <a:lnTo>
                    <a:pt x="527" y="2311"/>
                  </a:lnTo>
                  <a:lnTo>
                    <a:pt x="527" y="2317"/>
                  </a:lnTo>
                  <a:lnTo>
                    <a:pt x="533" y="2323"/>
                  </a:lnTo>
                  <a:lnTo>
                    <a:pt x="533" y="2329"/>
                  </a:lnTo>
                  <a:lnTo>
                    <a:pt x="539" y="2335"/>
                  </a:lnTo>
                  <a:lnTo>
                    <a:pt x="539" y="2341"/>
                  </a:lnTo>
                  <a:lnTo>
                    <a:pt x="545" y="2347"/>
                  </a:lnTo>
                  <a:lnTo>
                    <a:pt x="545" y="2353"/>
                  </a:lnTo>
                  <a:lnTo>
                    <a:pt x="545" y="2359"/>
                  </a:lnTo>
                  <a:lnTo>
                    <a:pt x="551" y="2365"/>
                  </a:lnTo>
                  <a:lnTo>
                    <a:pt x="551" y="2371"/>
                  </a:lnTo>
                  <a:lnTo>
                    <a:pt x="556" y="2371"/>
                  </a:lnTo>
                  <a:lnTo>
                    <a:pt x="556" y="2377"/>
                  </a:lnTo>
                  <a:lnTo>
                    <a:pt x="556" y="2383"/>
                  </a:lnTo>
                  <a:lnTo>
                    <a:pt x="562" y="2389"/>
                  </a:lnTo>
                  <a:lnTo>
                    <a:pt x="562" y="2395"/>
                  </a:lnTo>
                  <a:lnTo>
                    <a:pt x="562" y="2401"/>
                  </a:lnTo>
                  <a:lnTo>
                    <a:pt x="568" y="2401"/>
                  </a:lnTo>
                  <a:lnTo>
                    <a:pt x="568" y="2407"/>
                  </a:lnTo>
                  <a:lnTo>
                    <a:pt x="574" y="2413"/>
                  </a:lnTo>
                  <a:lnTo>
                    <a:pt x="574" y="2419"/>
                  </a:lnTo>
                  <a:lnTo>
                    <a:pt x="580" y="2425"/>
                  </a:lnTo>
                  <a:lnTo>
                    <a:pt x="580" y="2431"/>
                  </a:lnTo>
                  <a:lnTo>
                    <a:pt x="585" y="2437"/>
                  </a:lnTo>
                  <a:lnTo>
                    <a:pt x="585" y="2443"/>
                  </a:lnTo>
                  <a:lnTo>
                    <a:pt x="591" y="2449"/>
                  </a:lnTo>
                  <a:lnTo>
                    <a:pt x="591" y="2455"/>
                  </a:lnTo>
                  <a:lnTo>
                    <a:pt x="597" y="2461"/>
                  </a:lnTo>
                  <a:lnTo>
                    <a:pt x="597" y="2467"/>
                  </a:lnTo>
                  <a:lnTo>
                    <a:pt x="603" y="2473"/>
                  </a:lnTo>
                  <a:lnTo>
                    <a:pt x="603" y="2479"/>
                  </a:lnTo>
                  <a:lnTo>
                    <a:pt x="609" y="2485"/>
                  </a:lnTo>
                  <a:lnTo>
                    <a:pt x="609" y="2491"/>
                  </a:lnTo>
                  <a:lnTo>
                    <a:pt x="614" y="2491"/>
                  </a:lnTo>
                  <a:lnTo>
                    <a:pt x="614" y="2497"/>
                  </a:lnTo>
                  <a:lnTo>
                    <a:pt x="614" y="2503"/>
                  </a:lnTo>
                  <a:lnTo>
                    <a:pt x="620" y="2503"/>
                  </a:lnTo>
                  <a:lnTo>
                    <a:pt x="620" y="2509"/>
                  </a:lnTo>
                  <a:lnTo>
                    <a:pt x="626" y="2515"/>
                  </a:lnTo>
                  <a:lnTo>
                    <a:pt x="626" y="2521"/>
                  </a:lnTo>
                  <a:lnTo>
                    <a:pt x="632" y="2521"/>
                  </a:lnTo>
                  <a:lnTo>
                    <a:pt x="632" y="2527"/>
                  </a:lnTo>
                  <a:lnTo>
                    <a:pt x="638" y="2533"/>
                  </a:lnTo>
                  <a:lnTo>
                    <a:pt x="638" y="2539"/>
                  </a:lnTo>
                  <a:lnTo>
                    <a:pt x="643" y="2545"/>
                  </a:lnTo>
                  <a:lnTo>
                    <a:pt x="643" y="2551"/>
                  </a:lnTo>
                  <a:lnTo>
                    <a:pt x="649" y="2551"/>
                  </a:lnTo>
                  <a:lnTo>
                    <a:pt x="649" y="2557"/>
                  </a:lnTo>
                  <a:lnTo>
                    <a:pt x="655" y="2563"/>
                  </a:lnTo>
                  <a:lnTo>
                    <a:pt x="655" y="2569"/>
                  </a:lnTo>
                  <a:lnTo>
                    <a:pt x="661" y="2569"/>
                  </a:lnTo>
                  <a:lnTo>
                    <a:pt x="661" y="2575"/>
                  </a:lnTo>
                  <a:lnTo>
                    <a:pt x="667" y="2575"/>
                  </a:lnTo>
                  <a:lnTo>
                    <a:pt x="667" y="2581"/>
                  </a:lnTo>
                  <a:lnTo>
                    <a:pt x="672" y="2587"/>
                  </a:lnTo>
                  <a:lnTo>
                    <a:pt x="678" y="2593"/>
                  </a:lnTo>
                  <a:lnTo>
                    <a:pt x="678" y="2599"/>
                  </a:lnTo>
                  <a:lnTo>
                    <a:pt x="684" y="2599"/>
                  </a:lnTo>
                  <a:lnTo>
                    <a:pt x="684" y="2605"/>
                  </a:lnTo>
                  <a:lnTo>
                    <a:pt x="690" y="2611"/>
                  </a:lnTo>
                  <a:lnTo>
                    <a:pt x="696" y="2617"/>
                  </a:lnTo>
                  <a:lnTo>
                    <a:pt x="696" y="2623"/>
                  </a:lnTo>
                  <a:lnTo>
                    <a:pt x="701" y="2623"/>
                  </a:lnTo>
                  <a:lnTo>
                    <a:pt x="701" y="2629"/>
                  </a:lnTo>
                  <a:lnTo>
                    <a:pt x="707" y="2629"/>
                  </a:lnTo>
                  <a:lnTo>
                    <a:pt x="707" y="2635"/>
                  </a:lnTo>
                  <a:lnTo>
                    <a:pt x="713" y="2635"/>
                  </a:lnTo>
                  <a:lnTo>
                    <a:pt x="713" y="2641"/>
                  </a:lnTo>
                  <a:lnTo>
                    <a:pt x="719" y="2641"/>
                  </a:lnTo>
                  <a:lnTo>
                    <a:pt x="719" y="2647"/>
                  </a:lnTo>
                  <a:lnTo>
                    <a:pt x="725" y="2647"/>
                  </a:lnTo>
                  <a:lnTo>
                    <a:pt x="725" y="2653"/>
                  </a:lnTo>
                  <a:lnTo>
                    <a:pt x="730" y="2653"/>
                  </a:lnTo>
                  <a:lnTo>
                    <a:pt x="730" y="2659"/>
                  </a:lnTo>
                  <a:lnTo>
                    <a:pt x="736" y="2659"/>
                  </a:lnTo>
                  <a:lnTo>
                    <a:pt x="736" y="2665"/>
                  </a:lnTo>
                  <a:lnTo>
                    <a:pt x="742" y="2665"/>
                  </a:lnTo>
                  <a:lnTo>
                    <a:pt x="748" y="2671"/>
                  </a:lnTo>
                  <a:lnTo>
                    <a:pt x="754" y="2677"/>
                  </a:lnTo>
                  <a:lnTo>
                    <a:pt x="759" y="2677"/>
                  </a:lnTo>
                  <a:lnTo>
                    <a:pt x="759" y="2683"/>
                  </a:lnTo>
                  <a:lnTo>
                    <a:pt x="765" y="2683"/>
                  </a:lnTo>
                  <a:lnTo>
                    <a:pt x="765" y="2689"/>
                  </a:lnTo>
                  <a:lnTo>
                    <a:pt x="771" y="2689"/>
                  </a:lnTo>
                  <a:lnTo>
                    <a:pt x="777" y="2689"/>
                  </a:lnTo>
                  <a:lnTo>
                    <a:pt x="777" y="2695"/>
                  </a:lnTo>
                  <a:lnTo>
                    <a:pt x="783" y="2695"/>
                  </a:lnTo>
                  <a:lnTo>
                    <a:pt x="788" y="2701"/>
                  </a:lnTo>
                  <a:lnTo>
                    <a:pt x="794" y="2701"/>
                  </a:lnTo>
                  <a:lnTo>
                    <a:pt x="800" y="2701"/>
                  </a:lnTo>
                  <a:lnTo>
                    <a:pt x="800" y="2707"/>
                  </a:lnTo>
                  <a:lnTo>
                    <a:pt x="806" y="2707"/>
                  </a:lnTo>
                  <a:lnTo>
                    <a:pt x="812" y="2707"/>
                  </a:lnTo>
                  <a:lnTo>
                    <a:pt x="812" y="2713"/>
                  </a:lnTo>
                  <a:lnTo>
                    <a:pt x="817" y="2713"/>
                  </a:lnTo>
                  <a:lnTo>
                    <a:pt x="823" y="2713"/>
                  </a:lnTo>
                  <a:lnTo>
                    <a:pt x="829" y="2713"/>
                  </a:lnTo>
                  <a:lnTo>
                    <a:pt x="835" y="2719"/>
                  </a:lnTo>
                  <a:lnTo>
                    <a:pt x="841" y="2719"/>
                  </a:lnTo>
                  <a:lnTo>
                    <a:pt x="846" y="2719"/>
                  </a:lnTo>
                  <a:lnTo>
                    <a:pt x="852" y="2719"/>
                  </a:lnTo>
                  <a:lnTo>
                    <a:pt x="858" y="2719"/>
                  </a:lnTo>
                  <a:lnTo>
                    <a:pt x="864" y="2719"/>
                  </a:lnTo>
                  <a:lnTo>
                    <a:pt x="870" y="2719"/>
                  </a:lnTo>
                  <a:lnTo>
                    <a:pt x="875" y="2719"/>
                  </a:lnTo>
                  <a:lnTo>
                    <a:pt x="881" y="2719"/>
                  </a:lnTo>
                  <a:lnTo>
                    <a:pt x="887" y="2719"/>
                  </a:lnTo>
                  <a:lnTo>
                    <a:pt x="893" y="2713"/>
                  </a:lnTo>
                  <a:lnTo>
                    <a:pt x="899" y="2713"/>
                  </a:lnTo>
                  <a:lnTo>
                    <a:pt x="904" y="2713"/>
                  </a:lnTo>
                  <a:lnTo>
                    <a:pt x="910" y="2713"/>
                  </a:lnTo>
                  <a:lnTo>
                    <a:pt x="910" y="2707"/>
                  </a:lnTo>
                  <a:lnTo>
                    <a:pt x="916" y="2707"/>
                  </a:lnTo>
                  <a:lnTo>
                    <a:pt x="922" y="2707"/>
                  </a:lnTo>
                  <a:lnTo>
                    <a:pt x="928" y="2701"/>
                  </a:lnTo>
                  <a:lnTo>
                    <a:pt x="933" y="2701"/>
                  </a:lnTo>
                  <a:lnTo>
                    <a:pt x="939" y="2701"/>
                  </a:lnTo>
                  <a:lnTo>
                    <a:pt x="939" y="2695"/>
                  </a:lnTo>
                  <a:lnTo>
                    <a:pt x="945" y="2695"/>
                  </a:lnTo>
                  <a:lnTo>
                    <a:pt x="951" y="2689"/>
                  </a:lnTo>
                  <a:lnTo>
                    <a:pt x="957" y="2689"/>
                  </a:lnTo>
                  <a:lnTo>
                    <a:pt x="957" y="2683"/>
                  </a:lnTo>
                  <a:lnTo>
                    <a:pt x="962" y="2683"/>
                  </a:lnTo>
                  <a:lnTo>
                    <a:pt x="968" y="2677"/>
                  </a:lnTo>
                  <a:lnTo>
                    <a:pt x="974" y="2671"/>
                  </a:lnTo>
                  <a:lnTo>
                    <a:pt x="980" y="2671"/>
                  </a:lnTo>
                  <a:lnTo>
                    <a:pt x="980" y="2665"/>
                  </a:lnTo>
                  <a:lnTo>
                    <a:pt x="986" y="2665"/>
                  </a:lnTo>
                  <a:lnTo>
                    <a:pt x="986" y="2659"/>
                  </a:lnTo>
                  <a:lnTo>
                    <a:pt x="991" y="2659"/>
                  </a:lnTo>
                  <a:lnTo>
                    <a:pt x="991" y="2653"/>
                  </a:lnTo>
                  <a:lnTo>
                    <a:pt x="997" y="2653"/>
                  </a:lnTo>
                  <a:lnTo>
                    <a:pt x="997" y="2647"/>
                  </a:lnTo>
                  <a:lnTo>
                    <a:pt x="1003" y="2647"/>
                  </a:lnTo>
                  <a:lnTo>
                    <a:pt x="1009" y="2641"/>
                  </a:lnTo>
                  <a:lnTo>
                    <a:pt x="1009" y="2635"/>
                  </a:lnTo>
                  <a:lnTo>
                    <a:pt x="1015" y="2635"/>
                  </a:lnTo>
                  <a:lnTo>
                    <a:pt x="1015" y="2629"/>
                  </a:lnTo>
                  <a:lnTo>
                    <a:pt x="1020" y="2629"/>
                  </a:lnTo>
                  <a:lnTo>
                    <a:pt x="1020" y="2623"/>
                  </a:lnTo>
                  <a:lnTo>
                    <a:pt x="1026" y="2623"/>
                  </a:lnTo>
                  <a:lnTo>
                    <a:pt x="1026" y="2617"/>
                  </a:lnTo>
                  <a:lnTo>
                    <a:pt x="1032" y="2617"/>
                  </a:lnTo>
                  <a:lnTo>
                    <a:pt x="1032" y="2611"/>
                  </a:lnTo>
                  <a:lnTo>
                    <a:pt x="1038" y="2605"/>
                  </a:lnTo>
                  <a:lnTo>
                    <a:pt x="1038" y="2599"/>
                  </a:lnTo>
                  <a:lnTo>
                    <a:pt x="1044" y="2599"/>
                  </a:lnTo>
                  <a:lnTo>
                    <a:pt x="1044" y="2593"/>
                  </a:lnTo>
                  <a:lnTo>
                    <a:pt x="1049" y="2593"/>
                  </a:lnTo>
                  <a:lnTo>
                    <a:pt x="1049" y="2587"/>
                  </a:lnTo>
                  <a:lnTo>
                    <a:pt x="1055" y="2581"/>
                  </a:lnTo>
                  <a:lnTo>
                    <a:pt x="1061" y="2575"/>
                  </a:lnTo>
                  <a:lnTo>
                    <a:pt x="1061" y="2569"/>
                  </a:lnTo>
                  <a:lnTo>
                    <a:pt x="1067" y="2569"/>
                  </a:lnTo>
                  <a:lnTo>
                    <a:pt x="1067" y="2563"/>
                  </a:lnTo>
                  <a:lnTo>
                    <a:pt x="1073" y="2563"/>
                  </a:lnTo>
                  <a:lnTo>
                    <a:pt x="1073" y="2557"/>
                  </a:lnTo>
                  <a:lnTo>
                    <a:pt x="1073" y="2551"/>
                  </a:lnTo>
                  <a:lnTo>
                    <a:pt x="1078" y="2551"/>
                  </a:lnTo>
                  <a:lnTo>
                    <a:pt x="1078" y="2545"/>
                  </a:lnTo>
                  <a:lnTo>
                    <a:pt x="1084" y="2539"/>
                  </a:lnTo>
                  <a:lnTo>
                    <a:pt x="1084" y="2533"/>
                  </a:lnTo>
                  <a:lnTo>
                    <a:pt x="1090" y="2533"/>
                  </a:lnTo>
                  <a:lnTo>
                    <a:pt x="1090" y="2527"/>
                  </a:lnTo>
                  <a:lnTo>
                    <a:pt x="1090" y="2521"/>
                  </a:lnTo>
                  <a:lnTo>
                    <a:pt x="1096" y="2521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00520" y="1484280"/>
              <a:ext cx="879480" cy="3991680"/>
            </a:xfrm>
            <a:custGeom>
              <a:avLst/>
              <a:gdLst/>
              <a:ahLst/>
              <a:rect l="l" t="t" r="r" b="b"/>
              <a:pathLst>
                <a:path w="626" h="2521">
                  <a:moveTo>
                    <a:pt x="0" y="2521"/>
                  </a:moveTo>
                  <a:lnTo>
                    <a:pt x="0" y="2515"/>
                  </a:lnTo>
                  <a:lnTo>
                    <a:pt x="6" y="2515"/>
                  </a:lnTo>
                  <a:lnTo>
                    <a:pt x="6" y="2509"/>
                  </a:lnTo>
                  <a:lnTo>
                    <a:pt x="6" y="2503"/>
                  </a:lnTo>
                  <a:lnTo>
                    <a:pt x="11" y="2503"/>
                  </a:lnTo>
                  <a:lnTo>
                    <a:pt x="11" y="2497"/>
                  </a:lnTo>
                  <a:lnTo>
                    <a:pt x="17" y="2491"/>
                  </a:lnTo>
                  <a:lnTo>
                    <a:pt x="17" y="2485"/>
                  </a:lnTo>
                  <a:lnTo>
                    <a:pt x="23" y="2479"/>
                  </a:lnTo>
                  <a:lnTo>
                    <a:pt x="23" y="2473"/>
                  </a:lnTo>
                  <a:lnTo>
                    <a:pt x="29" y="2467"/>
                  </a:lnTo>
                  <a:lnTo>
                    <a:pt x="29" y="2461"/>
                  </a:lnTo>
                  <a:lnTo>
                    <a:pt x="35" y="2461"/>
                  </a:lnTo>
                  <a:lnTo>
                    <a:pt x="35" y="2455"/>
                  </a:lnTo>
                  <a:lnTo>
                    <a:pt x="35" y="2449"/>
                  </a:lnTo>
                  <a:lnTo>
                    <a:pt x="40" y="2443"/>
                  </a:lnTo>
                  <a:lnTo>
                    <a:pt x="46" y="2437"/>
                  </a:lnTo>
                  <a:lnTo>
                    <a:pt x="46" y="2431"/>
                  </a:lnTo>
                  <a:lnTo>
                    <a:pt x="46" y="2425"/>
                  </a:lnTo>
                  <a:lnTo>
                    <a:pt x="52" y="2419"/>
                  </a:lnTo>
                  <a:lnTo>
                    <a:pt x="58" y="2413"/>
                  </a:lnTo>
                  <a:lnTo>
                    <a:pt x="58" y="2407"/>
                  </a:lnTo>
                  <a:lnTo>
                    <a:pt x="58" y="2401"/>
                  </a:lnTo>
                  <a:lnTo>
                    <a:pt x="64" y="2395"/>
                  </a:lnTo>
                  <a:lnTo>
                    <a:pt x="64" y="2389"/>
                  </a:lnTo>
                  <a:lnTo>
                    <a:pt x="69" y="2383"/>
                  </a:lnTo>
                  <a:lnTo>
                    <a:pt x="69" y="2377"/>
                  </a:lnTo>
                  <a:lnTo>
                    <a:pt x="75" y="2371"/>
                  </a:lnTo>
                  <a:lnTo>
                    <a:pt x="75" y="2365"/>
                  </a:lnTo>
                  <a:lnTo>
                    <a:pt x="81" y="2359"/>
                  </a:lnTo>
                  <a:lnTo>
                    <a:pt x="81" y="2353"/>
                  </a:lnTo>
                  <a:lnTo>
                    <a:pt x="87" y="2347"/>
                  </a:lnTo>
                  <a:lnTo>
                    <a:pt x="87" y="2341"/>
                  </a:lnTo>
                  <a:lnTo>
                    <a:pt x="87" y="2335"/>
                  </a:lnTo>
                  <a:lnTo>
                    <a:pt x="93" y="2329"/>
                  </a:lnTo>
                  <a:lnTo>
                    <a:pt x="93" y="2323"/>
                  </a:lnTo>
                  <a:lnTo>
                    <a:pt x="98" y="2323"/>
                  </a:lnTo>
                  <a:lnTo>
                    <a:pt x="98" y="2317"/>
                  </a:lnTo>
                  <a:lnTo>
                    <a:pt x="98" y="2311"/>
                  </a:lnTo>
                  <a:lnTo>
                    <a:pt x="104" y="2305"/>
                  </a:lnTo>
                  <a:lnTo>
                    <a:pt x="104" y="2299"/>
                  </a:lnTo>
                  <a:lnTo>
                    <a:pt x="104" y="2293"/>
                  </a:lnTo>
                  <a:lnTo>
                    <a:pt x="110" y="2287"/>
                  </a:lnTo>
                  <a:lnTo>
                    <a:pt x="110" y="2281"/>
                  </a:lnTo>
                  <a:lnTo>
                    <a:pt x="116" y="2275"/>
                  </a:lnTo>
                  <a:lnTo>
                    <a:pt x="116" y="2269"/>
                  </a:lnTo>
                  <a:lnTo>
                    <a:pt x="116" y="2263"/>
                  </a:lnTo>
                  <a:lnTo>
                    <a:pt x="122" y="2257"/>
                  </a:lnTo>
                  <a:lnTo>
                    <a:pt x="122" y="2251"/>
                  </a:lnTo>
                  <a:lnTo>
                    <a:pt x="127" y="2245"/>
                  </a:lnTo>
                  <a:lnTo>
                    <a:pt x="127" y="2239"/>
                  </a:lnTo>
                  <a:lnTo>
                    <a:pt x="127" y="2233"/>
                  </a:lnTo>
                  <a:lnTo>
                    <a:pt x="133" y="2227"/>
                  </a:lnTo>
                  <a:lnTo>
                    <a:pt x="133" y="2221"/>
                  </a:lnTo>
                  <a:lnTo>
                    <a:pt x="139" y="2215"/>
                  </a:lnTo>
                  <a:lnTo>
                    <a:pt x="139" y="2209"/>
                  </a:lnTo>
                  <a:lnTo>
                    <a:pt x="139" y="2203"/>
                  </a:lnTo>
                  <a:lnTo>
                    <a:pt x="145" y="2197"/>
                  </a:lnTo>
                  <a:lnTo>
                    <a:pt x="145" y="2191"/>
                  </a:lnTo>
                  <a:lnTo>
                    <a:pt x="145" y="2185"/>
                  </a:lnTo>
                  <a:lnTo>
                    <a:pt x="151" y="2179"/>
                  </a:lnTo>
                  <a:lnTo>
                    <a:pt x="151" y="2173"/>
                  </a:lnTo>
                  <a:lnTo>
                    <a:pt x="156" y="2167"/>
                  </a:lnTo>
                  <a:lnTo>
                    <a:pt x="156" y="2161"/>
                  </a:lnTo>
                  <a:lnTo>
                    <a:pt x="156" y="2155"/>
                  </a:lnTo>
                  <a:lnTo>
                    <a:pt x="162" y="2149"/>
                  </a:lnTo>
                  <a:lnTo>
                    <a:pt x="162" y="2143"/>
                  </a:lnTo>
                  <a:lnTo>
                    <a:pt x="168" y="2137"/>
                  </a:lnTo>
                  <a:lnTo>
                    <a:pt x="168" y="2125"/>
                  </a:lnTo>
                  <a:lnTo>
                    <a:pt x="168" y="2119"/>
                  </a:lnTo>
                  <a:lnTo>
                    <a:pt x="174" y="2113"/>
                  </a:lnTo>
                  <a:lnTo>
                    <a:pt x="174" y="2107"/>
                  </a:lnTo>
                  <a:lnTo>
                    <a:pt x="180" y="2101"/>
                  </a:lnTo>
                  <a:lnTo>
                    <a:pt x="180" y="2095"/>
                  </a:lnTo>
                  <a:lnTo>
                    <a:pt x="180" y="2089"/>
                  </a:lnTo>
                  <a:lnTo>
                    <a:pt x="185" y="2083"/>
                  </a:lnTo>
                  <a:lnTo>
                    <a:pt x="185" y="2071"/>
                  </a:lnTo>
                  <a:lnTo>
                    <a:pt x="185" y="2065"/>
                  </a:lnTo>
                  <a:lnTo>
                    <a:pt x="191" y="2059"/>
                  </a:lnTo>
                  <a:lnTo>
                    <a:pt x="191" y="2053"/>
                  </a:lnTo>
                  <a:lnTo>
                    <a:pt x="197" y="2047"/>
                  </a:lnTo>
                  <a:lnTo>
                    <a:pt x="197" y="2041"/>
                  </a:lnTo>
                  <a:lnTo>
                    <a:pt x="197" y="2029"/>
                  </a:lnTo>
                  <a:lnTo>
                    <a:pt x="203" y="2023"/>
                  </a:lnTo>
                  <a:lnTo>
                    <a:pt x="203" y="2017"/>
                  </a:lnTo>
                  <a:lnTo>
                    <a:pt x="209" y="2011"/>
                  </a:lnTo>
                  <a:lnTo>
                    <a:pt x="209" y="2005"/>
                  </a:lnTo>
                  <a:lnTo>
                    <a:pt x="209" y="1993"/>
                  </a:lnTo>
                  <a:lnTo>
                    <a:pt x="214" y="1987"/>
                  </a:lnTo>
                  <a:lnTo>
                    <a:pt x="214" y="1981"/>
                  </a:lnTo>
                  <a:lnTo>
                    <a:pt x="214" y="1975"/>
                  </a:lnTo>
                  <a:lnTo>
                    <a:pt x="220" y="1963"/>
                  </a:lnTo>
                  <a:lnTo>
                    <a:pt x="220" y="1957"/>
                  </a:lnTo>
                  <a:lnTo>
                    <a:pt x="226" y="1951"/>
                  </a:lnTo>
                  <a:lnTo>
                    <a:pt x="226" y="1945"/>
                  </a:lnTo>
                  <a:lnTo>
                    <a:pt x="226" y="1933"/>
                  </a:lnTo>
                  <a:lnTo>
                    <a:pt x="232" y="1927"/>
                  </a:lnTo>
                  <a:lnTo>
                    <a:pt x="232" y="1921"/>
                  </a:lnTo>
                  <a:lnTo>
                    <a:pt x="238" y="1909"/>
                  </a:lnTo>
                  <a:lnTo>
                    <a:pt x="238" y="1903"/>
                  </a:lnTo>
                  <a:lnTo>
                    <a:pt x="238" y="1897"/>
                  </a:lnTo>
                  <a:lnTo>
                    <a:pt x="243" y="1891"/>
                  </a:lnTo>
                  <a:lnTo>
                    <a:pt x="243" y="1879"/>
                  </a:lnTo>
                  <a:lnTo>
                    <a:pt x="249" y="1873"/>
                  </a:lnTo>
                  <a:lnTo>
                    <a:pt x="249" y="1867"/>
                  </a:lnTo>
                  <a:lnTo>
                    <a:pt x="249" y="1855"/>
                  </a:lnTo>
                  <a:lnTo>
                    <a:pt x="255" y="1849"/>
                  </a:lnTo>
                  <a:lnTo>
                    <a:pt x="255" y="1843"/>
                  </a:lnTo>
                  <a:lnTo>
                    <a:pt x="255" y="1831"/>
                  </a:lnTo>
                  <a:lnTo>
                    <a:pt x="261" y="1825"/>
                  </a:lnTo>
                  <a:lnTo>
                    <a:pt x="261" y="1819"/>
                  </a:lnTo>
                  <a:lnTo>
                    <a:pt x="267" y="1807"/>
                  </a:lnTo>
                  <a:lnTo>
                    <a:pt x="267" y="1801"/>
                  </a:lnTo>
                  <a:lnTo>
                    <a:pt x="267" y="1789"/>
                  </a:lnTo>
                  <a:lnTo>
                    <a:pt x="272" y="1783"/>
                  </a:lnTo>
                  <a:lnTo>
                    <a:pt x="272" y="1777"/>
                  </a:lnTo>
                  <a:lnTo>
                    <a:pt x="278" y="1765"/>
                  </a:lnTo>
                  <a:lnTo>
                    <a:pt x="278" y="1759"/>
                  </a:lnTo>
                  <a:lnTo>
                    <a:pt x="278" y="1747"/>
                  </a:lnTo>
                  <a:lnTo>
                    <a:pt x="284" y="1741"/>
                  </a:lnTo>
                  <a:lnTo>
                    <a:pt x="284" y="1735"/>
                  </a:lnTo>
                  <a:lnTo>
                    <a:pt x="290" y="1723"/>
                  </a:lnTo>
                  <a:lnTo>
                    <a:pt x="290" y="1717"/>
                  </a:lnTo>
                  <a:lnTo>
                    <a:pt x="290" y="1705"/>
                  </a:lnTo>
                  <a:lnTo>
                    <a:pt x="296" y="1699"/>
                  </a:lnTo>
                  <a:lnTo>
                    <a:pt x="296" y="1687"/>
                  </a:lnTo>
                  <a:lnTo>
                    <a:pt x="296" y="1681"/>
                  </a:lnTo>
                  <a:lnTo>
                    <a:pt x="301" y="1669"/>
                  </a:lnTo>
                  <a:lnTo>
                    <a:pt x="301" y="1663"/>
                  </a:lnTo>
                  <a:lnTo>
                    <a:pt x="307" y="1657"/>
                  </a:lnTo>
                  <a:lnTo>
                    <a:pt x="307" y="1645"/>
                  </a:lnTo>
                  <a:lnTo>
                    <a:pt x="307" y="1639"/>
                  </a:lnTo>
                  <a:lnTo>
                    <a:pt x="313" y="1627"/>
                  </a:lnTo>
                  <a:lnTo>
                    <a:pt x="313" y="1621"/>
                  </a:lnTo>
                  <a:lnTo>
                    <a:pt x="319" y="1609"/>
                  </a:lnTo>
                  <a:lnTo>
                    <a:pt x="319" y="1603"/>
                  </a:lnTo>
                  <a:lnTo>
                    <a:pt x="319" y="1591"/>
                  </a:lnTo>
                  <a:lnTo>
                    <a:pt x="325" y="1579"/>
                  </a:lnTo>
                  <a:lnTo>
                    <a:pt x="325" y="1573"/>
                  </a:lnTo>
                  <a:lnTo>
                    <a:pt x="330" y="1561"/>
                  </a:lnTo>
                  <a:lnTo>
                    <a:pt x="330" y="1555"/>
                  </a:lnTo>
                  <a:lnTo>
                    <a:pt x="330" y="1543"/>
                  </a:lnTo>
                  <a:lnTo>
                    <a:pt x="336" y="1537"/>
                  </a:lnTo>
                  <a:lnTo>
                    <a:pt x="336" y="1525"/>
                  </a:lnTo>
                  <a:lnTo>
                    <a:pt x="336" y="1519"/>
                  </a:lnTo>
                  <a:lnTo>
                    <a:pt x="342" y="1507"/>
                  </a:lnTo>
                  <a:lnTo>
                    <a:pt x="342" y="1494"/>
                  </a:lnTo>
                  <a:lnTo>
                    <a:pt x="348" y="1488"/>
                  </a:lnTo>
                  <a:lnTo>
                    <a:pt x="348" y="1476"/>
                  </a:lnTo>
                  <a:lnTo>
                    <a:pt x="348" y="1470"/>
                  </a:lnTo>
                  <a:lnTo>
                    <a:pt x="354" y="1458"/>
                  </a:lnTo>
                  <a:lnTo>
                    <a:pt x="354" y="1446"/>
                  </a:lnTo>
                  <a:lnTo>
                    <a:pt x="359" y="1440"/>
                  </a:lnTo>
                  <a:lnTo>
                    <a:pt x="359" y="1428"/>
                  </a:lnTo>
                  <a:lnTo>
                    <a:pt x="359" y="1422"/>
                  </a:lnTo>
                  <a:lnTo>
                    <a:pt x="365" y="1410"/>
                  </a:lnTo>
                  <a:lnTo>
                    <a:pt x="365" y="1398"/>
                  </a:lnTo>
                  <a:lnTo>
                    <a:pt x="371" y="1392"/>
                  </a:lnTo>
                  <a:lnTo>
                    <a:pt x="371" y="1380"/>
                  </a:lnTo>
                  <a:lnTo>
                    <a:pt x="371" y="1368"/>
                  </a:lnTo>
                  <a:lnTo>
                    <a:pt x="377" y="1362"/>
                  </a:lnTo>
                  <a:lnTo>
                    <a:pt x="377" y="1350"/>
                  </a:lnTo>
                  <a:lnTo>
                    <a:pt x="377" y="1338"/>
                  </a:lnTo>
                  <a:lnTo>
                    <a:pt x="383" y="1332"/>
                  </a:lnTo>
                  <a:lnTo>
                    <a:pt x="383" y="1320"/>
                  </a:lnTo>
                  <a:lnTo>
                    <a:pt x="388" y="1308"/>
                  </a:lnTo>
                  <a:lnTo>
                    <a:pt x="388" y="1296"/>
                  </a:lnTo>
                  <a:lnTo>
                    <a:pt x="388" y="1290"/>
                  </a:lnTo>
                  <a:lnTo>
                    <a:pt x="394" y="1278"/>
                  </a:lnTo>
                  <a:lnTo>
                    <a:pt x="394" y="1266"/>
                  </a:lnTo>
                  <a:lnTo>
                    <a:pt x="400" y="1260"/>
                  </a:lnTo>
                  <a:lnTo>
                    <a:pt x="400" y="1248"/>
                  </a:lnTo>
                  <a:lnTo>
                    <a:pt x="400" y="1236"/>
                  </a:lnTo>
                  <a:lnTo>
                    <a:pt x="406" y="1224"/>
                  </a:lnTo>
                  <a:lnTo>
                    <a:pt x="406" y="1218"/>
                  </a:lnTo>
                  <a:lnTo>
                    <a:pt x="412" y="1206"/>
                  </a:lnTo>
                  <a:lnTo>
                    <a:pt x="412" y="1194"/>
                  </a:lnTo>
                  <a:lnTo>
                    <a:pt x="412" y="1182"/>
                  </a:lnTo>
                  <a:lnTo>
                    <a:pt x="417" y="1170"/>
                  </a:lnTo>
                  <a:lnTo>
                    <a:pt x="417" y="1164"/>
                  </a:lnTo>
                  <a:lnTo>
                    <a:pt x="417" y="1152"/>
                  </a:lnTo>
                  <a:lnTo>
                    <a:pt x="423" y="1140"/>
                  </a:lnTo>
                  <a:lnTo>
                    <a:pt x="423" y="1128"/>
                  </a:lnTo>
                  <a:lnTo>
                    <a:pt x="429" y="1116"/>
                  </a:lnTo>
                  <a:lnTo>
                    <a:pt x="429" y="1110"/>
                  </a:lnTo>
                  <a:lnTo>
                    <a:pt x="429" y="1098"/>
                  </a:lnTo>
                  <a:lnTo>
                    <a:pt x="435" y="1086"/>
                  </a:lnTo>
                  <a:lnTo>
                    <a:pt x="435" y="1074"/>
                  </a:lnTo>
                  <a:lnTo>
                    <a:pt x="441" y="1062"/>
                  </a:lnTo>
                  <a:lnTo>
                    <a:pt x="441" y="1050"/>
                  </a:lnTo>
                  <a:lnTo>
                    <a:pt x="441" y="1044"/>
                  </a:lnTo>
                  <a:lnTo>
                    <a:pt x="446" y="1032"/>
                  </a:lnTo>
                  <a:lnTo>
                    <a:pt x="446" y="1020"/>
                  </a:lnTo>
                  <a:lnTo>
                    <a:pt x="452" y="1008"/>
                  </a:lnTo>
                  <a:lnTo>
                    <a:pt x="452" y="996"/>
                  </a:lnTo>
                  <a:lnTo>
                    <a:pt x="452" y="984"/>
                  </a:lnTo>
                  <a:lnTo>
                    <a:pt x="458" y="972"/>
                  </a:lnTo>
                  <a:lnTo>
                    <a:pt x="458" y="960"/>
                  </a:lnTo>
                  <a:lnTo>
                    <a:pt x="458" y="954"/>
                  </a:lnTo>
                  <a:lnTo>
                    <a:pt x="464" y="942"/>
                  </a:lnTo>
                  <a:lnTo>
                    <a:pt x="464" y="930"/>
                  </a:lnTo>
                  <a:lnTo>
                    <a:pt x="470" y="918"/>
                  </a:lnTo>
                  <a:lnTo>
                    <a:pt x="470" y="906"/>
                  </a:lnTo>
                  <a:lnTo>
                    <a:pt x="470" y="894"/>
                  </a:lnTo>
                  <a:lnTo>
                    <a:pt x="475" y="882"/>
                  </a:lnTo>
                  <a:lnTo>
                    <a:pt x="475" y="870"/>
                  </a:lnTo>
                  <a:lnTo>
                    <a:pt x="481" y="858"/>
                  </a:lnTo>
                  <a:lnTo>
                    <a:pt x="481" y="846"/>
                  </a:lnTo>
                  <a:lnTo>
                    <a:pt x="481" y="834"/>
                  </a:lnTo>
                  <a:lnTo>
                    <a:pt x="487" y="822"/>
                  </a:lnTo>
                  <a:lnTo>
                    <a:pt x="487" y="810"/>
                  </a:lnTo>
                  <a:lnTo>
                    <a:pt x="493" y="798"/>
                  </a:lnTo>
                  <a:lnTo>
                    <a:pt x="493" y="786"/>
                  </a:lnTo>
                  <a:lnTo>
                    <a:pt x="493" y="774"/>
                  </a:lnTo>
                  <a:lnTo>
                    <a:pt x="499" y="762"/>
                  </a:lnTo>
                  <a:lnTo>
                    <a:pt x="499" y="750"/>
                  </a:lnTo>
                  <a:lnTo>
                    <a:pt x="499" y="738"/>
                  </a:lnTo>
                  <a:lnTo>
                    <a:pt x="504" y="726"/>
                  </a:lnTo>
                  <a:lnTo>
                    <a:pt x="504" y="714"/>
                  </a:lnTo>
                  <a:lnTo>
                    <a:pt x="510" y="702"/>
                  </a:lnTo>
                  <a:lnTo>
                    <a:pt x="510" y="690"/>
                  </a:lnTo>
                  <a:lnTo>
                    <a:pt x="510" y="678"/>
                  </a:lnTo>
                  <a:lnTo>
                    <a:pt x="516" y="666"/>
                  </a:lnTo>
                  <a:lnTo>
                    <a:pt x="516" y="654"/>
                  </a:lnTo>
                  <a:lnTo>
                    <a:pt x="522" y="642"/>
                  </a:lnTo>
                  <a:lnTo>
                    <a:pt x="522" y="630"/>
                  </a:lnTo>
                  <a:lnTo>
                    <a:pt x="522" y="618"/>
                  </a:lnTo>
                  <a:lnTo>
                    <a:pt x="528" y="606"/>
                  </a:lnTo>
                  <a:lnTo>
                    <a:pt x="528" y="588"/>
                  </a:lnTo>
                  <a:lnTo>
                    <a:pt x="533" y="576"/>
                  </a:lnTo>
                  <a:lnTo>
                    <a:pt x="533" y="564"/>
                  </a:lnTo>
                  <a:lnTo>
                    <a:pt x="533" y="552"/>
                  </a:lnTo>
                  <a:lnTo>
                    <a:pt x="539" y="540"/>
                  </a:lnTo>
                  <a:lnTo>
                    <a:pt x="539" y="528"/>
                  </a:lnTo>
                  <a:lnTo>
                    <a:pt x="539" y="516"/>
                  </a:lnTo>
                  <a:lnTo>
                    <a:pt x="545" y="504"/>
                  </a:lnTo>
                  <a:lnTo>
                    <a:pt x="545" y="492"/>
                  </a:lnTo>
                  <a:lnTo>
                    <a:pt x="551" y="474"/>
                  </a:lnTo>
                  <a:lnTo>
                    <a:pt x="551" y="462"/>
                  </a:lnTo>
                  <a:lnTo>
                    <a:pt x="551" y="450"/>
                  </a:lnTo>
                  <a:lnTo>
                    <a:pt x="557" y="438"/>
                  </a:lnTo>
                  <a:lnTo>
                    <a:pt x="557" y="426"/>
                  </a:lnTo>
                  <a:lnTo>
                    <a:pt x="562" y="414"/>
                  </a:lnTo>
                  <a:lnTo>
                    <a:pt x="562" y="396"/>
                  </a:lnTo>
                  <a:lnTo>
                    <a:pt x="562" y="384"/>
                  </a:lnTo>
                  <a:lnTo>
                    <a:pt x="568" y="372"/>
                  </a:lnTo>
                  <a:lnTo>
                    <a:pt x="568" y="360"/>
                  </a:lnTo>
                  <a:lnTo>
                    <a:pt x="574" y="348"/>
                  </a:lnTo>
                  <a:lnTo>
                    <a:pt x="574" y="330"/>
                  </a:lnTo>
                  <a:lnTo>
                    <a:pt x="574" y="318"/>
                  </a:lnTo>
                  <a:lnTo>
                    <a:pt x="580" y="306"/>
                  </a:lnTo>
                  <a:lnTo>
                    <a:pt x="580" y="294"/>
                  </a:lnTo>
                  <a:lnTo>
                    <a:pt x="580" y="276"/>
                  </a:lnTo>
                  <a:lnTo>
                    <a:pt x="586" y="264"/>
                  </a:lnTo>
                  <a:lnTo>
                    <a:pt x="586" y="252"/>
                  </a:lnTo>
                  <a:lnTo>
                    <a:pt x="591" y="240"/>
                  </a:lnTo>
                  <a:lnTo>
                    <a:pt x="591" y="222"/>
                  </a:lnTo>
                  <a:lnTo>
                    <a:pt x="591" y="210"/>
                  </a:lnTo>
                  <a:lnTo>
                    <a:pt x="597" y="198"/>
                  </a:lnTo>
                  <a:lnTo>
                    <a:pt x="597" y="186"/>
                  </a:lnTo>
                  <a:lnTo>
                    <a:pt x="603" y="168"/>
                  </a:lnTo>
                  <a:lnTo>
                    <a:pt x="603" y="156"/>
                  </a:lnTo>
                  <a:lnTo>
                    <a:pt x="603" y="144"/>
                  </a:lnTo>
                  <a:lnTo>
                    <a:pt x="609" y="126"/>
                  </a:lnTo>
                  <a:lnTo>
                    <a:pt x="609" y="114"/>
                  </a:lnTo>
                  <a:lnTo>
                    <a:pt x="609" y="102"/>
                  </a:lnTo>
                  <a:lnTo>
                    <a:pt x="615" y="84"/>
                  </a:lnTo>
                  <a:lnTo>
                    <a:pt x="615" y="72"/>
                  </a:lnTo>
                  <a:lnTo>
                    <a:pt x="620" y="60"/>
                  </a:lnTo>
                  <a:lnTo>
                    <a:pt x="620" y="42"/>
                  </a:lnTo>
                  <a:lnTo>
                    <a:pt x="620" y="30"/>
                  </a:lnTo>
                  <a:lnTo>
                    <a:pt x="626" y="18"/>
                  </a:lnTo>
                  <a:lnTo>
                    <a:pt x="626" y="0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96600" y="439200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94036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56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486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932360" y="3500280"/>
            <a:ext cx="2664000" cy="2664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77080" y="422100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26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5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5636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5636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5636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58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5013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7708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843280" y="333360"/>
            <a:ext cx="5486400" cy="144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15224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232000" cy="1690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2276640"/>
            <a:ext cx="61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591г. Франсуа Виет вывел формул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ждения корней квадратных уравнений, однако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ризнавал отрицатель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72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ь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благодаря трудам учёных Жирара, Декарта, Ньютона, способ решения квадратных уравнений принял современны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77080" y="2205000"/>
            <a:ext cx="1401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rcRect l="0" t="0" r="2013" b="0"/>
          <a:stretch/>
        </p:blipFill>
        <p:spPr>
          <a:xfrm>
            <a:off x="3059280" y="333360"/>
            <a:ext cx="2089080" cy="3384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rcRect l="7383" t="0" r="781" b="0"/>
          <a:stretch/>
        </p:blipFill>
        <p:spPr>
          <a:xfrm>
            <a:off x="0" y="765000"/>
            <a:ext cx="2232000" cy="26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227640" y="476280"/>
            <a:ext cx="2403720" cy="367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rcRect l="10228" t="0" r="5140" b="0"/>
          <a:stretch/>
        </p:blipFill>
        <p:spPr>
          <a:xfrm>
            <a:off x="4643280" y="3716280"/>
            <a:ext cx="2376720" cy="2789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rcRect l="0" t="3577" r="4511" b="0"/>
          <a:stretch/>
        </p:blipFill>
        <p:spPr>
          <a:xfrm>
            <a:off x="468360" y="3645000"/>
            <a:ext cx="3025800" cy="2997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2720" y="4762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34520" y="1159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3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49440" y="31417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4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21440" y="33577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5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20000" y="4653000"/>
            <a:ext cx="19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Arial"/>
              </a:rPr>
              <a:t>х = -2, х =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1159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х – 8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332000" y="4869000"/>
            <a:ext cx="936360" cy="868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596360" y="5013360"/>
            <a:ext cx="865080" cy="7351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211640" y="494172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2627280" y="4941720"/>
            <a:ext cx="936720" cy="868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6156360" y="5013360"/>
            <a:ext cx="865080" cy="735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1042920" y="1341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1260360" y="2421000"/>
            <a:ext cx="762120" cy="1333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050920" y="836640"/>
            <a:ext cx="525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сложная, вызывает у меня затрудн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отдельные затруд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всё понят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907920"/>
            <a:ext cx="2872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1700280"/>
            <a:ext cx="28908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2492280"/>
            <a:ext cx="28728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43280" y="2205000"/>
            <a:ext cx="35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6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) х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) (х–5)(х+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) х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4х+3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83664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вадратные уравнения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404640"/>
            <a:ext cx="616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первого уравнения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125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12536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6х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х (х+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 = 0 или  х+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 =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;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640" y="2924280"/>
            <a:ext cx="616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второго уравнения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3789360"/>
            <a:ext cx="259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4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х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(х + 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2 = 0 или х + 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 = 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х = 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вет: –2;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404640"/>
            <a:ext cx="6324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третьего уравнения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125360"/>
            <a:ext cx="439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х–5)(х+1) = 0               (х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4х –5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 – 5 = 0 или х+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 =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х = 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вет: –1; 5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76360" y="3213000"/>
            <a:ext cx="681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четвертого уравнения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860640"/>
            <a:ext cx="223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4х+3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 его р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640" y="1413000"/>
            <a:ext cx="828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Графическое решение 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вадратных уравнений"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052640"/>
            <a:ext cx="85694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дратным уравнением называют уравнение вид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х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+с=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де а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с – любые чис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чем а      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56000" y="4076640"/>
                <a:ext cx="649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55640" y="907920"/>
            <a:ext cx="7813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горитм решения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вадратных уравнений 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997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строить график квадратичной функции  у = а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ти точки пересечения параболы с осью 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исать корни уравнения, которыми являются абсциссы точек       пересечени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08360" y="333360"/>
                <a:ext cx="1800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86160" y="6922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372360" y="2492280"/>
            <a:ext cx="71280" cy="3889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797360"/>
            <a:ext cx="3024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479736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0240" y="4583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292720" y="2492280"/>
            <a:ext cx="2592000" cy="3322440"/>
            <a:chOff x="5292720" y="2492280"/>
            <a:chExt cx="2592000" cy="332244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292720" y="4356360"/>
                  <a:ext cx="114120" cy="1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5623920" y="2617200"/>
              <a:ext cx="1401840" cy="3197520"/>
            </a:xfrm>
            <a:custGeom>
              <a:avLst/>
              <a:gdLst/>
              <a:ahLst/>
              <a:rect l="l" t="t" r="r" b="b"/>
              <a:pathLst>
                <a:path w="1096" h="2719">
                  <a:moveTo>
                    <a:pt x="0" y="0"/>
                  </a:moveTo>
                  <a:lnTo>
                    <a:pt x="0" y="18"/>
                  </a:lnTo>
                  <a:lnTo>
                    <a:pt x="5" y="30"/>
                  </a:lnTo>
                  <a:lnTo>
                    <a:pt x="5" y="42"/>
                  </a:lnTo>
                  <a:lnTo>
                    <a:pt x="11" y="60"/>
                  </a:lnTo>
                  <a:lnTo>
                    <a:pt x="11" y="72"/>
                  </a:lnTo>
                  <a:lnTo>
                    <a:pt x="11" y="84"/>
                  </a:lnTo>
                  <a:lnTo>
                    <a:pt x="17" y="102"/>
                  </a:lnTo>
                  <a:lnTo>
                    <a:pt x="17" y="114"/>
                  </a:lnTo>
                  <a:lnTo>
                    <a:pt x="17" y="126"/>
                  </a:lnTo>
                  <a:lnTo>
                    <a:pt x="23" y="144"/>
                  </a:lnTo>
                  <a:lnTo>
                    <a:pt x="23" y="156"/>
                  </a:lnTo>
                  <a:lnTo>
                    <a:pt x="29" y="168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4" y="210"/>
                  </a:lnTo>
                  <a:lnTo>
                    <a:pt x="34" y="222"/>
                  </a:lnTo>
                  <a:lnTo>
                    <a:pt x="40" y="240"/>
                  </a:lnTo>
                  <a:lnTo>
                    <a:pt x="40" y="252"/>
                  </a:lnTo>
                  <a:lnTo>
                    <a:pt x="40" y="264"/>
                  </a:lnTo>
                  <a:lnTo>
                    <a:pt x="46" y="276"/>
                  </a:lnTo>
                  <a:lnTo>
                    <a:pt x="46" y="294"/>
                  </a:lnTo>
                  <a:lnTo>
                    <a:pt x="52" y="306"/>
                  </a:lnTo>
                  <a:lnTo>
                    <a:pt x="52" y="318"/>
                  </a:lnTo>
                  <a:lnTo>
                    <a:pt x="52" y="330"/>
                  </a:lnTo>
                  <a:lnTo>
                    <a:pt x="58" y="348"/>
                  </a:lnTo>
                  <a:lnTo>
                    <a:pt x="58" y="360"/>
                  </a:lnTo>
                  <a:lnTo>
                    <a:pt x="58" y="372"/>
                  </a:lnTo>
                  <a:lnTo>
                    <a:pt x="63" y="384"/>
                  </a:lnTo>
                  <a:lnTo>
                    <a:pt x="63" y="396"/>
                  </a:lnTo>
                  <a:lnTo>
                    <a:pt x="69" y="414"/>
                  </a:lnTo>
                  <a:lnTo>
                    <a:pt x="69" y="426"/>
                  </a:lnTo>
                  <a:lnTo>
                    <a:pt x="69" y="438"/>
                  </a:lnTo>
                  <a:lnTo>
                    <a:pt x="75" y="450"/>
                  </a:lnTo>
                  <a:lnTo>
                    <a:pt x="75" y="462"/>
                  </a:lnTo>
                  <a:lnTo>
                    <a:pt x="81" y="474"/>
                  </a:lnTo>
                  <a:lnTo>
                    <a:pt x="81" y="492"/>
                  </a:lnTo>
                  <a:lnTo>
                    <a:pt x="81" y="504"/>
                  </a:lnTo>
                  <a:lnTo>
                    <a:pt x="87" y="516"/>
                  </a:lnTo>
                  <a:lnTo>
                    <a:pt x="87" y="528"/>
                  </a:lnTo>
                  <a:lnTo>
                    <a:pt x="92" y="540"/>
                  </a:lnTo>
                  <a:lnTo>
                    <a:pt x="92" y="552"/>
                  </a:lnTo>
                  <a:lnTo>
                    <a:pt x="92" y="564"/>
                  </a:lnTo>
                  <a:lnTo>
                    <a:pt x="98" y="576"/>
                  </a:lnTo>
                  <a:lnTo>
                    <a:pt x="98" y="588"/>
                  </a:lnTo>
                  <a:lnTo>
                    <a:pt x="98" y="606"/>
                  </a:lnTo>
                  <a:lnTo>
                    <a:pt x="104" y="618"/>
                  </a:lnTo>
                  <a:lnTo>
                    <a:pt x="104" y="630"/>
                  </a:lnTo>
                  <a:lnTo>
                    <a:pt x="110" y="642"/>
                  </a:lnTo>
                  <a:lnTo>
                    <a:pt x="110" y="654"/>
                  </a:lnTo>
                  <a:lnTo>
                    <a:pt x="110" y="666"/>
                  </a:lnTo>
                  <a:lnTo>
                    <a:pt x="116" y="678"/>
                  </a:lnTo>
                  <a:lnTo>
                    <a:pt x="116" y="690"/>
                  </a:lnTo>
                  <a:lnTo>
                    <a:pt x="121" y="702"/>
                  </a:lnTo>
                  <a:lnTo>
                    <a:pt x="121" y="714"/>
                  </a:lnTo>
                  <a:lnTo>
                    <a:pt x="121" y="726"/>
                  </a:lnTo>
                  <a:lnTo>
                    <a:pt x="127" y="738"/>
                  </a:lnTo>
                  <a:lnTo>
                    <a:pt x="127" y="750"/>
                  </a:lnTo>
                  <a:lnTo>
                    <a:pt x="133" y="762"/>
                  </a:lnTo>
                  <a:lnTo>
                    <a:pt x="133" y="774"/>
                  </a:lnTo>
                  <a:lnTo>
                    <a:pt x="133" y="786"/>
                  </a:lnTo>
                  <a:lnTo>
                    <a:pt x="139" y="798"/>
                  </a:lnTo>
                  <a:lnTo>
                    <a:pt x="139" y="810"/>
                  </a:lnTo>
                  <a:lnTo>
                    <a:pt x="139" y="822"/>
                  </a:lnTo>
                  <a:lnTo>
                    <a:pt x="145" y="834"/>
                  </a:lnTo>
                  <a:lnTo>
                    <a:pt x="145" y="846"/>
                  </a:lnTo>
                  <a:lnTo>
                    <a:pt x="150" y="858"/>
                  </a:lnTo>
                  <a:lnTo>
                    <a:pt x="150" y="870"/>
                  </a:lnTo>
                  <a:lnTo>
                    <a:pt x="150" y="882"/>
                  </a:lnTo>
                  <a:lnTo>
                    <a:pt x="156" y="894"/>
                  </a:lnTo>
                  <a:lnTo>
                    <a:pt x="156" y="906"/>
                  </a:lnTo>
                  <a:lnTo>
                    <a:pt x="162" y="918"/>
                  </a:lnTo>
                  <a:lnTo>
                    <a:pt x="162" y="930"/>
                  </a:lnTo>
                  <a:lnTo>
                    <a:pt x="162" y="942"/>
                  </a:lnTo>
                  <a:lnTo>
                    <a:pt x="168" y="954"/>
                  </a:lnTo>
                  <a:lnTo>
                    <a:pt x="168" y="960"/>
                  </a:lnTo>
                  <a:lnTo>
                    <a:pt x="174" y="972"/>
                  </a:lnTo>
                  <a:lnTo>
                    <a:pt x="174" y="984"/>
                  </a:lnTo>
                  <a:lnTo>
                    <a:pt x="174" y="996"/>
                  </a:lnTo>
                  <a:lnTo>
                    <a:pt x="179" y="1008"/>
                  </a:lnTo>
                  <a:lnTo>
                    <a:pt x="179" y="1020"/>
                  </a:lnTo>
                  <a:lnTo>
                    <a:pt x="179" y="1032"/>
                  </a:lnTo>
                  <a:lnTo>
                    <a:pt x="185" y="1044"/>
                  </a:lnTo>
                  <a:lnTo>
                    <a:pt x="185" y="1050"/>
                  </a:lnTo>
                  <a:lnTo>
                    <a:pt x="191" y="1062"/>
                  </a:lnTo>
                  <a:lnTo>
                    <a:pt x="191" y="1074"/>
                  </a:lnTo>
                  <a:lnTo>
                    <a:pt x="191" y="1086"/>
                  </a:lnTo>
                  <a:lnTo>
                    <a:pt x="197" y="1098"/>
                  </a:lnTo>
                  <a:lnTo>
                    <a:pt x="197" y="1110"/>
                  </a:lnTo>
                  <a:lnTo>
                    <a:pt x="203" y="1116"/>
                  </a:lnTo>
                  <a:lnTo>
                    <a:pt x="203" y="1128"/>
                  </a:lnTo>
                  <a:lnTo>
                    <a:pt x="203" y="1140"/>
                  </a:lnTo>
                  <a:lnTo>
                    <a:pt x="208" y="1152"/>
                  </a:lnTo>
                  <a:lnTo>
                    <a:pt x="208" y="1164"/>
                  </a:lnTo>
                  <a:lnTo>
                    <a:pt x="208" y="1170"/>
                  </a:lnTo>
                  <a:lnTo>
                    <a:pt x="214" y="1182"/>
                  </a:lnTo>
                  <a:lnTo>
                    <a:pt x="214" y="1194"/>
                  </a:lnTo>
                  <a:lnTo>
                    <a:pt x="220" y="1206"/>
                  </a:lnTo>
                  <a:lnTo>
                    <a:pt x="220" y="1218"/>
                  </a:lnTo>
                  <a:lnTo>
                    <a:pt x="220" y="1224"/>
                  </a:lnTo>
                  <a:lnTo>
                    <a:pt x="226" y="1236"/>
                  </a:lnTo>
                  <a:lnTo>
                    <a:pt x="226" y="1248"/>
                  </a:lnTo>
                  <a:lnTo>
                    <a:pt x="232" y="1260"/>
                  </a:lnTo>
                  <a:lnTo>
                    <a:pt x="232" y="1266"/>
                  </a:lnTo>
                  <a:lnTo>
                    <a:pt x="232" y="1278"/>
                  </a:lnTo>
                  <a:lnTo>
                    <a:pt x="237" y="1290"/>
                  </a:lnTo>
                  <a:lnTo>
                    <a:pt x="237" y="1296"/>
                  </a:lnTo>
                  <a:lnTo>
                    <a:pt x="243" y="1308"/>
                  </a:lnTo>
                  <a:lnTo>
                    <a:pt x="243" y="1320"/>
                  </a:lnTo>
                  <a:lnTo>
                    <a:pt x="243" y="1332"/>
                  </a:lnTo>
                  <a:lnTo>
                    <a:pt x="249" y="1338"/>
                  </a:lnTo>
                  <a:lnTo>
                    <a:pt x="249" y="1350"/>
                  </a:lnTo>
                  <a:lnTo>
                    <a:pt x="249" y="1362"/>
                  </a:lnTo>
                  <a:lnTo>
                    <a:pt x="255" y="1368"/>
                  </a:lnTo>
                  <a:lnTo>
                    <a:pt x="255" y="1380"/>
                  </a:lnTo>
                  <a:lnTo>
                    <a:pt x="261" y="1392"/>
                  </a:lnTo>
                  <a:lnTo>
                    <a:pt x="261" y="1398"/>
                  </a:lnTo>
                  <a:lnTo>
                    <a:pt x="261" y="1410"/>
                  </a:lnTo>
                  <a:lnTo>
                    <a:pt x="266" y="1422"/>
                  </a:lnTo>
                  <a:lnTo>
                    <a:pt x="266" y="1428"/>
                  </a:lnTo>
                  <a:lnTo>
                    <a:pt x="272" y="1440"/>
                  </a:lnTo>
                  <a:lnTo>
                    <a:pt x="272" y="1446"/>
                  </a:lnTo>
                  <a:lnTo>
                    <a:pt x="272" y="1458"/>
                  </a:lnTo>
                  <a:lnTo>
                    <a:pt x="278" y="1470"/>
                  </a:lnTo>
                  <a:lnTo>
                    <a:pt x="278" y="1476"/>
                  </a:lnTo>
                  <a:lnTo>
                    <a:pt x="284" y="1488"/>
                  </a:lnTo>
                  <a:lnTo>
                    <a:pt x="284" y="1494"/>
                  </a:lnTo>
                  <a:lnTo>
                    <a:pt x="284" y="1507"/>
                  </a:lnTo>
                  <a:lnTo>
                    <a:pt x="290" y="1519"/>
                  </a:lnTo>
                  <a:lnTo>
                    <a:pt x="290" y="1525"/>
                  </a:lnTo>
                  <a:lnTo>
                    <a:pt x="290" y="1537"/>
                  </a:lnTo>
                  <a:lnTo>
                    <a:pt x="295" y="1543"/>
                  </a:lnTo>
                  <a:lnTo>
                    <a:pt x="295" y="1555"/>
                  </a:lnTo>
                  <a:lnTo>
                    <a:pt x="301" y="1561"/>
                  </a:lnTo>
                  <a:lnTo>
                    <a:pt x="301" y="1573"/>
                  </a:lnTo>
                  <a:lnTo>
                    <a:pt x="301" y="1579"/>
                  </a:lnTo>
                  <a:lnTo>
                    <a:pt x="307" y="1591"/>
                  </a:lnTo>
                  <a:lnTo>
                    <a:pt x="307" y="1603"/>
                  </a:lnTo>
                  <a:lnTo>
                    <a:pt x="313" y="1609"/>
                  </a:lnTo>
                  <a:lnTo>
                    <a:pt x="313" y="1621"/>
                  </a:lnTo>
                  <a:lnTo>
                    <a:pt x="313" y="1627"/>
                  </a:lnTo>
                  <a:lnTo>
                    <a:pt x="319" y="1639"/>
                  </a:lnTo>
                  <a:lnTo>
                    <a:pt x="319" y="1645"/>
                  </a:lnTo>
                  <a:lnTo>
                    <a:pt x="324" y="1657"/>
                  </a:lnTo>
                  <a:lnTo>
                    <a:pt x="324" y="1663"/>
                  </a:lnTo>
                  <a:lnTo>
                    <a:pt x="324" y="1669"/>
                  </a:lnTo>
                  <a:lnTo>
                    <a:pt x="330" y="1681"/>
                  </a:lnTo>
                  <a:lnTo>
                    <a:pt x="330" y="1687"/>
                  </a:lnTo>
                  <a:lnTo>
                    <a:pt x="330" y="1699"/>
                  </a:lnTo>
                  <a:lnTo>
                    <a:pt x="336" y="1705"/>
                  </a:lnTo>
                  <a:lnTo>
                    <a:pt x="336" y="1717"/>
                  </a:lnTo>
                  <a:lnTo>
                    <a:pt x="342" y="1723"/>
                  </a:lnTo>
                  <a:lnTo>
                    <a:pt x="342" y="1735"/>
                  </a:lnTo>
                  <a:lnTo>
                    <a:pt x="342" y="1741"/>
                  </a:lnTo>
                  <a:lnTo>
                    <a:pt x="348" y="1747"/>
                  </a:lnTo>
                  <a:lnTo>
                    <a:pt x="348" y="1759"/>
                  </a:lnTo>
                  <a:lnTo>
                    <a:pt x="353" y="1765"/>
                  </a:lnTo>
                  <a:lnTo>
                    <a:pt x="353" y="1777"/>
                  </a:lnTo>
                  <a:lnTo>
                    <a:pt x="353" y="1783"/>
                  </a:lnTo>
                  <a:lnTo>
                    <a:pt x="359" y="1789"/>
                  </a:lnTo>
                  <a:lnTo>
                    <a:pt x="359" y="1801"/>
                  </a:lnTo>
                  <a:lnTo>
                    <a:pt x="365" y="1807"/>
                  </a:lnTo>
                  <a:lnTo>
                    <a:pt x="365" y="1819"/>
                  </a:lnTo>
                  <a:lnTo>
                    <a:pt x="365" y="1825"/>
                  </a:lnTo>
                  <a:lnTo>
                    <a:pt x="371" y="1831"/>
                  </a:lnTo>
                  <a:lnTo>
                    <a:pt x="371" y="1843"/>
                  </a:lnTo>
                  <a:lnTo>
                    <a:pt x="371" y="1849"/>
                  </a:lnTo>
                  <a:lnTo>
                    <a:pt x="377" y="1855"/>
                  </a:lnTo>
                  <a:lnTo>
                    <a:pt x="377" y="1867"/>
                  </a:lnTo>
                  <a:lnTo>
                    <a:pt x="382" y="1873"/>
                  </a:lnTo>
                  <a:lnTo>
                    <a:pt x="382" y="1879"/>
                  </a:lnTo>
                  <a:lnTo>
                    <a:pt x="382" y="1891"/>
                  </a:lnTo>
                  <a:lnTo>
                    <a:pt x="388" y="1897"/>
                  </a:lnTo>
                  <a:lnTo>
                    <a:pt x="388" y="1903"/>
                  </a:lnTo>
                  <a:lnTo>
                    <a:pt x="394" y="1915"/>
                  </a:lnTo>
                  <a:lnTo>
                    <a:pt x="394" y="1921"/>
                  </a:lnTo>
                  <a:lnTo>
                    <a:pt x="394" y="1927"/>
                  </a:lnTo>
                  <a:lnTo>
                    <a:pt x="400" y="1933"/>
                  </a:lnTo>
                  <a:lnTo>
                    <a:pt x="400" y="1945"/>
                  </a:lnTo>
                  <a:lnTo>
                    <a:pt x="406" y="1951"/>
                  </a:lnTo>
                  <a:lnTo>
                    <a:pt x="406" y="1957"/>
                  </a:lnTo>
                  <a:lnTo>
                    <a:pt x="406" y="1963"/>
                  </a:lnTo>
                  <a:lnTo>
                    <a:pt x="411" y="1975"/>
                  </a:lnTo>
                  <a:lnTo>
                    <a:pt x="411" y="1981"/>
                  </a:lnTo>
                  <a:lnTo>
                    <a:pt x="411" y="1987"/>
                  </a:lnTo>
                  <a:lnTo>
                    <a:pt x="417" y="1993"/>
                  </a:lnTo>
                  <a:lnTo>
                    <a:pt x="417" y="2005"/>
                  </a:lnTo>
                  <a:lnTo>
                    <a:pt x="423" y="2011"/>
                  </a:lnTo>
                  <a:lnTo>
                    <a:pt x="423" y="2017"/>
                  </a:lnTo>
                  <a:lnTo>
                    <a:pt x="423" y="2023"/>
                  </a:lnTo>
                  <a:lnTo>
                    <a:pt x="429" y="2029"/>
                  </a:lnTo>
                  <a:lnTo>
                    <a:pt x="429" y="2041"/>
                  </a:lnTo>
                  <a:lnTo>
                    <a:pt x="435" y="2047"/>
                  </a:lnTo>
                  <a:lnTo>
                    <a:pt x="435" y="2053"/>
                  </a:lnTo>
                  <a:lnTo>
                    <a:pt x="435" y="2059"/>
                  </a:lnTo>
                  <a:lnTo>
                    <a:pt x="440" y="2065"/>
                  </a:lnTo>
                  <a:lnTo>
                    <a:pt x="440" y="2071"/>
                  </a:lnTo>
                  <a:lnTo>
                    <a:pt x="446" y="2083"/>
                  </a:lnTo>
                  <a:lnTo>
                    <a:pt x="446" y="2089"/>
                  </a:lnTo>
                  <a:lnTo>
                    <a:pt x="446" y="2095"/>
                  </a:lnTo>
                  <a:lnTo>
                    <a:pt x="452" y="2101"/>
                  </a:lnTo>
                  <a:lnTo>
                    <a:pt x="452" y="2107"/>
                  </a:lnTo>
                  <a:lnTo>
                    <a:pt x="452" y="2113"/>
                  </a:lnTo>
                  <a:lnTo>
                    <a:pt x="458" y="2119"/>
                  </a:lnTo>
                  <a:lnTo>
                    <a:pt x="458" y="2125"/>
                  </a:lnTo>
                  <a:lnTo>
                    <a:pt x="464" y="2137"/>
                  </a:lnTo>
                  <a:lnTo>
                    <a:pt x="464" y="2143"/>
                  </a:lnTo>
                  <a:lnTo>
                    <a:pt x="464" y="2149"/>
                  </a:lnTo>
                  <a:lnTo>
                    <a:pt x="469" y="2155"/>
                  </a:lnTo>
                  <a:lnTo>
                    <a:pt x="469" y="2161"/>
                  </a:lnTo>
                  <a:lnTo>
                    <a:pt x="475" y="2167"/>
                  </a:lnTo>
                  <a:lnTo>
                    <a:pt x="475" y="2173"/>
                  </a:lnTo>
                  <a:lnTo>
                    <a:pt x="475" y="2179"/>
                  </a:lnTo>
                  <a:lnTo>
                    <a:pt x="481" y="2185"/>
                  </a:lnTo>
                  <a:lnTo>
                    <a:pt x="481" y="2191"/>
                  </a:lnTo>
                  <a:lnTo>
                    <a:pt x="487" y="2197"/>
                  </a:lnTo>
                  <a:lnTo>
                    <a:pt x="487" y="2203"/>
                  </a:lnTo>
                  <a:lnTo>
                    <a:pt x="487" y="2209"/>
                  </a:lnTo>
                  <a:lnTo>
                    <a:pt x="493" y="2215"/>
                  </a:lnTo>
                  <a:lnTo>
                    <a:pt x="493" y="2221"/>
                  </a:lnTo>
                  <a:lnTo>
                    <a:pt x="493" y="2227"/>
                  </a:lnTo>
                  <a:lnTo>
                    <a:pt x="498" y="2233"/>
                  </a:lnTo>
                  <a:lnTo>
                    <a:pt x="498" y="2239"/>
                  </a:lnTo>
                  <a:lnTo>
                    <a:pt x="504" y="2245"/>
                  </a:lnTo>
                  <a:lnTo>
                    <a:pt x="504" y="2251"/>
                  </a:lnTo>
                  <a:lnTo>
                    <a:pt x="504" y="2257"/>
                  </a:lnTo>
                  <a:lnTo>
                    <a:pt x="510" y="2263"/>
                  </a:lnTo>
                  <a:lnTo>
                    <a:pt x="510" y="2269"/>
                  </a:lnTo>
                  <a:lnTo>
                    <a:pt x="516" y="2275"/>
                  </a:lnTo>
                  <a:lnTo>
                    <a:pt x="516" y="2281"/>
                  </a:lnTo>
                  <a:lnTo>
                    <a:pt x="516" y="2287"/>
                  </a:lnTo>
                  <a:lnTo>
                    <a:pt x="522" y="2293"/>
                  </a:lnTo>
                  <a:lnTo>
                    <a:pt x="522" y="2299"/>
                  </a:lnTo>
                  <a:lnTo>
                    <a:pt x="527" y="2305"/>
                  </a:lnTo>
                  <a:lnTo>
                    <a:pt x="527" y="2311"/>
                  </a:lnTo>
                  <a:lnTo>
                    <a:pt x="527" y="2317"/>
                  </a:lnTo>
                  <a:lnTo>
                    <a:pt x="533" y="2323"/>
                  </a:lnTo>
                  <a:lnTo>
                    <a:pt x="533" y="2329"/>
                  </a:lnTo>
                  <a:lnTo>
                    <a:pt x="539" y="2335"/>
                  </a:lnTo>
                  <a:lnTo>
                    <a:pt x="539" y="2341"/>
                  </a:lnTo>
                  <a:lnTo>
                    <a:pt x="545" y="2347"/>
                  </a:lnTo>
                  <a:lnTo>
                    <a:pt x="545" y="2353"/>
                  </a:lnTo>
                  <a:lnTo>
                    <a:pt x="545" y="2359"/>
                  </a:lnTo>
                  <a:lnTo>
                    <a:pt x="551" y="2365"/>
                  </a:lnTo>
                  <a:lnTo>
                    <a:pt x="551" y="2371"/>
                  </a:lnTo>
                  <a:lnTo>
                    <a:pt x="556" y="2371"/>
                  </a:lnTo>
                  <a:lnTo>
                    <a:pt x="556" y="2377"/>
                  </a:lnTo>
                  <a:lnTo>
                    <a:pt x="556" y="2383"/>
                  </a:lnTo>
                  <a:lnTo>
                    <a:pt x="562" y="2389"/>
                  </a:lnTo>
                  <a:lnTo>
                    <a:pt x="562" y="2395"/>
                  </a:lnTo>
                  <a:lnTo>
                    <a:pt x="562" y="2401"/>
                  </a:lnTo>
                  <a:lnTo>
                    <a:pt x="568" y="2401"/>
                  </a:lnTo>
                  <a:lnTo>
                    <a:pt x="568" y="2407"/>
                  </a:lnTo>
                  <a:lnTo>
                    <a:pt x="574" y="2413"/>
                  </a:lnTo>
                  <a:lnTo>
                    <a:pt x="574" y="2419"/>
                  </a:lnTo>
                  <a:lnTo>
                    <a:pt x="580" y="2425"/>
                  </a:lnTo>
                  <a:lnTo>
                    <a:pt x="580" y="2431"/>
                  </a:lnTo>
                  <a:lnTo>
                    <a:pt x="585" y="2437"/>
                  </a:lnTo>
                  <a:lnTo>
                    <a:pt x="585" y="2443"/>
                  </a:lnTo>
                  <a:lnTo>
                    <a:pt x="591" y="2449"/>
                  </a:lnTo>
                  <a:lnTo>
                    <a:pt x="591" y="2455"/>
                  </a:lnTo>
                  <a:lnTo>
                    <a:pt x="597" y="2461"/>
                  </a:lnTo>
                  <a:lnTo>
                    <a:pt x="597" y="2467"/>
                  </a:lnTo>
                  <a:lnTo>
                    <a:pt x="603" y="2473"/>
                  </a:lnTo>
                  <a:lnTo>
                    <a:pt x="603" y="2479"/>
                  </a:lnTo>
                  <a:lnTo>
                    <a:pt x="609" y="2485"/>
                  </a:lnTo>
                  <a:lnTo>
                    <a:pt x="609" y="2491"/>
                  </a:lnTo>
                  <a:lnTo>
                    <a:pt x="614" y="2491"/>
                  </a:lnTo>
                  <a:lnTo>
                    <a:pt x="614" y="2497"/>
                  </a:lnTo>
                  <a:lnTo>
                    <a:pt x="614" y="2503"/>
                  </a:lnTo>
                  <a:lnTo>
                    <a:pt x="620" y="2503"/>
                  </a:lnTo>
                  <a:lnTo>
                    <a:pt x="620" y="2509"/>
                  </a:lnTo>
                  <a:lnTo>
                    <a:pt x="626" y="2515"/>
                  </a:lnTo>
                  <a:lnTo>
                    <a:pt x="626" y="2521"/>
                  </a:lnTo>
                  <a:lnTo>
                    <a:pt x="632" y="2521"/>
                  </a:lnTo>
                  <a:lnTo>
                    <a:pt x="632" y="2527"/>
                  </a:lnTo>
                  <a:lnTo>
                    <a:pt x="638" y="2533"/>
                  </a:lnTo>
                  <a:lnTo>
                    <a:pt x="638" y="2539"/>
                  </a:lnTo>
                  <a:lnTo>
                    <a:pt x="643" y="2545"/>
                  </a:lnTo>
                  <a:lnTo>
                    <a:pt x="643" y="2551"/>
                  </a:lnTo>
                  <a:lnTo>
                    <a:pt x="649" y="2551"/>
                  </a:lnTo>
                  <a:lnTo>
                    <a:pt x="649" y="2557"/>
                  </a:lnTo>
                  <a:lnTo>
                    <a:pt x="655" y="2563"/>
                  </a:lnTo>
                  <a:lnTo>
                    <a:pt x="655" y="2569"/>
                  </a:lnTo>
                  <a:lnTo>
                    <a:pt x="661" y="2569"/>
                  </a:lnTo>
                  <a:lnTo>
                    <a:pt x="661" y="2575"/>
                  </a:lnTo>
                  <a:lnTo>
                    <a:pt x="667" y="2575"/>
                  </a:lnTo>
                  <a:lnTo>
                    <a:pt x="667" y="2581"/>
                  </a:lnTo>
                  <a:lnTo>
                    <a:pt x="672" y="2587"/>
                  </a:lnTo>
                  <a:lnTo>
                    <a:pt x="678" y="2593"/>
                  </a:lnTo>
                  <a:lnTo>
                    <a:pt x="678" y="2599"/>
                  </a:lnTo>
                  <a:lnTo>
                    <a:pt x="684" y="2599"/>
                  </a:lnTo>
                  <a:lnTo>
                    <a:pt x="684" y="2605"/>
                  </a:lnTo>
                  <a:lnTo>
                    <a:pt x="690" y="2611"/>
                  </a:lnTo>
                  <a:lnTo>
                    <a:pt x="696" y="2617"/>
                  </a:lnTo>
                  <a:lnTo>
                    <a:pt x="696" y="2623"/>
                  </a:lnTo>
                  <a:lnTo>
                    <a:pt x="701" y="2623"/>
                  </a:lnTo>
                  <a:lnTo>
                    <a:pt x="701" y="2629"/>
                  </a:lnTo>
                  <a:lnTo>
                    <a:pt x="707" y="2629"/>
                  </a:lnTo>
                  <a:lnTo>
                    <a:pt x="707" y="2635"/>
                  </a:lnTo>
                  <a:lnTo>
                    <a:pt x="713" y="2635"/>
                  </a:lnTo>
                  <a:lnTo>
                    <a:pt x="713" y="2641"/>
                  </a:lnTo>
                  <a:lnTo>
                    <a:pt x="719" y="2641"/>
                  </a:lnTo>
                  <a:lnTo>
                    <a:pt x="719" y="2647"/>
                  </a:lnTo>
                  <a:lnTo>
                    <a:pt x="725" y="2647"/>
                  </a:lnTo>
                  <a:lnTo>
                    <a:pt x="725" y="2653"/>
                  </a:lnTo>
                  <a:lnTo>
                    <a:pt x="730" y="2653"/>
                  </a:lnTo>
                  <a:lnTo>
                    <a:pt x="730" y="2659"/>
                  </a:lnTo>
                  <a:lnTo>
                    <a:pt x="736" y="2659"/>
                  </a:lnTo>
                  <a:lnTo>
                    <a:pt x="736" y="2665"/>
                  </a:lnTo>
                  <a:lnTo>
                    <a:pt x="742" y="2665"/>
                  </a:lnTo>
                  <a:lnTo>
                    <a:pt x="748" y="2671"/>
                  </a:lnTo>
                  <a:lnTo>
                    <a:pt x="754" y="2677"/>
                  </a:lnTo>
                  <a:lnTo>
                    <a:pt x="759" y="2677"/>
                  </a:lnTo>
                  <a:lnTo>
                    <a:pt x="759" y="2683"/>
                  </a:lnTo>
                  <a:lnTo>
                    <a:pt x="765" y="2683"/>
                  </a:lnTo>
                  <a:lnTo>
                    <a:pt x="765" y="2689"/>
                  </a:lnTo>
                  <a:lnTo>
                    <a:pt x="771" y="2689"/>
                  </a:lnTo>
                  <a:lnTo>
                    <a:pt x="777" y="2689"/>
                  </a:lnTo>
                  <a:lnTo>
                    <a:pt x="777" y="2695"/>
                  </a:lnTo>
                  <a:lnTo>
                    <a:pt x="783" y="2695"/>
                  </a:lnTo>
                  <a:lnTo>
                    <a:pt x="788" y="2701"/>
                  </a:lnTo>
                  <a:lnTo>
                    <a:pt x="794" y="2701"/>
                  </a:lnTo>
                  <a:lnTo>
                    <a:pt x="800" y="2701"/>
                  </a:lnTo>
                  <a:lnTo>
                    <a:pt x="800" y="2707"/>
                  </a:lnTo>
                  <a:lnTo>
                    <a:pt x="806" y="2707"/>
                  </a:lnTo>
                  <a:lnTo>
                    <a:pt x="812" y="2707"/>
                  </a:lnTo>
                  <a:lnTo>
                    <a:pt x="812" y="2713"/>
                  </a:lnTo>
                  <a:lnTo>
                    <a:pt x="817" y="2713"/>
                  </a:lnTo>
                  <a:lnTo>
                    <a:pt x="823" y="2713"/>
                  </a:lnTo>
                  <a:lnTo>
                    <a:pt x="829" y="2713"/>
                  </a:lnTo>
                  <a:lnTo>
                    <a:pt x="835" y="2719"/>
                  </a:lnTo>
                  <a:lnTo>
                    <a:pt x="841" y="2719"/>
                  </a:lnTo>
                  <a:lnTo>
                    <a:pt x="846" y="2719"/>
                  </a:lnTo>
                  <a:lnTo>
                    <a:pt x="852" y="2719"/>
                  </a:lnTo>
                  <a:lnTo>
                    <a:pt x="858" y="2719"/>
                  </a:lnTo>
                  <a:lnTo>
                    <a:pt x="864" y="2719"/>
                  </a:lnTo>
                  <a:lnTo>
                    <a:pt x="870" y="2719"/>
                  </a:lnTo>
                  <a:lnTo>
                    <a:pt x="875" y="2719"/>
                  </a:lnTo>
                  <a:lnTo>
                    <a:pt x="881" y="2719"/>
                  </a:lnTo>
                  <a:lnTo>
                    <a:pt x="887" y="2719"/>
                  </a:lnTo>
                  <a:lnTo>
                    <a:pt x="893" y="2713"/>
                  </a:lnTo>
                  <a:lnTo>
                    <a:pt x="899" y="2713"/>
                  </a:lnTo>
                  <a:lnTo>
                    <a:pt x="904" y="2713"/>
                  </a:lnTo>
                  <a:lnTo>
                    <a:pt x="910" y="2713"/>
                  </a:lnTo>
                  <a:lnTo>
                    <a:pt x="910" y="2707"/>
                  </a:lnTo>
                  <a:lnTo>
                    <a:pt x="916" y="2707"/>
                  </a:lnTo>
                  <a:lnTo>
                    <a:pt x="922" y="2707"/>
                  </a:lnTo>
                  <a:lnTo>
                    <a:pt x="928" y="2701"/>
                  </a:lnTo>
                  <a:lnTo>
                    <a:pt x="933" y="2701"/>
                  </a:lnTo>
                  <a:lnTo>
                    <a:pt x="939" y="2701"/>
                  </a:lnTo>
                  <a:lnTo>
                    <a:pt x="939" y="2695"/>
                  </a:lnTo>
                  <a:lnTo>
                    <a:pt x="945" y="2695"/>
                  </a:lnTo>
                  <a:lnTo>
                    <a:pt x="951" y="2689"/>
                  </a:lnTo>
                  <a:lnTo>
                    <a:pt x="957" y="2689"/>
                  </a:lnTo>
                  <a:lnTo>
                    <a:pt x="957" y="2683"/>
                  </a:lnTo>
                  <a:lnTo>
                    <a:pt x="962" y="2683"/>
                  </a:lnTo>
                  <a:lnTo>
                    <a:pt x="968" y="2677"/>
                  </a:lnTo>
                  <a:lnTo>
                    <a:pt x="974" y="2671"/>
                  </a:lnTo>
                  <a:lnTo>
                    <a:pt x="980" y="2671"/>
                  </a:lnTo>
                  <a:lnTo>
                    <a:pt x="980" y="2665"/>
                  </a:lnTo>
                  <a:lnTo>
                    <a:pt x="986" y="2665"/>
                  </a:lnTo>
                  <a:lnTo>
                    <a:pt x="986" y="2659"/>
                  </a:lnTo>
                  <a:lnTo>
                    <a:pt x="991" y="2659"/>
                  </a:lnTo>
                  <a:lnTo>
                    <a:pt x="991" y="2653"/>
                  </a:lnTo>
                  <a:lnTo>
                    <a:pt x="997" y="2653"/>
                  </a:lnTo>
                  <a:lnTo>
                    <a:pt x="997" y="2647"/>
                  </a:lnTo>
                  <a:lnTo>
                    <a:pt x="1003" y="2647"/>
                  </a:lnTo>
                  <a:lnTo>
                    <a:pt x="1009" y="2641"/>
                  </a:lnTo>
                  <a:lnTo>
                    <a:pt x="1009" y="2635"/>
                  </a:lnTo>
                  <a:lnTo>
                    <a:pt x="1015" y="2635"/>
                  </a:lnTo>
                  <a:lnTo>
                    <a:pt x="1015" y="2629"/>
                  </a:lnTo>
                  <a:lnTo>
                    <a:pt x="1020" y="2629"/>
                  </a:lnTo>
                  <a:lnTo>
                    <a:pt x="1020" y="2623"/>
                  </a:lnTo>
                  <a:lnTo>
                    <a:pt x="1026" y="2623"/>
                  </a:lnTo>
                  <a:lnTo>
                    <a:pt x="1026" y="2617"/>
                  </a:lnTo>
                  <a:lnTo>
                    <a:pt x="1032" y="2617"/>
                  </a:lnTo>
                  <a:lnTo>
                    <a:pt x="1032" y="2611"/>
                  </a:lnTo>
                  <a:lnTo>
                    <a:pt x="1038" y="2605"/>
                  </a:lnTo>
                  <a:lnTo>
                    <a:pt x="1038" y="2599"/>
                  </a:lnTo>
                  <a:lnTo>
                    <a:pt x="1044" y="2599"/>
                  </a:lnTo>
                  <a:lnTo>
                    <a:pt x="1044" y="2593"/>
                  </a:lnTo>
                  <a:lnTo>
                    <a:pt x="1049" y="2593"/>
                  </a:lnTo>
                  <a:lnTo>
                    <a:pt x="1049" y="2587"/>
                  </a:lnTo>
                  <a:lnTo>
                    <a:pt x="1055" y="2581"/>
                  </a:lnTo>
                  <a:lnTo>
                    <a:pt x="1061" y="2575"/>
                  </a:lnTo>
                  <a:lnTo>
                    <a:pt x="1061" y="2569"/>
                  </a:lnTo>
                  <a:lnTo>
                    <a:pt x="1067" y="2569"/>
                  </a:lnTo>
                  <a:lnTo>
                    <a:pt x="1067" y="2563"/>
                  </a:lnTo>
                  <a:lnTo>
                    <a:pt x="1073" y="2563"/>
                  </a:lnTo>
                  <a:lnTo>
                    <a:pt x="1073" y="2557"/>
                  </a:lnTo>
                  <a:lnTo>
                    <a:pt x="1073" y="2551"/>
                  </a:lnTo>
                  <a:lnTo>
                    <a:pt x="1078" y="2551"/>
                  </a:lnTo>
                  <a:lnTo>
                    <a:pt x="1078" y="2545"/>
                  </a:lnTo>
                  <a:lnTo>
                    <a:pt x="1084" y="2539"/>
                  </a:lnTo>
                  <a:lnTo>
                    <a:pt x="1084" y="2533"/>
                  </a:lnTo>
                  <a:lnTo>
                    <a:pt x="1090" y="2533"/>
                  </a:lnTo>
                  <a:lnTo>
                    <a:pt x="1090" y="2527"/>
                  </a:lnTo>
                  <a:lnTo>
                    <a:pt x="1090" y="2521"/>
                  </a:lnTo>
                  <a:lnTo>
                    <a:pt x="1096" y="2521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05240" y="2492280"/>
              <a:ext cx="879480" cy="3114000"/>
            </a:xfrm>
            <a:custGeom>
              <a:avLst/>
              <a:gdLst/>
              <a:ahLst/>
              <a:rect l="l" t="t" r="r" b="b"/>
              <a:pathLst>
                <a:path w="626" h="2521">
                  <a:moveTo>
                    <a:pt x="0" y="2521"/>
                  </a:moveTo>
                  <a:lnTo>
                    <a:pt x="0" y="2515"/>
                  </a:lnTo>
                  <a:lnTo>
                    <a:pt x="6" y="2515"/>
                  </a:lnTo>
                  <a:lnTo>
                    <a:pt x="6" y="2509"/>
                  </a:lnTo>
                  <a:lnTo>
                    <a:pt x="6" y="2503"/>
                  </a:lnTo>
                  <a:lnTo>
                    <a:pt x="11" y="2503"/>
                  </a:lnTo>
                  <a:lnTo>
                    <a:pt x="11" y="2497"/>
                  </a:lnTo>
                  <a:lnTo>
                    <a:pt x="17" y="2491"/>
                  </a:lnTo>
                  <a:lnTo>
                    <a:pt x="17" y="2485"/>
                  </a:lnTo>
                  <a:lnTo>
                    <a:pt x="23" y="2479"/>
                  </a:lnTo>
                  <a:lnTo>
                    <a:pt x="23" y="2473"/>
                  </a:lnTo>
                  <a:lnTo>
                    <a:pt x="29" y="2467"/>
                  </a:lnTo>
                  <a:lnTo>
                    <a:pt x="29" y="2461"/>
                  </a:lnTo>
                  <a:lnTo>
                    <a:pt x="35" y="2461"/>
                  </a:lnTo>
                  <a:lnTo>
                    <a:pt x="35" y="2455"/>
                  </a:lnTo>
                  <a:lnTo>
                    <a:pt x="35" y="2449"/>
                  </a:lnTo>
                  <a:lnTo>
                    <a:pt x="40" y="2443"/>
                  </a:lnTo>
                  <a:lnTo>
                    <a:pt x="46" y="2437"/>
                  </a:lnTo>
                  <a:lnTo>
                    <a:pt x="46" y="2431"/>
                  </a:lnTo>
                  <a:lnTo>
                    <a:pt x="46" y="2425"/>
                  </a:lnTo>
                  <a:lnTo>
                    <a:pt x="52" y="2419"/>
                  </a:lnTo>
                  <a:lnTo>
                    <a:pt x="58" y="2413"/>
                  </a:lnTo>
                  <a:lnTo>
                    <a:pt x="58" y="2407"/>
                  </a:lnTo>
                  <a:lnTo>
                    <a:pt x="58" y="2401"/>
                  </a:lnTo>
                  <a:lnTo>
                    <a:pt x="64" y="2395"/>
                  </a:lnTo>
                  <a:lnTo>
                    <a:pt x="64" y="2389"/>
                  </a:lnTo>
                  <a:lnTo>
                    <a:pt x="69" y="2383"/>
                  </a:lnTo>
                  <a:lnTo>
                    <a:pt x="69" y="2377"/>
                  </a:lnTo>
                  <a:lnTo>
                    <a:pt x="75" y="2371"/>
                  </a:lnTo>
                  <a:lnTo>
                    <a:pt x="75" y="2365"/>
                  </a:lnTo>
                  <a:lnTo>
                    <a:pt x="81" y="2359"/>
                  </a:lnTo>
                  <a:lnTo>
                    <a:pt x="81" y="2353"/>
                  </a:lnTo>
                  <a:lnTo>
                    <a:pt x="87" y="2347"/>
                  </a:lnTo>
                  <a:lnTo>
                    <a:pt x="87" y="2341"/>
                  </a:lnTo>
                  <a:lnTo>
                    <a:pt x="87" y="2335"/>
                  </a:lnTo>
                  <a:lnTo>
                    <a:pt x="93" y="2329"/>
                  </a:lnTo>
                  <a:lnTo>
                    <a:pt x="93" y="2323"/>
                  </a:lnTo>
                  <a:lnTo>
                    <a:pt x="98" y="2323"/>
                  </a:lnTo>
                  <a:lnTo>
                    <a:pt x="98" y="2317"/>
                  </a:lnTo>
                  <a:lnTo>
                    <a:pt x="98" y="2311"/>
                  </a:lnTo>
                  <a:lnTo>
                    <a:pt x="104" y="2305"/>
                  </a:lnTo>
                  <a:lnTo>
                    <a:pt x="104" y="2299"/>
                  </a:lnTo>
                  <a:lnTo>
                    <a:pt x="104" y="2293"/>
                  </a:lnTo>
                  <a:lnTo>
                    <a:pt x="110" y="2287"/>
                  </a:lnTo>
                  <a:lnTo>
                    <a:pt x="110" y="2281"/>
                  </a:lnTo>
                  <a:lnTo>
                    <a:pt x="116" y="2275"/>
                  </a:lnTo>
                  <a:lnTo>
                    <a:pt x="116" y="2269"/>
                  </a:lnTo>
                  <a:lnTo>
                    <a:pt x="116" y="2263"/>
                  </a:lnTo>
                  <a:lnTo>
                    <a:pt x="122" y="2257"/>
                  </a:lnTo>
                  <a:lnTo>
                    <a:pt x="122" y="2251"/>
                  </a:lnTo>
                  <a:lnTo>
                    <a:pt x="127" y="2245"/>
                  </a:lnTo>
                  <a:lnTo>
                    <a:pt x="127" y="2239"/>
                  </a:lnTo>
                  <a:lnTo>
                    <a:pt x="127" y="2233"/>
                  </a:lnTo>
                  <a:lnTo>
                    <a:pt x="133" y="2227"/>
                  </a:lnTo>
                  <a:lnTo>
                    <a:pt x="133" y="2221"/>
                  </a:lnTo>
                  <a:lnTo>
                    <a:pt x="139" y="2215"/>
                  </a:lnTo>
                  <a:lnTo>
                    <a:pt x="139" y="2209"/>
                  </a:lnTo>
                  <a:lnTo>
                    <a:pt x="139" y="2203"/>
                  </a:lnTo>
                  <a:lnTo>
                    <a:pt x="145" y="2197"/>
                  </a:lnTo>
                  <a:lnTo>
                    <a:pt x="145" y="2191"/>
                  </a:lnTo>
                  <a:lnTo>
                    <a:pt x="145" y="2185"/>
                  </a:lnTo>
                  <a:lnTo>
                    <a:pt x="151" y="2179"/>
                  </a:lnTo>
                  <a:lnTo>
                    <a:pt x="151" y="2173"/>
                  </a:lnTo>
                  <a:lnTo>
                    <a:pt x="156" y="2167"/>
                  </a:lnTo>
                  <a:lnTo>
                    <a:pt x="156" y="2161"/>
                  </a:lnTo>
                  <a:lnTo>
                    <a:pt x="156" y="2155"/>
                  </a:lnTo>
                  <a:lnTo>
                    <a:pt x="162" y="2149"/>
                  </a:lnTo>
                  <a:lnTo>
                    <a:pt x="162" y="2143"/>
                  </a:lnTo>
                  <a:lnTo>
                    <a:pt x="168" y="2137"/>
                  </a:lnTo>
                  <a:lnTo>
                    <a:pt x="168" y="2125"/>
                  </a:lnTo>
                  <a:lnTo>
                    <a:pt x="168" y="2119"/>
                  </a:lnTo>
                  <a:lnTo>
                    <a:pt x="174" y="2113"/>
                  </a:lnTo>
                  <a:lnTo>
                    <a:pt x="174" y="2107"/>
                  </a:lnTo>
                  <a:lnTo>
                    <a:pt x="180" y="2101"/>
                  </a:lnTo>
                  <a:lnTo>
                    <a:pt x="180" y="2095"/>
                  </a:lnTo>
                  <a:lnTo>
                    <a:pt x="180" y="2089"/>
                  </a:lnTo>
                  <a:lnTo>
                    <a:pt x="185" y="2083"/>
                  </a:lnTo>
                  <a:lnTo>
                    <a:pt x="185" y="2071"/>
                  </a:lnTo>
                  <a:lnTo>
                    <a:pt x="185" y="2065"/>
                  </a:lnTo>
                  <a:lnTo>
                    <a:pt x="191" y="2059"/>
                  </a:lnTo>
                  <a:lnTo>
                    <a:pt x="191" y="2053"/>
                  </a:lnTo>
                  <a:lnTo>
                    <a:pt x="197" y="2047"/>
                  </a:lnTo>
                  <a:lnTo>
                    <a:pt x="197" y="2041"/>
                  </a:lnTo>
                  <a:lnTo>
                    <a:pt x="197" y="2029"/>
                  </a:lnTo>
                  <a:lnTo>
                    <a:pt x="203" y="2023"/>
                  </a:lnTo>
                  <a:lnTo>
                    <a:pt x="203" y="2017"/>
                  </a:lnTo>
                  <a:lnTo>
                    <a:pt x="209" y="2011"/>
                  </a:lnTo>
                  <a:lnTo>
                    <a:pt x="209" y="2005"/>
                  </a:lnTo>
                  <a:lnTo>
                    <a:pt x="209" y="1993"/>
                  </a:lnTo>
                  <a:lnTo>
                    <a:pt x="214" y="1987"/>
                  </a:lnTo>
                  <a:lnTo>
                    <a:pt x="214" y="1981"/>
                  </a:lnTo>
                  <a:lnTo>
                    <a:pt x="214" y="1975"/>
                  </a:lnTo>
                  <a:lnTo>
                    <a:pt x="220" y="1963"/>
                  </a:lnTo>
                  <a:lnTo>
                    <a:pt x="220" y="1957"/>
                  </a:lnTo>
                  <a:lnTo>
                    <a:pt x="226" y="1951"/>
                  </a:lnTo>
                  <a:lnTo>
                    <a:pt x="226" y="1945"/>
                  </a:lnTo>
                  <a:lnTo>
                    <a:pt x="226" y="1933"/>
                  </a:lnTo>
                  <a:lnTo>
                    <a:pt x="232" y="1927"/>
                  </a:lnTo>
                  <a:lnTo>
                    <a:pt x="232" y="1921"/>
                  </a:lnTo>
                  <a:lnTo>
                    <a:pt x="238" y="1909"/>
                  </a:lnTo>
                  <a:lnTo>
                    <a:pt x="238" y="1903"/>
                  </a:lnTo>
                  <a:lnTo>
                    <a:pt x="238" y="1897"/>
                  </a:lnTo>
                  <a:lnTo>
                    <a:pt x="243" y="1891"/>
                  </a:lnTo>
                  <a:lnTo>
                    <a:pt x="243" y="1879"/>
                  </a:lnTo>
                  <a:lnTo>
                    <a:pt x="249" y="1873"/>
                  </a:lnTo>
                  <a:lnTo>
                    <a:pt x="249" y="1867"/>
                  </a:lnTo>
                  <a:lnTo>
                    <a:pt x="249" y="1855"/>
                  </a:lnTo>
                  <a:lnTo>
                    <a:pt x="255" y="1849"/>
                  </a:lnTo>
                  <a:lnTo>
                    <a:pt x="255" y="1843"/>
                  </a:lnTo>
                  <a:lnTo>
                    <a:pt x="255" y="1831"/>
                  </a:lnTo>
                  <a:lnTo>
                    <a:pt x="261" y="1825"/>
                  </a:lnTo>
                  <a:lnTo>
                    <a:pt x="261" y="1819"/>
                  </a:lnTo>
                  <a:lnTo>
                    <a:pt x="267" y="1807"/>
                  </a:lnTo>
                  <a:lnTo>
                    <a:pt x="267" y="1801"/>
                  </a:lnTo>
                  <a:lnTo>
                    <a:pt x="267" y="1789"/>
                  </a:lnTo>
                  <a:lnTo>
                    <a:pt x="272" y="1783"/>
                  </a:lnTo>
                  <a:lnTo>
                    <a:pt x="272" y="1777"/>
                  </a:lnTo>
                  <a:lnTo>
                    <a:pt x="278" y="1765"/>
                  </a:lnTo>
                  <a:lnTo>
                    <a:pt x="278" y="1759"/>
                  </a:lnTo>
                  <a:lnTo>
                    <a:pt x="278" y="1747"/>
                  </a:lnTo>
                  <a:lnTo>
                    <a:pt x="284" y="1741"/>
                  </a:lnTo>
                  <a:lnTo>
                    <a:pt x="284" y="1735"/>
                  </a:lnTo>
                  <a:lnTo>
                    <a:pt x="290" y="1723"/>
                  </a:lnTo>
                  <a:lnTo>
                    <a:pt x="290" y="1717"/>
                  </a:lnTo>
                  <a:lnTo>
                    <a:pt x="290" y="1705"/>
                  </a:lnTo>
                  <a:lnTo>
                    <a:pt x="296" y="1699"/>
                  </a:lnTo>
                  <a:lnTo>
                    <a:pt x="296" y="1687"/>
                  </a:lnTo>
                  <a:lnTo>
                    <a:pt x="296" y="1681"/>
                  </a:lnTo>
                  <a:lnTo>
                    <a:pt x="301" y="1669"/>
                  </a:lnTo>
                  <a:lnTo>
                    <a:pt x="301" y="1663"/>
                  </a:lnTo>
                  <a:lnTo>
                    <a:pt x="307" y="1657"/>
                  </a:lnTo>
                  <a:lnTo>
                    <a:pt x="307" y="1645"/>
                  </a:lnTo>
                  <a:lnTo>
                    <a:pt x="307" y="1639"/>
                  </a:lnTo>
                  <a:lnTo>
                    <a:pt x="313" y="1627"/>
                  </a:lnTo>
                  <a:lnTo>
                    <a:pt x="313" y="1621"/>
                  </a:lnTo>
                  <a:lnTo>
                    <a:pt x="319" y="1609"/>
                  </a:lnTo>
                  <a:lnTo>
                    <a:pt x="319" y="1603"/>
                  </a:lnTo>
                  <a:lnTo>
                    <a:pt x="319" y="1591"/>
                  </a:lnTo>
                  <a:lnTo>
                    <a:pt x="325" y="1579"/>
                  </a:lnTo>
                  <a:lnTo>
                    <a:pt x="325" y="1573"/>
                  </a:lnTo>
                  <a:lnTo>
                    <a:pt x="330" y="1561"/>
                  </a:lnTo>
                  <a:lnTo>
                    <a:pt x="330" y="1555"/>
                  </a:lnTo>
                  <a:lnTo>
                    <a:pt x="330" y="1543"/>
                  </a:lnTo>
                  <a:lnTo>
                    <a:pt x="336" y="1537"/>
                  </a:lnTo>
                  <a:lnTo>
                    <a:pt x="336" y="1525"/>
                  </a:lnTo>
                  <a:lnTo>
                    <a:pt x="336" y="1519"/>
                  </a:lnTo>
                  <a:lnTo>
                    <a:pt x="342" y="1507"/>
                  </a:lnTo>
                  <a:lnTo>
                    <a:pt x="342" y="1494"/>
                  </a:lnTo>
                  <a:lnTo>
                    <a:pt x="348" y="1488"/>
                  </a:lnTo>
                  <a:lnTo>
                    <a:pt x="348" y="1476"/>
                  </a:lnTo>
                  <a:lnTo>
                    <a:pt x="348" y="1470"/>
                  </a:lnTo>
                  <a:lnTo>
                    <a:pt x="354" y="1458"/>
                  </a:lnTo>
                  <a:lnTo>
                    <a:pt x="354" y="1446"/>
                  </a:lnTo>
                  <a:lnTo>
                    <a:pt x="359" y="1440"/>
                  </a:lnTo>
                  <a:lnTo>
                    <a:pt x="359" y="1428"/>
                  </a:lnTo>
                  <a:lnTo>
                    <a:pt x="359" y="1422"/>
                  </a:lnTo>
                  <a:lnTo>
                    <a:pt x="365" y="1410"/>
                  </a:lnTo>
                  <a:lnTo>
                    <a:pt x="365" y="1398"/>
                  </a:lnTo>
                  <a:lnTo>
                    <a:pt x="371" y="1392"/>
                  </a:lnTo>
                  <a:lnTo>
                    <a:pt x="371" y="1380"/>
                  </a:lnTo>
                  <a:lnTo>
                    <a:pt x="371" y="1368"/>
                  </a:lnTo>
                  <a:lnTo>
                    <a:pt x="377" y="1362"/>
                  </a:lnTo>
                  <a:lnTo>
                    <a:pt x="377" y="1350"/>
                  </a:lnTo>
                  <a:lnTo>
                    <a:pt x="377" y="1338"/>
                  </a:lnTo>
                  <a:lnTo>
                    <a:pt x="383" y="1332"/>
                  </a:lnTo>
                  <a:lnTo>
                    <a:pt x="383" y="1320"/>
                  </a:lnTo>
                  <a:lnTo>
                    <a:pt x="388" y="1308"/>
                  </a:lnTo>
                  <a:lnTo>
                    <a:pt x="388" y="1296"/>
                  </a:lnTo>
                  <a:lnTo>
                    <a:pt x="388" y="1290"/>
                  </a:lnTo>
                  <a:lnTo>
                    <a:pt x="394" y="1278"/>
                  </a:lnTo>
                  <a:lnTo>
                    <a:pt x="394" y="1266"/>
                  </a:lnTo>
                  <a:lnTo>
                    <a:pt x="400" y="1260"/>
                  </a:lnTo>
                  <a:lnTo>
                    <a:pt x="400" y="1248"/>
                  </a:lnTo>
                  <a:lnTo>
                    <a:pt x="400" y="1236"/>
                  </a:lnTo>
                  <a:lnTo>
                    <a:pt x="406" y="1224"/>
                  </a:lnTo>
                  <a:lnTo>
                    <a:pt x="406" y="1218"/>
                  </a:lnTo>
                  <a:lnTo>
                    <a:pt x="412" y="1206"/>
                  </a:lnTo>
                  <a:lnTo>
                    <a:pt x="412" y="1194"/>
                  </a:lnTo>
                  <a:lnTo>
                    <a:pt x="412" y="1182"/>
                  </a:lnTo>
                  <a:lnTo>
                    <a:pt x="417" y="1170"/>
                  </a:lnTo>
                  <a:lnTo>
                    <a:pt x="417" y="1164"/>
                  </a:lnTo>
                  <a:lnTo>
                    <a:pt x="417" y="1152"/>
                  </a:lnTo>
                  <a:lnTo>
                    <a:pt x="423" y="1140"/>
                  </a:lnTo>
                  <a:lnTo>
                    <a:pt x="423" y="1128"/>
                  </a:lnTo>
                  <a:lnTo>
                    <a:pt x="429" y="1116"/>
                  </a:lnTo>
                  <a:lnTo>
                    <a:pt x="429" y="1110"/>
                  </a:lnTo>
                  <a:lnTo>
                    <a:pt x="429" y="1098"/>
                  </a:lnTo>
                  <a:lnTo>
                    <a:pt x="435" y="1086"/>
                  </a:lnTo>
                  <a:lnTo>
                    <a:pt x="435" y="1074"/>
                  </a:lnTo>
                  <a:lnTo>
                    <a:pt x="441" y="1062"/>
                  </a:lnTo>
                  <a:lnTo>
                    <a:pt x="441" y="1050"/>
                  </a:lnTo>
                  <a:lnTo>
                    <a:pt x="441" y="1044"/>
                  </a:lnTo>
                  <a:lnTo>
                    <a:pt x="446" y="1032"/>
                  </a:lnTo>
                  <a:lnTo>
                    <a:pt x="446" y="1020"/>
                  </a:lnTo>
                  <a:lnTo>
                    <a:pt x="452" y="1008"/>
                  </a:lnTo>
                  <a:lnTo>
                    <a:pt x="452" y="996"/>
                  </a:lnTo>
                  <a:lnTo>
                    <a:pt x="452" y="984"/>
                  </a:lnTo>
                  <a:lnTo>
                    <a:pt x="458" y="972"/>
                  </a:lnTo>
                  <a:lnTo>
                    <a:pt x="458" y="960"/>
                  </a:lnTo>
                  <a:lnTo>
                    <a:pt x="458" y="954"/>
                  </a:lnTo>
                  <a:lnTo>
                    <a:pt x="464" y="942"/>
                  </a:lnTo>
                  <a:lnTo>
                    <a:pt x="464" y="930"/>
                  </a:lnTo>
                  <a:lnTo>
                    <a:pt x="470" y="918"/>
                  </a:lnTo>
                  <a:lnTo>
                    <a:pt x="470" y="906"/>
                  </a:lnTo>
                  <a:lnTo>
                    <a:pt x="470" y="894"/>
                  </a:lnTo>
                  <a:lnTo>
                    <a:pt x="475" y="882"/>
                  </a:lnTo>
                  <a:lnTo>
                    <a:pt x="475" y="870"/>
                  </a:lnTo>
                  <a:lnTo>
                    <a:pt x="481" y="858"/>
                  </a:lnTo>
                  <a:lnTo>
                    <a:pt x="481" y="846"/>
                  </a:lnTo>
                  <a:lnTo>
                    <a:pt x="481" y="834"/>
                  </a:lnTo>
                  <a:lnTo>
                    <a:pt x="487" y="822"/>
                  </a:lnTo>
                  <a:lnTo>
                    <a:pt x="487" y="810"/>
                  </a:lnTo>
                  <a:lnTo>
                    <a:pt x="493" y="798"/>
                  </a:lnTo>
                  <a:lnTo>
                    <a:pt x="493" y="786"/>
                  </a:lnTo>
                  <a:lnTo>
                    <a:pt x="493" y="774"/>
                  </a:lnTo>
                  <a:lnTo>
                    <a:pt x="499" y="762"/>
                  </a:lnTo>
                  <a:lnTo>
                    <a:pt x="499" y="750"/>
                  </a:lnTo>
                  <a:lnTo>
                    <a:pt x="499" y="738"/>
                  </a:lnTo>
                  <a:lnTo>
                    <a:pt x="504" y="726"/>
                  </a:lnTo>
                  <a:lnTo>
                    <a:pt x="504" y="714"/>
                  </a:lnTo>
                  <a:lnTo>
                    <a:pt x="510" y="702"/>
                  </a:lnTo>
                  <a:lnTo>
                    <a:pt x="510" y="690"/>
                  </a:lnTo>
                  <a:lnTo>
                    <a:pt x="510" y="678"/>
                  </a:lnTo>
                  <a:lnTo>
                    <a:pt x="516" y="666"/>
                  </a:lnTo>
                  <a:lnTo>
                    <a:pt x="516" y="654"/>
                  </a:lnTo>
                  <a:lnTo>
                    <a:pt x="522" y="642"/>
                  </a:lnTo>
                  <a:lnTo>
                    <a:pt x="522" y="630"/>
                  </a:lnTo>
                  <a:lnTo>
                    <a:pt x="522" y="618"/>
                  </a:lnTo>
                  <a:lnTo>
                    <a:pt x="528" y="606"/>
                  </a:lnTo>
                  <a:lnTo>
                    <a:pt x="528" y="588"/>
                  </a:lnTo>
                  <a:lnTo>
                    <a:pt x="533" y="576"/>
                  </a:lnTo>
                  <a:lnTo>
                    <a:pt x="533" y="564"/>
                  </a:lnTo>
                  <a:lnTo>
                    <a:pt x="533" y="552"/>
                  </a:lnTo>
                  <a:lnTo>
                    <a:pt x="539" y="540"/>
                  </a:lnTo>
                  <a:lnTo>
                    <a:pt x="539" y="528"/>
                  </a:lnTo>
                  <a:lnTo>
                    <a:pt x="539" y="516"/>
                  </a:lnTo>
                  <a:lnTo>
                    <a:pt x="545" y="504"/>
                  </a:lnTo>
                  <a:lnTo>
                    <a:pt x="545" y="492"/>
                  </a:lnTo>
                  <a:lnTo>
                    <a:pt x="551" y="474"/>
                  </a:lnTo>
                  <a:lnTo>
                    <a:pt x="551" y="462"/>
                  </a:lnTo>
                  <a:lnTo>
                    <a:pt x="551" y="450"/>
                  </a:lnTo>
                  <a:lnTo>
                    <a:pt x="557" y="438"/>
                  </a:lnTo>
                  <a:lnTo>
                    <a:pt x="557" y="426"/>
                  </a:lnTo>
                  <a:lnTo>
                    <a:pt x="562" y="414"/>
                  </a:lnTo>
                  <a:lnTo>
                    <a:pt x="562" y="396"/>
                  </a:lnTo>
                  <a:lnTo>
                    <a:pt x="562" y="384"/>
                  </a:lnTo>
                  <a:lnTo>
                    <a:pt x="568" y="372"/>
                  </a:lnTo>
                  <a:lnTo>
                    <a:pt x="568" y="360"/>
                  </a:lnTo>
                  <a:lnTo>
                    <a:pt x="574" y="348"/>
                  </a:lnTo>
                  <a:lnTo>
                    <a:pt x="574" y="330"/>
                  </a:lnTo>
                  <a:lnTo>
                    <a:pt x="574" y="318"/>
                  </a:lnTo>
                  <a:lnTo>
                    <a:pt x="580" y="306"/>
                  </a:lnTo>
                  <a:lnTo>
                    <a:pt x="580" y="294"/>
                  </a:lnTo>
                  <a:lnTo>
                    <a:pt x="580" y="276"/>
                  </a:lnTo>
                  <a:lnTo>
                    <a:pt x="586" y="264"/>
                  </a:lnTo>
                  <a:lnTo>
                    <a:pt x="586" y="252"/>
                  </a:lnTo>
                  <a:lnTo>
                    <a:pt x="591" y="240"/>
                  </a:lnTo>
                  <a:lnTo>
                    <a:pt x="591" y="222"/>
                  </a:lnTo>
                  <a:lnTo>
                    <a:pt x="591" y="210"/>
                  </a:lnTo>
                  <a:lnTo>
                    <a:pt x="597" y="198"/>
                  </a:lnTo>
                  <a:lnTo>
                    <a:pt x="597" y="186"/>
                  </a:lnTo>
                  <a:lnTo>
                    <a:pt x="603" y="168"/>
                  </a:lnTo>
                  <a:lnTo>
                    <a:pt x="603" y="156"/>
                  </a:lnTo>
                  <a:lnTo>
                    <a:pt x="603" y="144"/>
                  </a:lnTo>
                  <a:lnTo>
                    <a:pt x="609" y="126"/>
                  </a:lnTo>
                  <a:lnTo>
                    <a:pt x="609" y="114"/>
                  </a:lnTo>
                  <a:lnTo>
                    <a:pt x="609" y="102"/>
                  </a:lnTo>
                  <a:lnTo>
                    <a:pt x="615" y="84"/>
                  </a:lnTo>
                  <a:lnTo>
                    <a:pt x="615" y="72"/>
                  </a:lnTo>
                  <a:lnTo>
                    <a:pt x="620" y="60"/>
                  </a:lnTo>
                  <a:lnTo>
                    <a:pt x="620" y="42"/>
                  </a:lnTo>
                  <a:lnTo>
                    <a:pt x="620" y="30"/>
                  </a:lnTo>
                  <a:lnTo>
                    <a:pt x="626" y="18"/>
                  </a:lnTo>
                  <a:lnTo>
                    <a:pt x="626" y="0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01320" y="476064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327880" y="32353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472428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44500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5445000"/>
            <a:ext cx="727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580536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2708280"/>
            <a:ext cx="0" cy="352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45000"/>
            <a:ext cx="475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ями уравнения явл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c2e"/>
                </a:solidFill>
                <a:latin typeface="Arial"/>
              </a:rPr>
              <a:t>абсциссы точек пересечения с осью 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 -1,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7800" y="472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c2e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80360" y="4724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c2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6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125360"/>
            <a:ext cx="74880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график функции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2х –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– парабола, ветв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: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0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-       ,    а = 1,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 2,    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-         =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1840" y="1846440"/>
                <a:ext cx="338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300720" y="1844640"/>
                <a:ext cx="44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11280" y="2492280"/>
            <a:ext cx="26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– 3 = - 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2924280"/>
            <a:ext cx="46814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Симметричные точки:  х = 0 и х = 2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(0) = у (2) = 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– 3 = - 3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; - 3),  (2; -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Дополнительные точки:   х = - 1 и  х = 3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(- 1) = у (3) = 1 + 2 – 3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 1; 0),   (3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; -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44000" y="47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0072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33336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4249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ить уравнение</a:t>
            </a:r>
            <a:endParaRPr b="0" lang="en-US" sz="1800" spc="1" strike="noStrike">
              <a:ln w="12600">
                <a:solidFill>
                  <a:srgbClr val="24249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360" y="-11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520" y="912960"/>
            <a:ext cx="29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разуем уравн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32000" y="907920"/>
                <a:ext cx="165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859640" y="9079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и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796000" y="907920"/>
                <a:ext cx="1158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-199800" y="1268280"/>
            <a:ext cx="65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роим в одной системе координат графики функций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300720" y="1268280"/>
                <a:ext cx="24480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9640" y="1989000"/>
                <a:ext cx="10810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909440" y="2133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это пара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2852640"/>
                <a:ext cx="1224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053080" y="2852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это 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6093000"/>
            <a:ext cx="3887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62640" y="4540320"/>
            <a:ext cx="73080" cy="73080"/>
          </a:xfrm>
          <a:prstGeom prst="ellipse">
            <a:avLst/>
          </a:prstGeom>
          <a:solidFill>
            <a:srgbClr val="c00c2e"/>
          </a:solidFill>
          <a:ln cap="sq" w="12600">
            <a:solidFill>
              <a:srgbClr val="c00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9800" y="5126040"/>
            <a:ext cx="73080" cy="73080"/>
          </a:xfrm>
          <a:prstGeom prst="ellipse">
            <a:avLst/>
          </a:prstGeom>
          <a:solidFill>
            <a:srgbClr val="c00c2e"/>
          </a:solidFill>
          <a:ln cap="sq" w="12600">
            <a:solidFill>
              <a:srgbClr val="c00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64320" y="483696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50040" y="4846680"/>
            <a:ext cx="727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57499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48480" y="5754600"/>
            <a:ext cx="727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37200" y="60451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884840" y="1916280"/>
            <a:ext cx="2350800" cy="4163760"/>
            <a:chOff x="4884840" y="1916280"/>
            <a:chExt cx="2350800" cy="4163760"/>
          </a:xfrm>
        </p:grpSpPr>
        <p:sp>
          <p:nvSpPr>
            <p:cNvPr id="109" name=""/>
            <p:cNvSpPr/>
            <p:nvPr/>
          </p:nvSpPr>
          <p:spPr>
            <a:xfrm>
              <a:off x="4884840" y="1916280"/>
              <a:ext cx="1540440" cy="4163760"/>
            </a:xfrm>
            <a:custGeom>
              <a:avLst/>
              <a:gdLst/>
              <a:ahLst/>
              <a:rect l="l" t="t" r="r" b="b"/>
              <a:pathLst>
                <a:path w="1096" h="2719">
                  <a:moveTo>
                    <a:pt x="0" y="0"/>
                  </a:moveTo>
                  <a:lnTo>
                    <a:pt x="0" y="18"/>
                  </a:lnTo>
                  <a:lnTo>
                    <a:pt x="5" y="30"/>
                  </a:lnTo>
                  <a:lnTo>
                    <a:pt x="5" y="42"/>
                  </a:lnTo>
                  <a:lnTo>
                    <a:pt x="11" y="60"/>
                  </a:lnTo>
                  <a:lnTo>
                    <a:pt x="11" y="72"/>
                  </a:lnTo>
                  <a:lnTo>
                    <a:pt x="11" y="84"/>
                  </a:lnTo>
                  <a:lnTo>
                    <a:pt x="17" y="102"/>
                  </a:lnTo>
                  <a:lnTo>
                    <a:pt x="17" y="114"/>
                  </a:lnTo>
                  <a:lnTo>
                    <a:pt x="17" y="126"/>
                  </a:lnTo>
                  <a:lnTo>
                    <a:pt x="23" y="144"/>
                  </a:lnTo>
                  <a:lnTo>
                    <a:pt x="23" y="156"/>
                  </a:lnTo>
                  <a:lnTo>
                    <a:pt x="29" y="168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4" y="210"/>
                  </a:lnTo>
                  <a:lnTo>
                    <a:pt x="34" y="222"/>
                  </a:lnTo>
                  <a:lnTo>
                    <a:pt x="40" y="240"/>
                  </a:lnTo>
                  <a:lnTo>
                    <a:pt x="40" y="252"/>
                  </a:lnTo>
                  <a:lnTo>
                    <a:pt x="40" y="264"/>
                  </a:lnTo>
                  <a:lnTo>
                    <a:pt x="46" y="276"/>
                  </a:lnTo>
                  <a:lnTo>
                    <a:pt x="46" y="294"/>
                  </a:lnTo>
                  <a:lnTo>
                    <a:pt x="52" y="306"/>
                  </a:lnTo>
                  <a:lnTo>
                    <a:pt x="52" y="318"/>
                  </a:lnTo>
                  <a:lnTo>
                    <a:pt x="52" y="330"/>
                  </a:lnTo>
                  <a:lnTo>
                    <a:pt x="58" y="348"/>
                  </a:lnTo>
                  <a:lnTo>
                    <a:pt x="58" y="360"/>
                  </a:lnTo>
                  <a:lnTo>
                    <a:pt x="58" y="372"/>
                  </a:lnTo>
                  <a:lnTo>
                    <a:pt x="63" y="384"/>
                  </a:lnTo>
                  <a:lnTo>
                    <a:pt x="63" y="396"/>
                  </a:lnTo>
                  <a:lnTo>
                    <a:pt x="69" y="414"/>
                  </a:lnTo>
                  <a:lnTo>
                    <a:pt x="69" y="426"/>
                  </a:lnTo>
                  <a:lnTo>
                    <a:pt x="69" y="438"/>
                  </a:lnTo>
                  <a:lnTo>
                    <a:pt x="75" y="450"/>
                  </a:lnTo>
                  <a:lnTo>
                    <a:pt x="75" y="462"/>
                  </a:lnTo>
                  <a:lnTo>
                    <a:pt x="81" y="474"/>
                  </a:lnTo>
                  <a:lnTo>
                    <a:pt x="81" y="492"/>
                  </a:lnTo>
                  <a:lnTo>
                    <a:pt x="81" y="504"/>
                  </a:lnTo>
                  <a:lnTo>
                    <a:pt x="87" y="516"/>
                  </a:lnTo>
                  <a:lnTo>
                    <a:pt x="87" y="528"/>
                  </a:lnTo>
                  <a:lnTo>
                    <a:pt x="92" y="540"/>
                  </a:lnTo>
                  <a:lnTo>
                    <a:pt x="92" y="552"/>
                  </a:lnTo>
                  <a:lnTo>
                    <a:pt x="92" y="564"/>
                  </a:lnTo>
                  <a:lnTo>
                    <a:pt x="98" y="576"/>
                  </a:lnTo>
                  <a:lnTo>
                    <a:pt x="98" y="588"/>
                  </a:lnTo>
                  <a:lnTo>
                    <a:pt x="98" y="606"/>
                  </a:lnTo>
                  <a:lnTo>
                    <a:pt x="104" y="618"/>
                  </a:lnTo>
                  <a:lnTo>
                    <a:pt x="104" y="630"/>
                  </a:lnTo>
                  <a:lnTo>
                    <a:pt x="110" y="642"/>
                  </a:lnTo>
                  <a:lnTo>
                    <a:pt x="110" y="654"/>
                  </a:lnTo>
                  <a:lnTo>
                    <a:pt x="110" y="666"/>
                  </a:lnTo>
                  <a:lnTo>
                    <a:pt x="116" y="678"/>
                  </a:lnTo>
                  <a:lnTo>
                    <a:pt x="116" y="690"/>
                  </a:lnTo>
                  <a:lnTo>
                    <a:pt x="121" y="702"/>
                  </a:lnTo>
                  <a:lnTo>
                    <a:pt x="121" y="714"/>
                  </a:lnTo>
                  <a:lnTo>
                    <a:pt x="121" y="726"/>
                  </a:lnTo>
                  <a:lnTo>
                    <a:pt x="127" y="738"/>
                  </a:lnTo>
                  <a:lnTo>
                    <a:pt x="127" y="750"/>
                  </a:lnTo>
                  <a:lnTo>
                    <a:pt x="133" y="762"/>
                  </a:lnTo>
                  <a:lnTo>
                    <a:pt x="133" y="774"/>
                  </a:lnTo>
                  <a:lnTo>
                    <a:pt x="133" y="786"/>
                  </a:lnTo>
                  <a:lnTo>
                    <a:pt x="139" y="798"/>
                  </a:lnTo>
                  <a:lnTo>
                    <a:pt x="139" y="810"/>
                  </a:lnTo>
                  <a:lnTo>
                    <a:pt x="139" y="822"/>
                  </a:lnTo>
                  <a:lnTo>
                    <a:pt x="145" y="834"/>
                  </a:lnTo>
                  <a:lnTo>
                    <a:pt x="145" y="846"/>
                  </a:lnTo>
                  <a:lnTo>
                    <a:pt x="150" y="858"/>
                  </a:lnTo>
                  <a:lnTo>
                    <a:pt x="150" y="870"/>
                  </a:lnTo>
                  <a:lnTo>
                    <a:pt x="150" y="882"/>
                  </a:lnTo>
                  <a:lnTo>
                    <a:pt x="156" y="894"/>
                  </a:lnTo>
                  <a:lnTo>
                    <a:pt x="156" y="906"/>
                  </a:lnTo>
                  <a:lnTo>
                    <a:pt x="162" y="918"/>
                  </a:lnTo>
                  <a:lnTo>
                    <a:pt x="162" y="930"/>
                  </a:lnTo>
                  <a:lnTo>
                    <a:pt x="162" y="942"/>
                  </a:lnTo>
                  <a:lnTo>
                    <a:pt x="168" y="954"/>
                  </a:lnTo>
                  <a:lnTo>
                    <a:pt x="168" y="960"/>
                  </a:lnTo>
                  <a:lnTo>
                    <a:pt x="174" y="972"/>
                  </a:lnTo>
                  <a:lnTo>
                    <a:pt x="174" y="984"/>
                  </a:lnTo>
                  <a:lnTo>
                    <a:pt x="174" y="996"/>
                  </a:lnTo>
                  <a:lnTo>
                    <a:pt x="179" y="1008"/>
                  </a:lnTo>
                  <a:lnTo>
                    <a:pt x="179" y="1020"/>
                  </a:lnTo>
                  <a:lnTo>
                    <a:pt x="179" y="1032"/>
                  </a:lnTo>
                  <a:lnTo>
                    <a:pt x="185" y="1044"/>
                  </a:lnTo>
                  <a:lnTo>
                    <a:pt x="185" y="1050"/>
                  </a:lnTo>
                  <a:lnTo>
                    <a:pt x="191" y="1062"/>
                  </a:lnTo>
                  <a:lnTo>
                    <a:pt x="191" y="1074"/>
                  </a:lnTo>
                  <a:lnTo>
                    <a:pt x="191" y="1086"/>
                  </a:lnTo>
                  <a:lnTo>
                    <a:pt x="197" y="1098"/>
                  </a:lnTo>
                  <a:lnTo>
                    <a:pt x="197" y="1110"/>
                  </a:lnTo>
                  <a:lnTo>
                    <a:pt x="203" y="1116"/>
                  </a:lnTo>
                  <a:lnTo>
                    <a:pt x="203" y="1128"/>
                  </a:lnTo>
                  <a:lnTo>
                    <a:pt x="203" y="1140"/>
                  </a:lnTo>
                  <a:lnTo>
                    <a:pt x="208" y="1152"/>
                  </a:lnTo>
                  <a:lnTo>
                    <a:pt x="208" y="1164"/>
                  </a:lnTo>
                  <a:lnTo>
                    <a:pt x="208" y="1170"/>
                  </a:lnTo>
                  <a:lnTo>
                    <a:pt x="214" y="1182"/>
                  </a:lnTo>
                  <a:lnTo>
                    <a:pt x="214" y="1194"/>
                  </a:lnTo>
                  <a:lnTo>
                    <a:pt x="220" y="1206"/>
                  </a:lnTo>
                  <a:lnTo>
                    <a:pt x="220" y="1218"/>
                  </a:lnTo>
                  <a:lnTo>
                    <a:pt x="220" y="1224"/>
                  </a:lnTo>
                  <a:lnTo>
                    <a:pt x="226" y="1236"/>
                  </a:lnTo>
                  <a:lnTo>
                    <a:pt x="226" y="1248"/>
                  </a:lnTo>
                  <a:lnTo>
                    <a:pt x="232" y="1260"/>
                  </a:lnTo>
                  <a:lnTo>
                    <a:pt x="232" y="1266"/>
                  </a:lnTo>
                  <a:lnTo>
                    <a:pt x="232" y="1278"/>
                  </a:lnTo>
                  <a:lnTo>
                    <a:pt x="237" y="1290"/>
                  </a:lnTo>
                  <a:lnTo>
                    <a:pt x="237" y="1296"/>
                  </a:lnTo>
                  <a:lnTo>
                    <a:pt x="243" y="1308"/>
                  </a:lnTo>
                  <a:lnTo>
                    <a:pt x="243" y="1320"/>
                  </a:lnTo>
                  <a:lnTo>
                    <a:pt x="243" y="1332"/>
                  </a:lnTo>
                  <a:lnTo>
                    <a:pt x="249" y="1338"/>
                  </a:lnTo>
                  <a:lnTo>
                    <a:pt x="249" y="1350"/>
                  </a:lnTo>
                  <a:lnTo>
                    <a:pt x="249" y="1362"/>
                  </a:lnTo>
                  <a:lnTo>
                    <a:pt x="255" y="1368"/>
                  </a:lnTo>
                  <a:lnTo>
                    <a:pt x="255" y="1380"/>
                  </a:lnTo>
                  <a:lnTo>
                    <a:pt x="261" y="1392"/>
                  </a:lnTo>
                  <a:lnTo>
                    <a:pt x="261" y="1398"/>
                  </a:lnTo>
                  <a:lnTo>
                    <a:pt x="261" y="1410"/>
                  </a:lnTo>
                  <a:lnTo>
                    <a:pt x="266" y="1422"/>
                  </a:lnTo>
                  <a:lnTo>
                    <a:pt x="266" y="1428"/>
                  </a:lnTo>
                  <a:lnTo>
                    <a:pt x="272" y="1440"/>
                  </a:lnTo>
                  <a:lnTo>
                    <a:pt x="272" y="1446"/>
                  </a:lnTo>
                  <a:lnTo>
                    <a:pt x="272" y="1458"/>
                  </a:lnTo>
                  <a:lnTo>
                    <a:pt x="278" y="1470"/>
                  </a:lnTo>
                  <a:lnTo>
                    <a:pt x="278" y="1476"/>
                  </a:lnTo>
                  <a:lnTo>
                    <a:pt x="284" y="1488"/>
                  </a:lnTo>
                  <a:lnTo>
                    <a:pt x="284" y="1494"/>
                  </a:lnTo>
                  <a:lnTo>
                    <a:pt x="284" y="1507"/>
                  </a:lnTo>
                  <a:lnTo>
                    <a:pt x="290" y="1519"/>
                  </a:lnTo>
                  <a:lnTo>
                    <a:pt x="290" y="1525"/>
                  </a:lnTo>
                  <a:lnTo>
                    <a:pt x="290" y="1537"/>
                  </a:lnTo>
                  <a:lnTo>
                    <a:pt x="295" y="1543"/>
                  </a:lnTo>
                  <a:lnTo>
                    <a:pt x="295" y="1555"/>
                  </a:lnTo>
                  <a:lnTo>
                    <a:pt x="301" y="1561"/>
                  </a:lnTo>
                  <a:lnTo>
                    <a:pt x="301" y="1573"/>
                  </a:lnTo>
                  <a:lnTo>
                    <a:pt x="301" y="1579"/>
                  </a:lnTo>
                  <a:lnTo>
                    <a:pt x="307" y="1591"/>
                  </a:lnTo>
                  <a:lnTo>
                    <a:pt x="307" y="1603"/>
                  </a:lnTo>
                  <a:lnTo>
                    <a:pt x="313" y="1609"/>
                  </a:lnTo>
                  <a:lnTo>
                    <a:pt x="313" y="1621"/>
                  </a:lnTo>
                  <a:lnTo>
                    <a:pt x="313" y="1627"/>
                  </a:lnTo>
                  <a:lnTo>
                    <a:pt x="319" y="1639"/>
                  </a:lnTo>
                  <a:lnTo>
                    <a:pt x="319" y="1645"/>
                  </a:lnTo>
                  <a:lnTo>
                    <a:pt x="324" y="1657"/>
                  </a:lnTo>
                  <a:lnTo>
                    <a:pt x="324" y="1663"/>
                  </a:lnTo>
                  <a:lnTo>
                    <a:pt x="324" y="1669"/>
                  </a:lnTo>
                  <a:lnTo>
                    <a:pt x="330" y="1681"/>
                  </a:lnTo>
                  <a:lnTo>
                    <a:pt x="330" y="1687"/>
                  </a:lnTo>
                  <a:lnTo>
                    <a:pt x="330" y="1699"/>
                  </a:lnTo>
                  <a:lnTo>
                    <a:pt x="336" y="1705"/>
                  </a:lnTo>
                  <a:lnTo>
                    <a:pt x="336" y="1717"/>
                  </a:lnTo>
                  <a:lnTo>
                    <a:pt x="342" y="1723"/>
                  </a:lnTo>
                  <a:lnTo>
                    <a:pt x="342" y="1735"/>
                  </a:lnTo>
                  <a:lnTo>
                    <a:pt x="342" y="1741"/>
                  </a:lnTo>
                  <a:lnTo>
                    <a:pt x="348" y="1747"/>
                  </a:lnTo>
                  <a:lnTo>
                    <a:pt x="348" y="1759"/>
                  </a:lnTo>
                  <a:lnTo>
                    <a:pt x="353" y="1765"/>
                  </a:lnTo>
                  <a:lnTo>
                    <a:pt x="353" y="1777"/>
                  </a:lnTo>
                  <a:lnTo>
                    <a:pt x="353" y="1783"/>
                  </a:lnTo>
                  <a:lnTo>
                    <a:pt x="359" y="1789"/>
                  </a:lnTo>
                  <a:lnTo>
                    <a:pt x="359" y="1801"/>
                  </a:lnTo>
                  <a:lnTo>
                    <a:pt x="365" y="1807"/>
                  </a:lnTo>
                  <a:lnTo>
                    <a:pt x="365" y="1819"/>
                  </a:lnTo>
                  <a:lnTo>
                    <a:pt x="365" y="1825"/>
                  </a:lnTo>
                  <a:lnTo>
                    <a:pt x="371" y="1831"/>
                  </a:lnTo>
                  <a:lnTo>
                    <a:pt x="371" y="1843"/>
                  </a:lnTo>
                  <a:lnTo>
                    <a:pt x="371" y="1849"/>
                  </a:lnTo>
                  <a:lnTo>
                    <a:pt x="377" y="1855"/>
                  </a:lnTo>
                  <a:lnTo>
                    <a:pt x="377" y="1867"/>
                  </a:lnTo>
                  <a:lnTo>
                    <a:pt x="382" y="1873"/>
                  </a:lnTo>
                  <a:lnTo>
                    <a:pt x="382" y="1879"/>
                  </a:lnTo>
                  <a:lnTo>
                    <a:pt x="382" y="1891"/>
                  </a:lnTo>
                  <a:lnTo>
                    <a:pt x="388" y="1897"/>
                  </a:lnTo>
                  <a:lnTo>
                    <a:pt x="388" y="1903"/>
                  </a:lnTo>
                  <a:lnTo>
                    <a:pt x="394" y="1915"/>
                  </a:lnTo>
                  <a:lnTo>
                    <a:pt x="394" y="1921"/>
                  </a:lnTo>
                  <a:lnTo>
                    <a:pt x="394" y="1927"/>
                  </a:lnTo>
                  <a:lnTo>
                    <a:pt x="400" y="1933"/>
                  </a:lnTo>
                  <a:lnTo>
                    <a:pt x="400" y="1945"/>
                  </a:lnTo>
                  <a:lnTo>
                    <a:pt x="406" y="1951"/>
                  </a:lnTo>
                  <a:lnTo>
                    <a:pt x="406" y="1957"/>
                  </a:lnTo>
                  <a:lnTo>
                    <a:pt x="406" y="1963"/>
                  </a:lnTo>
                  <a:lnTo>
                    <a:pt x="411" y="1975"/>
                  </a:lnTo>
                  <a:lnTo>
                    <a:pt x="411" y="1981"/>
                  </a:lnTo>
                  <a:lnTo>
                    <a:pt x="411" y="1987"/>
                  </a:lnTo>
                  <a:lnTo>
                    <a:pt x="417" y="1993"/>
                  </a:lnTo>
                  <a:lnTo>
                    <a:pt x="417" y="2005"/>
                  </a:lnTo>
                  <a:lnTo>
                    <a:pt x="423" y="2011"/>
                  </a:lnTo>
                  <a:lnTo>
                    <a:pt x="423" y="2017"/>
                  </a:lnTo>
                  <a:lnTo>
                    <a:pt x="423" y="2023"/>
                  </a:lnTo>
                  <a:lnTo>
                    <a:pt x="429" y="2029"/>
                  </a:lnTo>
                  <a:lnTo>
                    <a:pt x="429" y="2041"/>
                  </a:lnTo>
                  <a:lnTo>
                    <a:pt x="435" y="2047"/>
                  </a:lnTo>
                  <a:lnTo>
                    <a:pt x="435" y="2053"/>
                  </a:lnTo>
                  <a:lnTo>
                    <a:pt x="435" y="2059"/>
                  </a:lnTo>
                  <a:lnTo>
                    <a:pt x="440" y="2065"/>
                  </a:lnTo>
                  <a:lnTo>
                    <a:pt x="440" y="2071"/>
                  </a:lnTo>
                  <a:lnTo>
                    <a:pt x="446" y="2083"/>
                  </a:lnTo>
                  <a:lnTo>
                    <a:pt x="446" y="2089"/>
                  </a:lnTo>
                  <a:lnTo>
                    <a:pt x="446" y="2095"/>
                  </a:lnTo>
                  <a:lnTo>
                    <a:pt x="452" y="2101"/>
                  </a:lnTo>
                  <a:lnTo>
                    <a:pt x="452" y="2107"/>
                  </a:lnTo>
                  <a:lnTo>
                    <a:pt x="452" y="2113"/>
                  </a:lnTo>
                  <a:lnTo>
                    <a:pt x="458" y="2119"/>
                  </a:lnTo>
                  <a:lnTo>
                    <a:pt x="458" y="2125"/>
                  </a:lnTo>
                  <a:lnTo>
                    <a:pt x="464" y="2137"/>
                  </a:lnTo>
                  <a:lnTo>
                    <a:pt x="464" y="2143"/>
                  </a:lnTo>
                  <a:lnTo>
                    <a:pt x="464" y="2149"/>
                  </a:lnTo>
                  <a:lnTo>
                    <a:pt x="469" y="2155"/>
                  </a:lnTo>
                  <a:lnTo>
                    <a:pt x="469" y="2161"/>
                  </a:lnTo>
                  <a:lnTo>
                    <a:pt x="475" y="2167"/>
                  </a:lnTo>
                  <a:lnTo>
                    <a:pt x="475" y="2173"/>
                  </a:lnTo>
                  <a:lnTo>
                    <a:pt x="475" y="2179"/>
                  </a:lnTo>
                  <a:lnTo>
                    <a:pt x="481" y="2185"/>
                  </a:lnTo>
                  <a:lnTo>
                    <a:pt x="481" y="2191"/>
                  </a:lnTo>
                  <a:lnTo>
                    <a:pt x="487" y="2197"/>
                  </a:lnTo>
                  <a:lnTo>
                    <a:pt x="487" y="2203"/>
                  </a:lnTo>
                  <a:lnTo>
                    <a:pt x="487" y="2209"/>
                  </a:lnTo>
                  <a:lnTo>
                    <a:pt x="493" y="2215"/>
                  </a:lnTo>
                  <a:lnTo>
                    <a:pt x="493" y="2221"/>
                  </a:lnTo>
                  <a:lnTo>
                    <a:pt x="493" y="2227"/>
                  </a:lnTo>
                  <a:lnTo>
                    <a:pt x="498" y="2233"/>
                  </a:lnTo>
                  <a:lnTo>
                    <a:pt x="498" y="2239"/>
                  </a:lnTo>
                  <a:lnTo>
                    <a:pt x="504" y="2245"/>
                  </a:lnTo>
                  <a:lnTo>
                    <a:pt x="504" y="2251"/>
                  </a:lnTo>
                  <a:lnTo>
                    <a:pt x="504" y="2257"/>
                  </a:lnTo>
                  <a:lnTo>
                    <a:pt x="510" y="2263"/>
                  </a:lnTo>
                  <a:lnTo>
                    <a:pt x="510" y="2269"/>
                  </a:lnTo>
                  <a:lnTo>
                    <a:pt x="516" y="2275"/>
                  </a:lnTo>
                  <a:lnTo>
                    <a:pt x="516" y="2281"/>
                  </a:lnTo>
                  <a:lnTo>
                    <a:pt x="516" y="2287"/>
                  </a:lnTo>
                  <a:lnTo>
                    <a:pt x="522" y="2293"/>
                  </a:lnTo>
                  <a:lnTo>
                    <a:pt x="522" y="2299"/>
                  </a:lnTo>
                  <a:lnTo>
                    <a:pt x="527" y="2305"/>
                  </a:lnTo>
                  <a:lnTo>
                    <a:pt x="527" y="2311"/>
                  </a:lnTo>
                  <a:lnTo>
                    <a:pt x="527" y="2317"/>
                  </a:lnTo>
                  <a:lnTo>
                    <a:pt x="533" y="2323"/>
                  </a:lnTo>
                  <a:lnTo>
                    <a:pt x="533" y="2329"/>
                  </a:lnTo>
                  <a:lnTo>
                    <a:pt x="539" y="2335"/>
                  </a:lnTo>
                  <a:lnTo>
                    <a:pt x="539" y="2341"/>
                  </a:lnTo>
                  <a:lnTo>
                    <a:pt x="545" y="2347"/>
                  </a:lnTo>
                  <a:lnTo>
                    <a:pt x="545" y="2353"/>
                  </a:lnTo>
                  <a:lnTo>
                    <a:pt x="545" y="2359"/>
                  </a:lnTo>
                  <a:lnTo>
                    <a:pt x="551" y="2365"/>
                  </a:lnTo>
                  <a:lnTo>
                    <a:pt x="551" y="2371"/>
                  </a:lnTo>
                  <a:lnTo>
                    <a:pt x="556" y="2371"/>
                  </a:lnTo>
                  <a:lnTo>
                    <a:pt x="556" y="2377"/>
                  </a:lnTo>
                  <a:lnTo>
                    <a:pt x="556" y="2383"/>
                  </a:lnTo>
                  <a:lnTo>
                    <a:pt x="562" y="2389"/>
                  </a:lnTo>
                  <a:lnTo>
                    <a:pt x="562" y="2395"/>
                  </a:lnTo>
                  <a:lnTo>
                    <a:pt x="562" y="2401"/>
                  </a:lnTo>
                  <a:lnTo>
                    <a:pt x="568" y="2401"/>
                  </a:lnTo>
                  <a:lnTo>
                    <a:pt x="568" y="2407"/>
                  </a:lnTo>
                  <a:lnTo>
                    <a:pt x="574" y="2413"/>
                  </a:lnTo>
                  <a:lnTo>
                    <a:pt x="574" y="2419"/>
                  </a:lnTo>
                  <a:lnTo>
                    <a:pt x="580" y="2425"/>
                  </a:lnTo>
                  <a:lnTo>
                    <a:pt x="580" y="2431"/>
                  </a:lnTo>
                  <a:lnTo>
                    <a:pt x="585" y="2437"/>
                  </a:lnTo>
                  <a:lnTo>
                    <a:pt x="585" y="2443"/>
                  </a:lnTo>
                  <a:lnTo>
                    <a:pt x="591" y="2449"/>
                  </a:lnTo>
                  <a:lnTo>
                    <a:pt x="591" y="2455"/>
                  </a:lnTo>
                  <a:lnTo>
                    <a:pt x="597" y="2461"/>
                  </a:lnTo>
                  <a:lnTo>
                    <a:pt x="597" y="2467"/>
                  </a:lnTo>
                  <a:lnTo>
                    <a:pt x="603" y="2473"/>
                  </a:lnTo>
                  <a:lnTo>
                    <a:pt x="603" y="2479"/>
                  </a:lnTo>
                  <a:lnTo>
                    <a:pt x="609" y="2485"/>
                  </a:lnTo>
                  <a:lnTo>
                    <a:pt x="609" y="2491"/>
                  </a:lnTo>
                  <a:lnTo>
                    <a:pt x="614" y="2491"/>
                  </a:lnTo>
                  <a:lnTo>
                    <a:pt x="614" y="2497"/>
                  </a:lnTo>
                  <a:lnTo>
                    <a:pt x="614" y="2503"/>
                  </a:lnTo>
                  <a:lnTo>
                    <a:pt x="620" y="2503"/>
                  </a:lnTo>
                  <a:lnTo>
                    <a:pt x="620" y="2509"/>
                  </a:lnTo>
                  <a:lnTo>
                    <a:pt x="626" y="2515"/>
                  </a:lnTo>
                  <a:lnTo>
                    <a:pt x="626" y="2521"/>
                  </a:lnTo>
                  <a:lnTo>
                    <a:pt x="632" y="2521"/>
                  </a:lnTo>
                  <a:lnTo>
                    <a:pt x="632" y="2527"/>
                  </a:lnTo>
                  <a:lnTo>
                    <a:pt x="638" y="2533"/>
                  </a:lnTo>
                  <a:lnTo>
                    <a:pt x="638" y="2539"/>
                  </a:lnTo>
                  <a:lnTo>
                    <a:pt x="643" y="2545"/>
                  </a:lnTo>
                  <a:lnTo>
                    <a:pt x="643" y="2551"/>
                  </a:lnTo>
                  <a:lnTo>
                    <a:pt x="649" y="2551"/>
                  </a:lnTo>
                  <a:lnTo>
                    <a:pt x="649" y="2557"/>
                  </a:lnTo>
                  <a:lnTo>
                    <a:pt x="655" y="2563"/>
                  </a:lnTo>
                  <a:lnTo>
                    <a:pt x="655" y="2569"/>
                  </a:lnTo>
                  <a:lnTo>
                    <a:pt x="661" y="2569"/>
                  </a:lnTo>
                  <a:lnTo>
                    <a:pt x="661" y="2575"/>
                  </a:lnTo>
                  <a:lnTo>
                    <a:pt x="667" y="2575"/>
                  </a:lnTo>
                  <a:lnTo>
                    <a:pt x="667" y="2581"/>
                  </a:lnTo>
                  <a:lnTo>
                    <a:pt x="672" y="2587"/>
                  </a:lnTo>
                  <a:lnTo>
                    <a:pt x="678" y="2593"/>
                  </a:lnTo>
                  <a:lnTo>
                    <a:pt x="678" y="2599"/>
                  </a:lnTo>
                  <a:lnTo>
                    <a:pt x="684" y="2599"/>
                  </a:lnTo>
                  <a:lnTo>
                    <a:pt x="684" y="2605"/>
                  </a:lnTo>
                  <a:lnTo>
                    <a:pt x="690" y="2611"/>
                  </a:lnTo>
                  <a:lnTo>
                    <a:pt x="696" y="2617"/>
                  </a:lnTo>
                  <a:lnTo>
                    <a:pt x="696" y="2623"/>
                  </a:lnTo>
                  <a:lnTo>
                    <a:pt x="701" y="2623"/>
                  </a:lnTo>
                  <a:lnTo>
                    <a:pt x="701" y="2629"/>
                  </a:lnTo>
                  <a:lnTo>
                    <a:pt x="707" y="2629"/>
                  </a:lnTo>
                  <a:lnTo>
                    <a:pt x="707" y="2635"/>
                  </a:lnTo>
                  <a:lnTo>
                    <a:pt x="713" y="2635"/>
                  </a:lnTo>
                  <a:lnTo>
                    <a:pt x="713" y="2641"/>
                  </a:lnTo>
                  <a:lnTo>
                    <a:pt x="719" y="2641"/>
                  </a:lnTo>
                  <a:lnTo>
                    <a:pt x="719" y="2647"/>
                  </a:lnTo>
                  <a:lnTo>
                    <a:pt x="725" y="2647"/>
                  </a:lnTo>
                  <a:lnTo>
                    <a:pt x="725" y="2653"/>
                  </a:lnTo>
                  <a:lnTo>
                    <a:pt x="730" y="2653"/>
                  </a:lnTo>
                  <a:lnTo>
                    <a:pt x="730" y="2659"/>
                  </a:lnTo>
                  <a:lnTo>
                    <a:pt x="736" y="2659"/>
                  </a:lnTo>
                  <a:lnTo>
                    <a:pt x="736" y="2665"/>
                  </a:lnTo>
                  <a:lnTo>
                    <a:pt x="742" y="2665"/>
                  </a:lnTo>
                  <a:lnTo>
                    <a:pt x="748" y="2671"/>
                  </a:lnTo>
                  <a:lnTo>
                    <a:pt x="754" y="2677"/>
                  </a:lnTo>
                  <a:lnTo>
                    <a:pt x="759" y="2677"/>
                  </a:lnTo>
                  <a:lnTo>
                    <a:pt x="759" y="2683"/>
                  </a:lnTo>
                  <a:lnTo>
                    <a:pt x="765" y="2683"/>
                  </a:lnTo>
                  <a:lnTo>
                    <a:pt x="765" y="2689"/>
                  </a:lnTo>
                  <a:lnTo>
                    <a:pt x="771" y="2689"/>
                  </a:lnTo>
                  <a:lnTo>
                    <a:pt x="777" y="2689"/>
                  </a:lnTo>
                  <a:lnTo>
                    <a:pt x="777" y="2695"/>
                  </a:lnTo>
                  <a:lnTo>
                    <a:pt x="783" y="2695"/>
                  </a:lnTo>
                  <a:lnTo>
                    <a:pt x="788" y="2701"/>
                  </a:lnTo>
                  <a:lnTo>
                    <a:pt x="794" y="2701"/>
                  </a:lnTo>
                  <a:lnTo>
                    <a:pt x="800" y="2701"/>
                  </a:lnTo>
                  <a:lnTo>
                    <a:pt x="800" y="2707"/>
                  </a:lnTo>
                  <a:lnTo>
                    <a:pt x="806" y="2707"/>
                  </a:lnTo>
                  <a:lnTo>
                    <a:pt x="812" y="2707"/>
                  </a:lnTo>
                  <a:lnTo>
                    <a:pt x="812" y="2713"/>
                  </a:lnTo>
                  <a:lnTo>
                    <a:pt x="817" y="2713"/>
                  </a:lnTo>
                  <a:lnTo>
                    <a:pt x="823" y="2713"/>
                  </a:lnTo>
                  <a:lnTo>
                    <a:pt x="829" y="2713"/>
                  </a:lnTo>
                  <a:lnTo>
                    <a:pt x="835" y="2719"/>
                  </a:lnTo>
                  <a:lnTo>
                    <a:pt x="841" y="2719"/>
                  </a:lnTo>
                  <a:lnTo>
                    <a:pt x="846" y="2719"/>
                  </a:lnTo>
                  <a:lnTo>
                    <a:pt x="852" y="2719"/>
                  </a:lnTo>
                  <a:lnTo>
                    <a:pt x="858" y="2719"/>
                  </a:lnTo>
                  <a:lnTo>
                    <a:pt x="864" y="2719"/>
                  </a:lnTo>
                  <a:lnTo>
                    <a:pt x="870" y="2719"/>
                  </a:lnTo>
                  <a:lnTo>
                    <a:pt x="875" y="2719"/>
                  </a:lnTo>
                  <a:lnTo>
                    <a:pt x="881" y="2719"/>
                  </a:lnTo>
                  <a:lnTo>
                    <a:pt x="887" y="2719"/>
                  </a:lnTo>
                  <a:lnTo>
                    <a:pt x="893" y="2713"/>
                  </a:lnTo>
                  <a:lnTo>
                    <a:pt x="899" y="2713"/>
                  </a:lnTo>
                  <a:lnTo>
                    <a:pt x="904" y="2713"/>
                  </a:lnTo>
                  <a:lnTo>
                    <a:pt x="910" y="2713"/>
                  </a:lnTo>
                  <a:lnTo>
                    <a:pt x="910" y="2707"/>
                  </a:lnTo>
                  <a:lnTo>
                    <a:pt x="916" y="2707"/>
                  </a:lnTo>
                  <a:lnTo>
                    <a:pt x="922" y="2707"/>
                  </a:lnTo>
                  <a:lnTo>
                    <a:pt x="928" y="2701"/>
                  </a:lnTo>
                  <a:lnTo>
                    <a:pt x="933" y="2701"/>
                  </a:lnTo>
                  <a:lnTo>
                    <a:pt x="939" y="2701"/>
                  </a:lnTo>
                  <a:lnTo>
                    <a:pt x="939" y="2695"/>
                  </a:lnTo>
                  <a:lnTo>
                    <a:pt x="945" y="2695"/>
                  </a:lnTo>
                  <a:lnTo>
                    <a:pt x="951" y="2689"/>
                  </a:lnTo>
                  <a:lnTo>
                    <a:pt x="957" y="2689"/>
                  </a:lnTo>
                  <a:lnTo>
                    <a:pt x="957" y="2683"/>
                  </a:lnTo>
                  <a:lnTo>
                    <a:pt x="962" y="2683"/>
                  </a:lnTo>
                  <a:lnTo>
                    <a:pt x="968" y="2677"/>
                  </a:lnTo>
                  <a:lnTo>
                    <a:pt x="974" y="2671"/>
                  </a:lnTo>
                  <a:lnTo>
                    <a:pt x="980" y="2671"/>
                  </a:lnTo>
                  <a:lnTo>
                    <a:pt x="980" y="2665"/>
                  </a:lnTo>
                  <a:lnTo>
                    <a:pt x="986" y="2665"/>
                  </a:lnTo>
                  <a:lnTo>
                    <a:pt x="986" y="2659"/>
                  </a:lnTo>
                  <a:lnTo>
                    <a:pt x="991" y="2659"/>
                  </a:lnTo>
                  <a:lnTo>
                    <a:pt x="991" y="2653"/>
                  </a:lnTo>
                  <a:lnTo>
                    <a:pt x="997" y="2653"/>
                  </a:lnTo>
                  <a:lnTo>
                    <a:pt x="997" y="2647"/>
                  </a:lnTo>
                  <a:lnTo>
                    <a:pt x="1003" y="2647"/>
                  </a:lnTo>
                  <a:lnTo>
                    <a:pt x="1009" y="2641"/>
                  </a:lnTo>
                  <a:lnTo>
                    <a:pt x="1009" y="2635"/>
                  </a:lnTo>
                  <a:lnTo>
                    <a:pt x="1015" y="2635"/>
                  </a:lnTo>
                  <a:lnTo>
                    <a:pt x="1015" y="2629"/>
                  </a:lnTo>
                  <a:lnTo>
                    <a:pt x="1020" y="2629"/>
                  </a:lnTo>
                  <a:lnTo>
                    <a:pt x="1020" y="2623"/>
                  </a:lnTo>
                  <a:lnTo>
                    <a:pt x="1026" y="2623"/>
                  </a:lnTo>
                  <a:lnTo>
                    <a:pt x="1026" y="2617"/>
                  </a:lnTo>
                  <a:lnTo>
                    <a:pt x="1032" y="2617"/>
                  </a:lnTo>
                  <a:lnTo>
                    <a:pt x="1032" y="2611"/>
                  </a:lnTo>
                  <a:lnTo>
                    <a:pt x="1038" y="2605"/>
                  </a:lnTo>
                  <a:lnTo>
                    <a:pt x="1038" y="2599"/>
                  </a:lnTo>
                  <a:lnTo>
                    <a:pt x="1044" y="2599"/>
                  </a:lnTo>
                  <a:lnTo>
                    <a:pt x="1044" y="2593"/>
                  </a:lnTo>
                  <a:lnTo>
                    <a:pt x="1049" y="2593"/>
                  </a:lnTo>
                  <a:lnTo>
                    <a:pt x="1049" y="2587"/>
                  </a:lnTo>
                  <a:lnTo>
                    <a:pt x="1055" y="2581"/>
                  </a:lnTo>
                  <a:lnTo>
                    <a:pt x="1061" y="2575"/>
                  </a:lnTo>
                  <a:lnTo>
                    <a:pt x="1061" y="2569"/>
                  </a:lnTo>
                  <a:lnTo>
                    <a:pt x="1067" y="2569"/>
                  </a:lnTo>
                  <a:lnTo>
                    <a:pt x="1067" y="2563"/>
                  </a:lnTo>
                  <a:lnTo>
                    <a:pt x="1073" y="2563"/>
                  </a:lnTo>
                  <a:lnTo>
                    <a:pt x="1073" y="2557"/>
                  </a:lnTo>
                  <a:lnTo>
                    <a:pt x="1073" y="2551"/>
                  </a:lnTo>
                  <a:lnTo>
                    <a:pt x="1078" y="2551"/>
                  </a:lnTo>
                  <a:lnTo>
                    <a:pt x="1078" y="2545"/>
                  </a:lnTo>
                  <a:lnTo>
                    <a:pt x="1084" y="2539"/>
                  </a:lnTo>
                  <a:lnTo>
                    <a:pt x="1084" y="2533"/>
                  </a:lnTo>
                  <a:lnTo>
                    <a:pt x="1090" y="2533"/>
                  </a:lnTo>
                  <a:lnTo>
                    <a:pt x="1090" y="2527"/>
                  </a:lnTo>
                  <a:lnTo>
                    <a:pt x="1090" y="2521"/>
                  </a:lnTo>
                  <a:lnTo>
                    <a:pt x="1096" y="2521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8800" y="1919160"/>
              <a:ext cx="816840" cy="3872520"/>
            </a:xfrm>
            <a:custGeom>
              <a:avLst/>
              <a:gdLst/>
              <a:ahLst/>
              <a:rect l="l" t="t" r="r" b="b"/>
              <a:pathLst>
                <a:path w="626" h="2521">
                  <a:moveTo>
                    <a:pt x="0" y="2521"/>
                  </a:moveTo>
                  <a:lnTo>
                    <a:pt x="0" y="2515"/>
                  </a:lnTo>
                  <a:lnTo>
                    <a:pt x="6" y="2515"/>
                  </a:lnTo>
                  <a:lnTo>
                    <a:pt x="6" y="2509"/>
                  </a:lnTo>
                  <a:lnTo>
                    <a:pt x="6" y="2503"/>
                  </a:lnTo>
                  <a:lnTo>
                    <a:pt x="11" y="2503"/>
                  </a:lnTo>
                  <a:lnTo>
                    <a:pt x="11" y="2497"/>
                  </a:lnTo>
                  <a:lnTo>
                    <a:pt x="17" y="2491"/>
                  </a:lnTo>
                  <a:lnTo>
                    <a:pt x="17" y="2485"/>
                  </a:lnTo>
                  <a:lnTo>
                    <a:pt x="23" y="2479"/>
                  </a:lnTo>
                  <a:lnTo>
                    <a:pt x="23" y="2473"/>
                  </a:lnTo>
                  <a:lnTo>
                    <a:pt x="29" y="2467"/>
                  </a:lnTo>
                  <a:lnTo>
                    <a:pt x="29" y="2461"/>
                  </a:lnTo>
                  <a:lnTo>
                    <a:pt x="35" y="2461"/>
                  </a:lnTo>
                  <a:lnTo>
                    <a:pt x="35" y="2455"/>
                  </a:lnTo>
                  <a:lnTo>
                    <a:pt x="35" y="2449"/>
                  </a:lnTo>
                  <a:lnTo>
                    <a:pt x="40" y="2443"/>
                  </a:lnTo>
                  <a:lnTo>
                    <a:pt x="46" y="2437"/>
                  </a:lnTo>
                  <a:lnTo>
                    <a:pt x="46" y="2431"/>
                  </a:lnTo>
                  <a:lnTo>
                    <a:pt x="46" y="2425"/>
                  </a:lnTo>
                  <a:lnTo>
                    <a:pt x="52" y="2419"/>
                  </a:lnTo>
                  <a:lnTo>
                    <a:pt x="58" y="2413"/>
                  </a:lnTo>
                  <a:lnTo>
                    <a:pt x="58" y="2407"/>
                  </a:lnTo>
                  <a:lnTo>
                    <a:pt x="58" y="2401"/>
                  </a:lnTo>
                  <a:lnTo>
                    <a:pt x="64" y="2395"/>
                  </a:lnTo>
                  <a:lnTo>
                    <a:pt x="64" y="2389"/>
                  </a:lnTo>
                  <a:lnTo>
                    <a:pt x="69" y="2383"/>
                  </a:lnTo>
                  <a:lnTo>
                    <a:pt x="69" y="2377"/>
                  </a:lnTo>
                  <a:lnTo>
                    <a:pt x="75" y="2371"/>
                  </a:lnTo>
                  <a:lnTo>
                    <a:pt x="75" y="2365"/>
                  </a:lnTo>
                  <a:lnTo>
                    <a:pt x="81" y="2359"/>
                  </a:lnTo>
                  <a:lnTo>
                    <a:pt x="81" y="2353"/>
                  </a:lnTo>
                  <a:lnTo>
                    <a:pt x="87" y="2347"/>
                  </a:lnTo>
                  <a:lnTo>
                    <a:pt x="87" y="2341"/>
                  </a:lnTo>
                  <a:lnTo>
                    <a:pt x="87" y="2335"/>
                  </a:lnTo>
                  <a:lnTo>
                    <a:pt x="93" y="2329"/>
                  </a:lnTo>
                  <a:lnTo>
                    <a:pt x="93" y="2323"/>
                  </a:lnTo>
                  <a:lnTo>
                    <a:pt x="98" y="2323"/>
                  </a:lnTo>
                  <a:lnTo>
                    <a:pt x="98" y="2317"/>
                  </a:lnTo>
                  <a:lnTo>
                    <a:pt x="98" y="2311"/>
                  </a:lnTo>
                  <a:lnTo>
                    <a:pt x="104" y="2305"/>
                  </a:lnTo>
                  <a:lnTo>
                    <a:pt x="104" y="2299"/>
                  </a:lnTo>
                  <a:lnTo>
                    <a:pt x="104" y="2293"/>
                  </a:lnTo>
                  <a:lnTo>
                    <a:pt x="110" y="2287"/>
                  </a:lnTo>
                  <a:lnTo>
                    <a:pt x="110" y="2281"/>
                  </a:lnTo>
                  <a:lnTo>
                    <a:pt x="116" y="2275"/>
                  </a:lnTo>
                  <a:lnTo>
                    <a:pt x="116" y="2269"/>
                  </a:lnTo>
                  <a:lnTo>
                    <a:pt x="116" y="2263"/>
                  </a:lnTo>
                  <a:lnTo>
                    <a:pt x="122" y="2257"/>
                  </a:lnTo>
                  <a:lnTo>
                    <a:pt x="122" y="2251"/>
                  </a:lnTo>
                  <a:lnTo>
                    <a:pt x="127" y="2245"/>
                  </a:lnTo>
                  <a:lnTo>
                    <a:pt x="127" y="2239"/>
                  </a:lnTo>
                  <a:lnTo>
                    <a:pt x="127" y="2233"/>
                  </a:lnTo>
                  <a:lnTo>
                    <a:pt x="133" y="2227"/>
                  </a:lnTo>
                  <a:lnTo>
                    <a:pt x="133" y="2221"/>
                  </a:lnTo>
                  <a:lnTo>
                    <a:pt x="139" y="2215"/>
                  </a:lnTo>
                  <a:lnTo>
                    <a:pt x="139" y="2209"/>
                  </a:lnTo>
                  <a:lnTo>
                    <a:pt x="139" y="2203"/>
                  </a:lnTo>
                  <a:lnTo>
                    <a:pt x="145" y="2197"/>
                  </a:lnTo>
                  <a:lnTo>
                    <a:pt x="145" y="2191"/>
                  </a:lnTo>
                  <a:lnTo>
                    <a:pt x="145" y="2185"/>
                  </a:lnTo>
                  <a:lnTo>
                    <a:pt x="151" y="2179"/>
                  </a:lnTo>
                  <a:lnTo>
                    <a:pt x="151" y="2173"/>
                  </a:lnTo>
                  <a:lnTo>
                    <a:pt x="156" y="2167"/>
                  </a:lnTo>
                  <a:lnTo>
                    <a:pt x="156" y="2161"/>
                  </a:lnTo>
                  <a:lnTo>
                    <a:pt x="156" y="2155"/>
                  </a:lnTo>
                  <a:lnTo>
                    <a:pt x="162" y="2149"/>
                  </a:lnTo>
                  <a:lnTo>
                    <a:pt x="162" y="2143"/>
                  </a:lnTo>
                  <a:lnTo>
                    <a:pt x="168" y="2137"/>
                  </a:lnTo>
                  <a:lnTo>
                    <a:pt x="168" y="2125"/>
                  </a:lnTo>
                  <a:lnTo>
                    <a:pt x="168" y="2119"/>
                  </a:lnTo>
                  <a:lnTo>
                    <a:pt x="174" y="2113"/>
                  </a:lnTo>
                  <a:lnTo>
                    <a:pt x="174" y="2107"/>
                  </a:lnTo>
                  <a:lnTo>
                    <a:pt x="180" y="2101"/>
                  </a:lnTo>
                  <a:lnTo>
                    <a:pt x="180" y="2095"/>
                  </a:lnTo>
                  <a:lnTo>
                    <a:pt x="180" y="2089"/>
                  </a:lnTo>
                  <a:lnTo>
                    <a:pt x="185" y="2083"/>
                  </a:lnTo>
                  <a:lnTo>
                    <a:pt x="185" y="2071"/>
                  </a:lnTo>
                  <a:lnTo>
                    <a:pt x="185" y="2065"/>
                  </a:lnTo>
                  <a:lnTo>
                    <a:pt x="191" y="2059"/>
                  </a:lnTo>
                  <a:lnTo>
                    <a:pt x="191" y="2053"/>
                  </a:lnTo>
                  <a:lnTo>
                    <a:pt x="197" y="2047"/>
                  </a:lnTo>
                  <a:lnTo>
                    <a:pt x="197" y="2041"/>
                  </a:lnTo>
                  <a:lnTo>
                    <a:pt x="197" y="2029"/>
                  </a:lnTo>
                  <a:lnTo>
                    <a:pt x="203" y="2023"/>
                  </a:lnTo>
                  <a:lnTo>
                    <a:pt x="203" y="2017"/>
                  </a:lnTo>
                  <a:lnTo>
                    <a:pt x="209" y="2011"/>
                  </a:lnTo>
                  <a:lnTo>
                    <a:pt x="209" y="2005"/>
                  </a:lnTo>
                  <a:lnTo>
                    <a:pt x="209" y="1993"/>
                  </a:lnTo>
                  <a:lnTo>
                    <a:pt x="214" y="1987"/>
                  </a:lnTo>
                  <a:lnTo>
                    <a:pt x="214" y="1981"/>
                  </a:lnTo>
                  <a:lnTo>
                    <a:pt x="214" y="1975"/>
                  </a:lnTo>
                  <a:lnTo>
                    <a:pt x="220" y="1963"/>
                  </a:lnTo>
                  <a:lnTo>
                    <a:pt x="220" y="1957"/>
                  </a:lnTo>
                  <a:lnTo>
                    <a:pt x="226" y="1951"/>
                  </a:lnTo>
                  <a:lnTo>
                    <a:pt x="226" y="1945"/>
                  </a:lnTo>
                  <a:lnTo>
                    <a:pt x="226" y="1933"/>
                  </a:lnTo>
                  <a:lnTo>
                    <a:pt x="232" y="1927"/>
                  </a:lnTo>
                  <a:lnTo>
                    <a:pt x="232" y="1921"/>
                  </a:lnTo>
                  <a:lnTo>
                    <a:pt x="238" y="1909"/>
                  </a:lnTo>
                  <a:lnTo>
                    <a:pt x="238" y="1903"/>
                  </a:lnTo>
                  <a:lnTo>
                    <a:pt x="238" y="1897"/>
                  </a:lnTo>
                  <a:lnTo>
                    <a:pt x="243" y="1891"/>
                  </a:lnTo>
                  <a:lnTo>
                    <a:pt x="243" y="1879"/>
                  </a:lnTo>
                  <a:lnTo>
                    <a:pt x="249" y="1873"/>
                  </a:lnTo>
                  <a:lnTo>
                    <a:pt x="249" y="1867"/>
                  </a:lnTo>
                  <a:lnTo>
                    <a:pt x="249" y="1855"/>
                  </a:lnTo>
                  <a:lnTo>
                    <a:pt x="255" y="1849"/>
                  </a:lnTo>
                  <a:lnTo>
                    <a:pt x="255" y="1843"/>
                  </a:lnTo>
                  <a:lnTo>
                    <a:pt x="255" y="1831"/>
                  </a:lnTo>
                  <a:lnTo>
                    <a:pt x="261" y="1825"/>
                  </a:lnTo>
                  <a:lnTo>
                    <a:pt x="261" y="1819"/>
                  </a:lnTo>
                  <a:lnTo>
                    <a:pt x="267" y="1807"/>
                  </a:lnTo>
                  <a:lnTo>
                    <a:pt x="267" y="1801"/>
                  </a:lnTo>
                  <a:lnTo>
                    <a:pt x="267" y="1789"/>
                  </a:lnTo>
                  <a:lnTo>
                    <a:pt x="272" y="1783"/>
                  </a:lnTo>
                  <a:lnTo>
                    <a:pt x="272" y="1777"/>
                  </a:lnTo>
                  <a:lnTo>
                    <a:pt x="278" y="1765"/>
                  </a:lnTo>
                  <a:lnTo>
                    <a:pt x="278" y="1759"/>
                  </a:lnTo>
                  <a:lnTo>
                    <a:pt x="278" y="1747"/>
                  </a:lnTo>
                  <a:lnTo>
                    <a:pt x="284" y="1741"/>
                  </a:lnTo>
                  <a:lnTo>
                    <a:pt x="284" y="1735"/>
                  </a:lnTo>
                  <a:lnTo>
                    <a:pt x="290" y="1723"/>
                  </a:lnTo>
                  <a:lnTo>
                    <a:pt x="290" y="1717"/>
                  </a:lnTo>
                  <a:lnTo>
                    <a:pt x="290" y="1705"/>
                  </a:lnTo>
                  <a:lnTo>
                    <a:pt x="296" y="1699"/>
                  </a:lnTo>
                  <a:lnTo>
                    <a:pt x="296" y="1687"/>
                  </a:lnTo>
                  <a:lnTo>
                    <a:pt x="296" y="1681"/>
                  </a:lnTo>
                  <a:lnTo>
                    <a:pt x="301" y="1669"/>
                  </a:lnTo>
                  <a:lnTo>
                    <a:pt x="301" y="1663"/>
                  </a:lnTo>
                  <a:lnTo>
                    <a:pt x="307" y="1657"/>
                  </a:lnTo>
                  <a:lnTo>
                    <a:pt x="307" y="1645"/>
                  </a:lnTo>
                  <a:lnTo>
                    <a:pt x="307" y="1639"/>
                  </a:lnTo>
                  <a:lnTo>
                    <a:pt x="313" y="1627"/>
                  </a:lnTo>
                  <a:lnTo>
                    <a:pt x="313" y="1621"/>
                  </a:lnTo>
                  <a:lnTo>
                    <a:pt x="319" y="1609"/>
                  </a:lnTo>
                  <a:lnTo>
                    <a:pt x="319" y="1603"/>
                  </a:lnTo>
                  <a:lnTo>
                    <a:pt x="319" y="1591"/>
                  </a:lnTo>
                  <a:lnTo>
                    <a:pt x="325" y="1579"/>
                  </a:lnTo>
                  <a:lnTo>
                    <a:pt x="325" y="1573"/>
                  </a:lnTo>
                  <a:lnTo>
                    <a:pt x="330" y="1561"/>
                  </a:lnTo>
                  <a:lnTo>
                    <a:pt x="330" y="1555"/>
                  </a:lnTo>
                  <a:lnTo>
                    <a:pt x="330" y="1543"/>
                  </a:lnTo>
                  <a:lnTo>
                    <a:pt x="336" y="1537"/>
                  </a:lnTo>
                  <a:lnTo>
                    <a:pt x="336" y="1525"/>
                  </a:lnTo>
                  <a:lnTo>
                    <a:pt x="336" y="1519"/>
                  </a:lnTo>
                  <a:lnTo>
                    <a:pt x="342" y="1507"/>
                  </a:lnTo>
                  <a:lnTo>
                    <a:pt x="342" y="1494"/>
                  </a:lnTo>
                  <a:lnTo>
                    <a:pt x="348" y="1488"/>
                  </a:lnTo>
                  <a:lnTo>
                    <a:pt x="348" y="1476"/>
                  </a:lnTo>
                  <a:lnTo>
                    <a:pt x="348" y="1470"/>
                  </a:lnTo>
                  <a:lnTo>
                    <a:pt x="354" y="1458"/>
                  </a:lnTo>
                  <a:lnTo>
                    <a:pt x="354" y="1446"/>
                  </a:lnTo>
                  <a:lnTo>
                    <a:pt x="359" y="1440"/>
                  </a:lnTo>
                  <a:lnTo>
                    <a:pt x="359" y="1428"/>
                  </a:lnTo>
                  <a:lnTo>
                    <a:pt x="359" y="1422"/>
                  </a:lnTo>
                  <a:lnTo>
                    <a:pt x="365" y="1410"/>
                  </a:lnTo>
                  <a:lnTo>
                    <a:pt x="365" y="1398"/>
                  </a:lnTo>
                  <a:lnTo>
                    <a:pt x="371" y="1392"/>
                  </a:lnTo>
                  <a:lnTo>
                    <a:pt x="371" y="1380"/>
                  </a:lnTo>
                  <a:lnTo>
                    <a:pt x="371" y="1368"/>
                  </a:lnTo>
                  <a:lnTo>
                    <a:pt x="377" y="1362"/>
                  </a:lnTo>
                  <a:lnTo>
                    <a:pt x="377" y="1350"/>
                  </a:lnTo>
                  <a:lnTo>
                    <a:pt x="377" y="1338"/>
                  </a:lnTo>
                  <a:lnTo>
                    <a:pt x="383" y="1332"/>
                  </a:lnTo>
                  <a:lnTo>
                    <a:pt x="383" y="1320"/>
                  </a:lnTo>
                  <a:lnTo>
                    <a:pt x="388" y="1308"/>
                  </a:lnTo>
                  <a:lnTo>
                    <a:pt x="388" y="1296"/>
                  </a:lnTo>
                  <a:lnTo>
                    <a:pt x="388" y="1290"/>
                  </a:lnTo>
                  <a:lnTo>
                    <a:pt x="394" y="1278"/>
                  </a:lnTo>
                  <a:lnTo>
                    <a:pt x="394" y="1266"/>
                  </a:lnTo>
                  <a:lnTo>
                    <a:pt x="400" y="1260"/>
                  </a:lnTo>
                  <a:lnTo>
                    <a:pt x="400" y="1248"/>
                  </a:lnTo>
                  <a:lnTo>
                    <a:pt x="400" y="1236"/>
                  </a:lnTo>
                  <a:lnTo>
                    <a:pt x="406" y="1224"/>
                  </a:lnTo>
                  <a:lnTo>
                    <a:pt x="406" y="1218"/>
                  </a:lnTo>
                  <a:lnTo>
                    <a:pt x="412" y="1206"/>
                  </a:lnTo>
                  <a:lnTo>
                    <a:pt x="412" y="1194"/>
                  </a:lnTo>
                  <a:lnTo>
                    <a:pt x="412" y="1182"/>
                  </a:lnTo>
                  <a:lnTo>
                    <a:pt x="417" y="1170"/>
                  </a:lnTo>
                  <a:lnTo>
                    <a:pt x="417" y="1164"/>
                  </a:lnTo>
                  <a:lnTo>
                    <a:pt x="417" y="1152"/>
                  </a:lnTo>
                  <a:lnTo>
                    <a:pt x="423" y="1140"/>
                  </a:lnTo>
                  <a:lnTo>
                    <a:pt x="423" y="1128"/>
                  </a:lnTo>
                  <a:lnTo>
                    <a:pt x="429" y="1116"/>
                  </a:lnTo>
                  <a:lnTo>
                    <a:pt x="429" y="1110"/>
                  </a:lnTo>
                  <a:lnTo>
                    <a:pt x="429" y="1098"/>
                  </a:lnTo>
                  <a:lnTo>
                    <a:pt x="435" y="1086"/>
                  </a:lnTo>
                  <a:lnTo>
                    <a:pt x="435" y="1074"/>
                  </a:lnTo>
                  <a:lnTo>
                    <a:pt x="441" y="1062"/>
                  </a:lnTo>
                  <a:lnTo>
                    <a:pt x="441" y="1050"/>
                  </a:lnTo>
                  <a:lnTo>
                    <a:pt x="441" y="1044"/>
                  </a:lnTo>
                  <a:lnTo>
                    <a:pt x="446" y="1032"/>
                  </a:lnTo>
                  <a:lnTo>
                    <a:pt x="446" y="1020"/>
                  </a:lnTo>
                  <a:lnTo>
                    <a:pt x="452" y="1008"/>
                  </a:lnTo>
                  <a:lnTo>
                    <a:pt x="452" y="996"/>
                  </a:lnTo>
                  <a:lnTo>
                    <a:pt x="452" y="984"/>
                  </a:lnTo>
                  <a:lnTo>
                    <a:pt x="458" y="972"/>
                  </a:lnTo>
                  <a:lnTo>
                    <a:pt x="458" y="960"/>
                  </a:lnTo>
                  <a:lnTo>
                    <a:pt x="458" y="954"/>
                  </a:lnTo>
                  <a:lnTo>
                    <a:pt x="464" y="942"/>
                  </a:lnTo>
                  <a:lnTo>
                    <a:pt x="464" y="930"/>
                  </a:lnTo>
                  <a:lnTo>
                    <a:pt x="470" y="918"/>
                  </a:lnTo>
                  <a:lnTo>
                    <a:pt x="470" y="906"/>
                  </a:lnTo>
                  <a:lnTo>
                    <a:pt x="470" y="894"/>
                  </a:lnTo>
                  <a:lnTo>
                    <a:pt x="475" y="882"/>
                  </a:lnTo>
                  <a:lnTo>
                    <a:pt x="475" y="870"/>
                  </a:lnTo>
                  <a:lnTo>
                    <a:pt x="481" y="858"/>
                  </a:lnTo>
                  <a:lnTo>
                    <a:pt x="481" y="846"/>
                  </a:lnTo>
                  <a:lnTo>
                    <a:pt x="481" y="834"/>
                  </a:lnTo>
                  <a:lnTo>
                    <a:pt x="487" y="822"/>
                  </a:lnTo>
                  <a:lnTo>
                    <a:pt x="487" y="810"/>
                  </a:lnTo>
                  <a:lnTo>
                    <a:pt x="493" y="798"/>
                  </a:lnTo>
                  <a:lnTo>
                    <a:pt x="493" y="786"/>
                  </a:lnTo>
                  <a:lnTo>
                    <a:pt x="493" y="774"/>
                  </a:lnTo>
                  <a:lnTo>
                    <a:pt x="499" y="762"/>
                  </a:lnTo>
                  <a:lnTo>
                    <a:pt x="499" y="750"/>
                  </a:lnTo>
                  <a:lnTo>
                    <a:pt x="499" y="738"/>
                  </a:lnTo>
                  <a:lnTo>
                    <a:pt x="504" y="726"/>
                  </a:lnTo>
                  <a:lnTo>
                    <a:pt x="504" y="714"/>
                  </a:lnTo>
                  <a:lnTo>
                    <a:pt x="510" y="702"/>
                  </a:lnTo>
                  <a:lnTo>
                    <a:pt x="510" y="690"/>
                  </a:lnTo>
                  <a:lnTo>
                    <a:pt x="510" y="678"/>
                  </a:lnTo>
                  <a:lnTo>
                    <a:pt x="516" y="666"/>
                  </a:lnTo>
                  <a:lnTo>
                    <a:pt x="516" y="654"/>
                  </a:lnTo>
                  <a:lnTo>
                    <a:pt x="522" y="642"/>
                  </a:lnTo>
                  <a:lnTo>
                    <a:pt x="522" y="630"/>
                  </a:lnTo>
                  <a:lnTo>
                    <a:pt x="522" y="618"/>
                  </a:lnTo>
                  <a:lnTo>
                    <a:pt x="528" y="606"/>
                  </a:lnTo>
                  <a:lnTo>
                    <a:pt x="528" y="588"/>
                  </a:lnTo>
                  <a:lnTo>
                    <a:pt x="533" y="576"/>
                  </a:lnTo>
                  <a:lnTo>
                    <a:pt x="533" y="564"/>
                  </a:lnTo>
                  <a:lnTo>
                    <a:pt x="533" y="552"/>
                  </a:lnTo>
                  <a:lnTo>
                    <a:pt x="539" y="540"/>
                  </a:lnTo>
                  <a:lnTo>
                    <a:pt x="539" y="528"/>
                  </a:lnTo>
                  <a:lnTo>
                    <a:pt x="539" y="516"/>
                  </a:lnTo>
                  <a:lnTo>
                    <a:pt x="545" y="504"/>
                  </a:lnTo>
                  <a:lnTo>
                    <a:pt x="545" y="492"/>
                  </a:lnTo>
                  <a:lnTo>
                    <a:pt x="551" y="474"/>
                  </a:lnTo>
                  <a:lnTo>
                    <a:pt x="551" y="462"/>
                  </a:lnTo>
                  <a:lnTo>
                    <a:pt x="551" y="450"/>
                  </a:lnTo>
                  <a:lnTo>
                    <a:pt x="557" y="438"/>
                  </a:lnTo>
                  <a:lnTo>
                    <a:pt x="557" y="426"/>
                  </a:lnTo>
                  <a:lnTo>
                    <a:pt x="562" y="414"/>
                  </a:lnTo>
                  <a:lnTo>
                    <a:pt x="562" y="396"/>
                  </a:lnTo>
                  <a:lnTo>
                    <a:pt x="562" y="384"/>
                  </a:lnTo>
                  <a:lnTo>
                    <a:pt x="568" y="372"/>
                  </a:lnTo>
                  <a:lnTo>
                    <a:pt x="568" y="360"/>
                  </a:lnTo>
                  <a:lnTo>
                    <a:pt x="574" y="348"/>
                  </a:lnTo>
                  <a:lnTo>
                    <a:pt x="574" y="330"/>
                  </a:lnTo>
                  <a:lnTo>
                    <a:pt x="574" y="318"/>
                  </a:lnTo>
                  <a:lnTo>
                    <a:pt x="580" y="306"/>
                  </a:lnTo>
                  <a:lnTo>
                    <a:pt x="580" y="294"/>
                  </a:lnTo>
                  <a:lnTo>
                    <a:pt x="580" y="276"/>
                  </a:lnTo>
                  <a:lnTo>
                    <a:pt x="586" y="264"/>
                  </a:lnTo>
                  <a:lnTo>
                    <a:pt x="586" y="252"/>
                  </a:lnTo>
                  <a:lnTo>
                    <a:pt x="591" y="240"/>
                  </a:lnTo>
                  <a:lnTo>
                    <a:pt x="591" y="222"/>
                  </a:lnTo>
                  <a:lnTo>
                    <a:pt x="591" y="210"/>
                  </a:lnTo>
                  <a:lnTo>
                    <a:pt x="597" y="198"/>
                  </a:lnTo>
                  <a:lnTo>
                    <a:pt x="597" y="186"/>
                  </a:lnTo>
                  <a:lnTo>
                    <a:pt x="603" y="168"/>
                  </a:lnTo>
                  <a:lnTo>
                    <a:pt x="603" y="156"/>
                  </a:lnTo>
                  <a:lnTo>
                    <a:pt x="603" y="144"/>
                  </a:lnTo>
                  <a:lnTo>
                    <a:pt x="609" y="126"/>
                  </a:lnTo>
                  <a:lnTo>
                    <a:pt x="609" y="114"/>
                  </a:lnTo>
                  <a:lnTo>
                    <a:pt x="609" y="102"/>
                  </a:lnTo>
                  <a:lnTo>
                    <a:pt x="615" y="84"/>
                  </a:lnTo>
                  <a:lnTo>
                    <a:pt x="615" y="72"/>
                  </a:lnTo>
                  <a:lnTo>
                    <a:pt x="620" y="60"/>
                  </a:lnTo>
                  <a:lnTo>
                    <a:pt x="620" y="42"/>
                  </a:lnTo>
                  <a:lnTo>
                    <a:pt x="620" y="30"/>
                  </a:lnTo>
                  <a:lnTo>
                    <a:pt x="626" y="18"/>
                  </a:lnTo>
                  <a:lnTo>
                    <a:pt x="626" y="0"/>
                  </a:lnTo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573440" y="59007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21240" y="4827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640" y="4789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780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4869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8360" y="581328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3284640"/>
            <a:ext cx="73080" cy="71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3357720"/>
            <a:ext cx="0" cy="273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4360" y="6113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2964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4581360"/>
            <a:ext cx="4193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нями уравнения являют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абсциссы точек пересече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c00c2e"/>
                </a:solidFill>
                <a:latin typeface="Tahoma"/>
              </a:rPr>
              <a:t>-1 и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-1,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84720" y="198900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35640" y="1988640"/>
            <a:ext cx="2305080" cy="446436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3080" y="40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c2e"/>
                </a:solidFill>
                <a:latin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4400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164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395280" y="630864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0:43:57Z</dcterms:created>
  <dc:creator>FuckYouBill</dc:creator>
  <dc:description/>
  <dc:language>en-US</dc:language>
  <cp:lastModifiedBy>FuckYouBill</cp:lastModifiedBy>
  <dcterms:modified xsi:type="dcterms:W3CDTF">2009-01-20T20:19:56Z</dcterms:modified>
  <cp:revision>20</cp:revision>
  <dc:subject/>
  <dc:title>Слайд 1</dc:title>
</cp:coreProperties>
</file>