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chimes.wav" ContentType="audio/x-wav"/>
  <Override PartName="/ppt/media/image1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4.wmf" ContentType="image/x-wmf"/>
  <Override PartName="/ppt/media/image22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5.png" ContentType="image/png"/>
  <Override PartName="/ppt/media/image13.jpeg" ContentType="image/jpeg"/>
  <Override PartName="/ppt/media/image23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D051-A579-43B0-AA37-6DADDF06C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0055-6634-4992-820B-31D68D48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2040-60F7-4647-86D1-488CC3C18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C279-405B-4F33-BF5C-F3C0D61A2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1137-24F7-4724-A750-033E280C8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1336-BBFB-40C7-B068-C6385EF5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385BA-7358-4A02-B183-299D3EF6A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4C86A-3170-44D2-B326-565D9C77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F373-7B99-4F8E-B289-43C2D484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51D2-9EBA-4EF8-8985-F2A35F21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E875-962A-4234-A8DD-41413962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87BE-3B1B-4FF8-A197-1DD23DD9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6CD7-4849-4C22-9E7A-28782A6E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0A6C-5B21-4171-B87D-3A2EA4E8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EB29C-9732-4D63-A82A-42FD14FA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0244-CDEF-43BA-9EF9-5D60A6DAC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0D18-AFE3-4715-864D-5903AD3AF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57B2-D45D-4C62-A9B5-D9140DC9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6203-8A43-4116-B5CE-82C0E3AA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A244-757C-4475-8F86-20099256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13FC-FA6C-4F52-A2D6-E277AF79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A8D0-2DEF-4BCF-B21B-CEE59BED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EEC5-139B-45CF-9554-57710C58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D51D-F563-4AAD-8D05-C4D7ED2C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6993-33D3-4619-8FA7-70580CA71AF7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6833-4A49-40A9-9563-FA7E707845D8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752480" y="1371600"/>
            <a:ext cx="66294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Times New Roman"/>
              </a:rPr>
              <a:t>«Стальные шпоры на ногах надеты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Times New Roman"/>
              </a:rPr>
              <a:t>Кольчуги белые легки, но крепки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Times New Roman"/>
              </a:rPr>
              <a:t>Забрала спущены у ясных шлемов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Times New Roman"/>
              </a:rPr>
              <a:t>На поясах мечи в златой отделке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Times New Roman"/>
              </a:rPr>
              <a:t>Щиты подвешены у них на шеях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Times New Roman"/>
              </a:rPr>
              <a:t>И копья острые у них в руке…»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Times New Roman"/>
              </a:rPr>
              <a:t>«Песнь о Роланде»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362320" y="304920"/>
            <a:ext cx="48765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кажите пожалуйста!!!</a:t>
            </a:r>
            <a:endParaRPr b="0" lang="en-US" sz="24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175248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1. Чем занимались рыцари в мирное время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97800" y="3581280"/>
            <a:ext cx="31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2. Кто такие герольды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74840" y="4648320"/>
            <a:ext cx="238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3. Что называют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геральдикой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962520" cy="26956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1219320" y="228600"/>
            <a:ext cx="7617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?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dissolv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8001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971800" y="4940280"/>
            <a:ext cx="617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Шотландский замок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XII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в. Эйлин Донан, живописный и загадочный, как нельзя лучше соответствует нашим представлениям о замках, окутанных тайнами и населенных приведениям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057400" y="380880"/>
            <a:ext cx="56102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4. "Мой дом - моя крепость!"</a:t>
            </a:r>
            <a:endParaRPr b="0" lang="en-US" sz="24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564192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438280" y="5241960"/>
            <a:ext cx="5486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aeaea"/>
                </a:solidFill>
                <a:latin typeface="Times New Roman"/>
              </a:rPr>
              <a:t>Замок Карлштейн (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XIV</a:t>
            </a:r>
            <a:r>
              <a:rPr b="1" i="1" lang="ru-RU" sz="2000" spc="-1" strike="noStrike">
                <a:solidFill>
                  <a:srgbClr val="eaeaea"/>
                </a:solidFill>
                <a:latin typeface="Times New Roman"/>
              </a:rPr>
              <a:t> в.) в Чехии знаменит  тем, что это не только одна из королевских резиденций, но и место. Где хранились коронационные драгоценности чешских королей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5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219320" y="3745080"/>
            <a:ext cx="26668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aeaea"/>
                </a:solidFill>
                <a:latin typeface="Times New Roman"/>
              </a:rPr>
              <a:t>Замок Фуа (ок. 1000г.) возвышающийся близ одноименного города в Арьеже, принадлежал графам Фуа. Некогда он охранял важный путь в Пиренеях и ныне с его трех башен открывается замечательный вид на эти горы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733920" y="3814920"/>
            <a:ext cx="5410080" cy="30430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5486400" cy="3745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648320" y="304920"/>
            <a:ext cx="396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aeaea"/>
                </a:solidFill>
                <a:latin typeface="Times New Roman"/>
              </a:rPr>
              <a:t>Замок Альказар в Сеговии (</a:t>
            </a:r>
            <a:r>
              <a:rPr b="0" i="1" lang="en-US" sz="1800" spc="-1" strike="noStrike">
                <a:solidFill>
                  <a:srgbClr val="eaeaea"/>
                </a:solidFill>
                <a:latin typeface="Times New Roman"/>
              </a:rPr>
              <a:t>XII – XIII</a:t>
            </a:r>
            <a:r>
              <a:rPr b="0" i="1" lang="ru-RU" sz="1800" spc="-1" strike="noStrike">
                <a:solidFill>
                  <a:srgbClr val="eaeaea"/>
                </a:solidFill>
                <a:latin typeface="Times New Roman"/>
              </a:rPr>
              <a:t> вв) словно вырастает из скалы. Такое месторасположение делало укрепленное сооружение поистине неприступным для врагов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6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523880" y="1981080"/>
            <a:ext cx="6858000" cy="4040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2057400" y="304920"/>
            <a:ext cx="5153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План рыцарского замка</a:t>
            </a:r>
            <a:endParaRPr b="0" i="1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60958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1. Подъемный мост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81080" y="649116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2. Нижний двор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52680" y="60958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3. Конюшня, хлев, амбары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00600" y="649116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5. Колодец или резервуар с водой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34320" y="60958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4. Верхний двор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2193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6. Замковая часовня  /Капелла/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438280" y="9144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7. Жилище хозяина замка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43400" y="1219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8. Помещение для хранения оружия и доспехов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00800" y="9144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9. Жилые помещения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15200" y="1523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10. Донжон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500"/>
                            </p:stCondLst>
                            <p:childTnLst>
                              <p:par>
                                <p:cTn id="30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50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4000"/>
                            </p:stCondLst>
                            <p:childTnLst>
                              <p:par>
                                <p:cTn id="32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4500"/>
                            </p:stCondLst>
                            <p:childTnLst>
                              <p:par>
                                <p:cTn id="32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500"/>
                            </p:stCondLst>
                            <p:childTnLst>
                              <p:par>
                                <p:cTn id="33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5252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295280" y="22860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Для германских замков характерны высокие нежилые дозорные башни – бергфриды, как в замке Кохем (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XII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в.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209680" y="228600"/>
            <a:ext cx="4638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5. Рыцарская культура.</a:t>
            </a:r>
            <a:endParaRPr b="0" lang="en-US" sz="24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95280" y="990720"/>
            <a:ext cx="338616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Кодекс рыцарской чести"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1371600"/>
            <a:ext cx="4800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Рыцарь должен искать подвигов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Бороться с врагами христианской церкви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Защищать слабых и обиженных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715000" y="1295280"/>
            <a:ext cx="3429000" cy="1828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371600" y="3276720"/>
            <a:ext cx="2816280" cy="3429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267080" y="335268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eaeaea"/>
                </a:solidFill>
                <a:uFillTx/>
                <a:latin typeface="Times New Roman"/>
              </a:rPr>
              <a:t>Куртуазность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– от французского слова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court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– двор – умение вести себя при дворе, в особенности по отношению к дамам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343400" y="541008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eaeaea"/>
                </a:solidFill>
                <a:uFillTx/>
                <a:latin typeface="Times New Roman"/>
              </a:rPr>
              <a:t>Трубадуры 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– странствующие рыцари-поэты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45720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eaeaea"/>
                </a:solidFill>
                <a:uFillTx/>
                <a:latin typeface="Times New Roman"/>
              </a:rPr>
              <a:t>Миннезингеры-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«певцы любви»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500"/>
                            </p:stCondLst>
                            <p:childTnLst>
                              <p:par>
                                <p:cTn id="38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3500"/>
                            </p:stCondLst>
                            <p:childTnLst>
                              <p:par>
                                <p:cTn id="39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2590920" y="762120"/>
            <a:ext cx="44002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кажите пожалуйста!</a:t>
            </a:r>
            <a:endParaRPr b="0" lang="en-US" sz="24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297180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аково было место рыцарства в обществе и его обязанности перед ним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371600" y="2286000"/>
            <a:ext cx="7621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?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dissolv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00200" y="220968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Урок истории на тему: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57040" y="540972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Monotype Corsiva"/>
              </a:rPr>
              <a:t>6 класс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581280" y="533520"/>
            <a:ext cx="5334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-5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редние века</a:t>
            </a:r>
            <a:endParaRPr b="0" lang="en-US" sz="24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981080" y="3505320"/>
            <a:ext cx="478656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31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"Рыцарство"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638680" y="4070520"/>
            <a:ext cx="3505320" cy="2787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457200"/>
            <a:ext cx="1504800" cy="2057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057400" y="1371600"/>
            <a:ext cx="5867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лан урока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ойна как образ жизни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Мир турниров и гербов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«Мой дом – моя крепость»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Рыцарская культур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429000" y="3809880"/>
            <a:ext cx="259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Monotype Corsiva"/>
              </a:rPr>
              <a:t>Рыцарь – </a:t>
            </a:r>
            <a:r>
              <a:rPr b="1" lang="ru-RU" sz="2400" spc="-1" strike="noStrike">
                <a:solidFill>
                  <a:srgbClr val="eaeaea"/>
                </a:solidFill>
                <a:latin typeface="Monotype Corsiva"/>
              </a:rPr>
              <a:t>от немецкого «риттер» - всадник, конный воин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905120" y="304920"/>
            <a:ext cx="396216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1. Война как образ жизни.</a:t>
            </a:r>
            <a:endParaRPr b="0" lang="en-US" sz="28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/>
          <p:nvPr/>
        </p:nvSpPr>
        <p:spPr>
          <a:xfrm>
            <a:off x="1219320" y="1066680"/>
            <a:ext cx="61722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«Война была делом настолько обычным, что где бы ни собирался народ, там речь только и шла, что о рыцарских подвигах, кто как дерется и у кого лучше оружие и доспехи »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/Генрик Сенкевич «Крестоносцы»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19320" y="2514600"/>
            <a:ext cx="2127240" cy="4114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172200" y="2971800"/>
            <a:ext cx="2400480" cy="3203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438280" y="533520"/>
            <a:ext cx="44960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3. Воспитание рыцаря</a:t>
            </a:r>
            <a:endParaRPr b="0" lang="en-US" sz="24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121932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Рыцарями не рождались. Это тяжелое занятие требовало храбрости, большой физической силы и многолетней постоянной тренировки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21337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7 лет – мальчики из знатных семей обычно покидали родной дом и служили </a:t>
            </a:r>
            <a:r>
              <a:rPr b="1" i="1" lang="ru-RU" sz="1800" spc="-1" strike="noStrike" u="sng">
                <a:solidFill>
                  <a:srgbClr val="eaeaea"/>
                </a:solidFill>
                <a:uFillTx/>
                <a:latin typeface="Times New Roman"/>
              </a:rPr>
              <a:t>пажами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при дворе знатного феодала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2819520"/>
            <a:ext cx="70102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Учили: ездить верхом, владеть оружием, охотиться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Усваивали изысканные придворные манеры, учились петь и танцевать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Читать и писать учили не всегда – считалось, что рыцарь мог обойтись и без этого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472428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15 лет - Обучившись военному делу, юноша становился </a:t>
            </a:r>
            <a:r>
              <a:rPr b="1" i="1" lang="ru-RU" sz="1800" spc="-1" strike="noStrike" u="sng">
                <a:solidFill>
                  <a:srgbClr val="eaeaea"/>
                </a:solidFill>
                <a:uFillTx/>
                <a:latin typeface="Times New Roman"/>
              </a:rPr>
              <a:t>оруженосцем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рыцаря: прислуживал, сопровождал его, помогал в сражении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56386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После этого можно было стать рыцарем пройдя церемонию посвящения в рыцари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2286000"/>
            <a:ext cx="457200" cy="38088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2819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4572000"/>
            <a:ext cx="380880" cy="457200"/>
          </a:xfrm>
          <a:custGeom>
            <a:avLst/>
            <a:gdLst>
              <a:gd name="textAreaLeft" fmla="*/ 156960 w 380880"/>
              <a:gd name="textAreaRight" fmla="*/ 223920 w 38088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43200" y="5638680"/>
            <a:ext cx="380880" cy="381240"/>
          </a:xfrm>
          <a:custGeom>
            <a:avLst/>
            <a:gdLst>
              <a:gd name="textAreaLeft" fmla="*/ 156960 w 380880"/>
              <a:gd name="textAreaRight" fmla="*/ 223920 w 38088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391520" y="228600"/>
            <a:ext cx="1504800" cy="2057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48320" y="152280"/>
            <a:ext cx="4070160" cy="6477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371600" y="152280"/>
            <a:ext cx="2936880" cy="6477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3520" y="4191120"/>
            <a:ext cx="1998720" cy="26668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666880" y="4038480"/>
            <a:ext cx="2238480" cy="2590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762120" y="0"/>
            <a:ext cx="2625480" cy="3429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5486400" y="0"/>
            <a:ext cx="3429000" cy="56466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029200" y="56674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aeaea"/>
                </a:solidFill>
                <a:latin typeface="Times New Roman"/>
              </a:rPr>
              <a:t>Надеть доспехи самостоятельно или что-то поправить в одежде было невозможно. Рыцарь должен был полагаться на оружейника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90920" y="35053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aeaea"/>
                </a:solidFill>
                <a:latin typeface="Times New Roman"/>
              </a:rPr>
              <a:t>Позолоченный нагрудник (1570 г.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71800" y="533520"/>
            <a:ext cx="259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aeaea"/>
                </a:solidFill>
                <a:latin typeface="Times New Roman"/>
              </a:rPr>
              <a:t>Для украшения, оружейники использовали весь арсенал ювелиров. Особенно часто чеканку и золочение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3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666880" y="609480"/>
            <a:ext cx="42768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кажите пожалуйста !</a:t>
            </a:r>
            <a:endParaRPr b="0" lang="en-US" sz="24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26668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акой путь необходимо было пройти человеку, чтобы стать рыцарем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419720" y="1676520"/>
            <a:ext cx="4419360" cy="41972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1371600" y="838080"/>
            <a:ext cx="7621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?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dissolv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2133720" y="152280"/>
            <a:ext cx="4800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2. Мир турниров и гербов</a:t>
            </a:r>
            <a:endParaRPr b="0" lang="en-US" sz="24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685800"/>
            <a:ext cx="76201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В мирное время занятия рыцарей были похожи на войну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eaeaea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охота на кабана или оленя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eaeaea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Охота на птиц с соколами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eaeaea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Турниры – любимое развлечение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2286000"/>
            <a:ext cx="266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imes New Roman"/>
              </a:rPr>
              <a:t>Турниры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– военные состязания в силе и умении владеть оружием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2895480"/>
            <a:ext cx="2133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Организацией турниров занимались -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33cc"/>
                </a:solidFill>
                <a:latin typeface="Times New Roman"/>
              </a:rPr>
              <a:t>герольды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43200" y="3809880"/>
            <a:ext cx="274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imes New Roman"/>
              </a:rPr>
              <a:t>Герб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– 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отличительный знак рода рыцаря, нанесенный на его щит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4876920"/>
            <a:ext cx="312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imes New Roman"/>
              </a:rPr>
              <a:t>Геральдика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– 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искусство составлять и описывать гербы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435640" y="1600200"/>
            <a:ext cx="3708360" cy="4876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733920" y="3505320"/>
            <a:ext cx="761760" cy="228600"/>
          </a:xfrm>
          <a:custGeom>
            <a:avLst/>
            <a:gdLst>
              <a:gd name="textAreaLeft" fmla="*/ 190440 w 761760"/>
              <a:gd name="textAreaRight" fmla="*/ 571320 w 761760"/>
              <a:gd name="textAreaTop" fmla="*/ 2844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2438280"/>
            <a:ext cx="761760" cy="228600"/>
          </a:xfrm>
          <a:custGeom>
            <a:avLst/>
            <a:gdLst>
              <a:gd name="textAreaLeft" fmla="*/ 190440 w 761760"/>
              <a:gd name="textAreaRight" fmla="*/ 571320 w 761760"/>
              <a:gd name="textAreaTop" fmla="*/ 2844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4419720"/>
            <a:ext cx="762120" cy="228600"/>
          </a:xfrm>
          <a:custGeom>
            <a:avLst/>
            <a:gdLst>
              <a:gd name="textAreaLeft" fmla="*/ 190440 w 762120"/>
              <a:gd name="textAreaRight" fmla="*/ 571680 w 762120"/>
              <a:gd name="textAreaTop" fmla="*/ 2844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62320" y="5576760"/>
            <a:ext cx="32763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imes New Roman"/>
              </a:rPr>
              <a:t>Девиз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– 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краткое изречение, выражавшее самое важное в характере обладателя герба и его предков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14800" y="5105520"/>
            <a:ext cx="762120" cy="228600"/>
          </a:xfrm>
          <a:custGeom>
            <a:avLst/>
            <a:gdLst>
              <a:gd name="textAreaLeft" fmla="*/ 190440 w 762120"/>
              <a:gd name="textAreaRight" fmla="*/ 571680 w 762120"/>
              <a:gd name="textAreaTop" fmla="*/ 2844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71600" y="6095880"/>
            <a:ext cx="762120" cy="228600"/>
          </a:xfrm>
          <a:custGeom>
            <a:avLst/>
            <a:gdLst>
              <a:gd name="textAreaLeft" fmla="*/ 190440 w 762120"/>
              <a:gd name="textAreaRight" fmla="*/ 571680 w 762120"/>
              <a:gd name="textAreaTop" fmla="*/ 2844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аня</cp:lastModifiedBy>
  <dcterms:modified xsi:type="dcterms:W3CDTF">2008-11-04T18:45:52Z</dcterms:modified>
  <cp:revision>21</cp:revision>
  <dc:subject/>
  <dc:title>Урок истории на тему: </dc:title>
</cp:coreProperties>
</file>