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DC99-DFB3-4087-9E69-D5A66AE7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8B8-C754-4655-8C2E-395AE824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633-2DAC-4EAA-9EC6-07EF9E04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DB1-306C-4C76-92ED-20CAB385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327D-FC1B-47A7-9CEC-E027A211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595C-B970-4B89-9501-6CC452F1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6492-AB4D-440D-9B04-248C4821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570C-4939-413D-8B6D-96419FC5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A800-106C-4457-8828-82A734F9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6894-E9E5-40ED-A795-53DCA60C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7E95-06C6-46EE-B32E-E44784E8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85F-3100-4394-9525-E8BCB835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FD63-FB97-4DB8-A9AD-946D2B81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BE50-88A2-48DC-8BA2-32131902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D392-547F-493F-B833-35953C07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D05F-5190-4C38-A7AD-48DB9C81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E91D-2AF6-4BA9-B353-5939F7A7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50B2-27AF-4D03-995E-76008948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42CCE-85BA-4D7A-A62C-F3C39ACB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3C1C1-0ACE-427C-8D39-4034070C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B6F3-1FC4-4FDA-81BA-0923BF41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9DAF-B4F4-4D86-8834-50E726D8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307-8BDD-4174-A88D-E0E5A21F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A43A1-9067-4753-8D7D-0092D464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C982C-3F4D-4AB1-8452-1253EA50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ECC2B-7A79-48D5-89CE-BDE8E3E3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89F9-83A7-4CB7-AF05-97384330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E11C1-05CC-4272-98BD-32DDE1A7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E9FE-75CA-43D9-A564-AB65ED95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77C0-CEA8-4046-B57A-5B07B6B2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2AF65-5ACB-48A1-A82A-7D4EABEC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437E0-BBA1-4612-851A-C2578D37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57D7D-2713-4295-8DE0-20610A51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80C-C406-4581-A2C7-F9AD9CA4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4C18B-9C91-4BFF-99FD-7ACC7839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D1249-A0E7-4FAE-B12C-1FCAB993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2FB54-D2F8-460F-B449-8AB707FB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DCB11-6D3F-4E4D-A531-CB28A375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3D426-6E64-4A36-AAA1-FD7F3A89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3B763-3564-4BAA-8130-47BBF06C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1078A-747C-4C9C-9320-EF508A69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7E737-D687-4327-9A50-52C5AEBE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5FD54-3302-48E1-9063-48476B98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A45-D82C-4FC6-80DA-D613683A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1E8-3517-4B59-8DB6-4B988066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767-0DB2-41B8-87E0-54F69C30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354-54D2-4C34-B72B-E9B7CB7B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4D2-6EA4-431B-9CEF-F0FBEC99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B919-9B37-4747-971E-C3D3051D2C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877D-21CF-414E-81A5-E09E36743D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8D9F-4EF5-4C1E-A355-A5954FDE6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0C6E-7A48-47FD-A7F4-B9B85F785688}" type="slidenum"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CF74-684E-4CA8-AEF7-4C12693488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427640" y="3860640"/>
            <a:ext cx="446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635280" y="4508640"/>
            <a:ext cx="48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#1_01_Si-bemol, minor op.9 #1, Lyagretto.mp3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9" descr="1920x1080 белые, листья, зеленые, весна, цветы, подснежники, фон картинки на рабочий стол 7116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Весна</a:t>
            </a:r>
            <a:r>
              <a:rPr b="0" i="1" lang="ru-RU" sz="60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4356000" y="5805360"/>
            <a:ext cx="478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2a40"/>
                </a:solidFill>
                <a:latin typeface="Times New Roman"/>
              </a:rPr>
              <a:t>Подготовила ученица 7-д ГБОУ Школа №424 г. Москв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2a40"/>
                </a:solidFill>
                <a:latin typeface="Times New Roman"/>
              </a:rPr>
              <a:t>Солопенкова Кс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2a40"/>
                </a:solidFill>
                <a:latin typeface="Times New Roman"/>
              </a:rPr>
              <a:t>Учитель: Афиногенова О.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саврасов ранняя весна дали 1870-е"/>
          <p:cNvPicPr/>
          <p:nvPr/>
        </p:nvPicPr>
        <p:blipFill>
          <a:blip r:embed="rId1"/>
          <a:stretch/>
        </p:blipFill>
        <p:spPr>
          <a:xfrm>
            <a:off x="324000" y="620640"/>
            <a:ext cx="4176720" cy="28609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5867280" y="3645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нняя весн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140360" y="4221000"/>
            <a:ext cx="48258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ще природа не проснулась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 сквозь редеющего сн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сну послышала он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ей невольно улыбнулас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.И.Тютч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9" descr="i?id=e1f656d61be21bb06b4dccf39b2beb75-91-144&amp;n=21"/>
          <p:cNvPicPr/>
          <p:nvPr/>
        </p:nvPicPr>
        <p:blipFill>
          <a:blip r:embed="rId2"/>
          <a:stretch/>
        </p:blipFill>
        <p:spPr>
          <a:xfrm>
            <a:off x="324000" y="3789360"/>
            <a:ext cx="4105080" cy="2808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i?id=6818792b40ad4f3853920b9e00f4e04b-104-144&amp;n=21"/>
          <p:cNvPicPr/>
          <p:nvPr/>
        </p:nvPicPr>
        <p:blipFill>
          <a:blip r:embed="rId3"/>
          <a:stretch/>
        </p:blipFill>
        <p:spPr>
          <a:xfrm>
            <a:off x="4716360" y="620640"/>
            <a:ext cx="4176720" cy="280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5003640" y="403920"/>
            <a:ext cx="32403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Мар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8" descr="i?id=77c2a67a358bc29d10af8d9ad59a1e68-21-144&amp;n=21"/>
          <p:cNvPicPr/>
          <p:nvPr/>
        </p:nvPicPr>
        <p:blipFill>
          <a:blip r:embed="rId1"/>
          <a:stretch/>
        </p:blipFill>
        <p:spPr>
          <a:xfrm>
            <a:off x="250920" y="549360"/>
            <a:ext cx="3816360" cy="1873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i?id=89880b1d5168b7c5fdc3921f1cf2a5f5-73-144&amp;n=21"/>
          <p:cNvPicPr/>
          <p:nvPr/>
        </p:nvPicPr>
        <p:blipFill>
          <a:blip r:embed="rId2"/>
          <a:stretch/>
        </p:blipFill>
        <p:spPr>
          <a:xfrm>
            <a:off x="250920" y="2565360"/>
            <a:ext cx="3816360" cy="1871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i?id=9a3ead5fbf26c48e9325ce3f86048b9f-135-144&amp;n=21"/>
          <p:cNvPicPr/>
          <p:nvPr/>
        </p:nvPicPr>
        <p:blipFill>
          <a:blip r:embed="rId3"/>
          <a:stretch/>
        </p:blipFill>
        <p:spPr>
          <a:xfrm>
            <a:off x="250920" y="4581360"/>
            <a:ext cx="3744720" cy="19432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5"/>
          <p:cNvSpPr/>
          <p:nvPr/>
        </p:nvSpPr>
        <p:spPr>
          <a:xfrm>
            <a:off x="4928400" y="1339560"/>
            <a:ext cx="398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рт на пятки наступае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гоняя зиму проч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нём снежок немножко тае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мораживает ноч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сным днём сосульки плачут —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лнце плавит им бок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чью тёмной слёзы прячут —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весенняя тоск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чейки повеселел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дро, радостно журча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чью шепчут еле-ел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ли вовсе крепко спя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оро с зимушкой прощаться —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ж к концу идёт феврал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ам хочу, друзья, признаться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не её немножко жаль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прель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290560" y="1626840"/>
            <a:ext cx="34527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конец весенний ден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ышал трухлявый пен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нкой струйкой ручеё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друг пустился наутёк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лылись в улыбке луж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огревшись после стуж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сню звонкую капел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евает про апрел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тицы в воздухе танцую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бо солнышко целуе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ромат весны знакомы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гоняет напрочь дрём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исую на асфальт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вочку в красивом плать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пускай асфальт сыро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6" descr="i?id=69a2acf5d24b77479336d35d3d9f389c-18-144&amp;n=21"/>
          <p:cNvPicPr/>
          <p:nvPr/>
        </p:nvPicPr>
        <p:blipFill>
          <a:blip r:embed="rId1"/>
          <a:stretch/>
        </p:blipFill>
        <p:spPr>
          <a:xfrm>
            <a:off x="324000" y="404640"/>
            <a:ext cx="2808000" cy="2376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i?id=5a192a6993ef57c9d88c6a92fff38b76-83-144&amp;n=21"/>
          <p:cNvPicPr/>
          <p:nvPr/>
        </p:nvPicPr>
        <p:blipFill>
          <a:blip r:embed="rId2"/>
          <a:stretch/>
        </p:blipFill>
        <p:spPr>
          <a:xfrm>
            <a:off x="1835280" y="2133720"/>
            <a:ext cx="2824200" cy="2305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i?id=d4850e6d6cd93e45ff8c5669d71d7c96-108-144&amp;n=21"/>
          <p:cNvPicPr/>
          <p:nvPr/>
        </p:nvPicPr>
        <p:blipFill>
          <a:blip r:embed="rId3"/>
          <a:stretch/>
        </p:blipFill>
        <p:spPr>
          <a:xfrm>
            <a:off x="395280" y="4365720"/>
            <a:ext cx="2664000" cy="2276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Ма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06" name="Picture 5" descr="i?id=8ebc241418fe5dc78b8dc36a88dc67c8-142-144&amp;n=21"/>
          <p:cNvPicPr/>
          <p:nvPr/>
        </p:nvPicPr>
        <p:blipFill>
          <a:blip r:embed="rId1"/>
          <a:stretch/>
        </p:blipFill>
        <p:spPr>
          <a:xfrm>
            <a:off x="179280" y="260280"/>
            <a:ext cx="2737080" cy="2005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i?id=9c9307f13c89d670066639d4ab57969d-04-144&amp;n=21"/>
          <p:cNvPicPr/>
          <p:nvPr/>
        </p:nvPicPr>
        <p:blipFill>
          <a:blip r:embed="rId2"/>
          <a:stretch/>
        </p:blipFill>
        <p:spPr>
          <a:xfrm>
            <a:off x="179280" y="2349360"/>
            <a:ext cx="2808360" cy="1789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i?id=d273102f1d36c97865ab9ec5d753c771-82-144&amp;n=21"/>
          <p:cNvPicPr/>
          <p:nvPr/>
        </p:nvPicPr>
        <p:blipFill>
          <a:blip r:embed="rId3"/>
          <a:stretch/>
        </p:blipFill>
        <p:spPr>
          <a:xfrm>
            <a:off x="179280" y="4221000"/>
            <a:ext cx="2808360" cy="20066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4"/>
          <p:cNvSpPr/>
          <p:nvPr/>
        </p:nvSpPr>
        <p:spPr>
          <a:xfrm>
            <a:off x="2843280" y="1555560"/>
            <a:ext cx="3529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ще в полях белеет снег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воды уж весной шумят—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гут и будят сонный брег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гут и блещут и гласят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и гласят во все концы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Весна идет, весна идет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 молодой Весны гонцы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а нас выслала вперед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сна идет, весна иде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тихих, теплых майских дне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мяный, светлый хоровод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лпится весело за ней!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16" descr="i?id=684a6495c33bd2e2404884897c5cd93a-67-144&amp;n=21"/>
          <p:cNvPicPr/>
          <p:nvPr/>
        </p:nvPicPr>
        <p:blipFill>
          <a:blip r:embed="rId4"/>
          <a:stretch/>
        </p:blipFill>
        <p:spPr>
          <a:xfrm>
            <a:off x="6300720" y="260280"/>
            <a:ext cx="2700360" cy="203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i?id=10861eff7bac3c8070fcf97cc6887bdb-123-144&amp;n=21"/>
          <p:cNvPicPr/>
          <p:nvPr/>
        </p:nvPicPr>
        <p:blipFill>
          <a:blip r:embed="rId5"/>
          <a:stretch/>
        </p:blipFill>
        <p:spPr>
          <a:xfrm>
            <a:off x="6300720" y="4056120"/>
            <a:ext cx="2664000" cy="2170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2" descr="i?id=730faca95fa7f402ef4ef12886b447b1-115-144&amp;n=21"/>
          <p:cNvPicPr/>
          <p:nvPr/>
        </p:nvPicPr>
        <p:blipFill>
          <a:blip r:embed="rId6"/>
          <a:stretch/>
        </p:blipFill>
        <p:spPr>
          <a:xfrm>
            <a:off x="6300720" y="2349360"/>
            <a:ext cx="2700360" cy="165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i?id=60e52fb7f96117c07ba68e8a139d10bf-96-144&amp;n=21"/>
          <p:cNvPicPr/>
          <p:nvPr/>
        </p:nvPicPr>
        <p:blipFill>
          <a:blip r:embed="rId1"/>
          <a:stretch/>
        </p:blipFill>
        <p:spPr>
          <a:xfrm>
            <a:off x="3995640" y="836640"/>
            <a:ext cx="2592360" cy="2303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i?id=a17420990a4152c7c576abd113c7c1be-74-144&amp;n=21"/>
          <p:cNvPicPr/>
          <p:nvPr/>
        </p:nvPicPr>
        <p:blipFill>
          <a:blip r:embed="rId2"/>
          <a:stretch/>
        </p:blipFill>
        <p:spPr>
          <a:xfrm>
            <a:off x="324000" y="836640"/>
            <a:ext cx="3384360" cy="237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i?id=6e54298604731e3a7a86c858bb702ee0-68-144&amp;n=21"/>
          <p:cNvPicPr/>
          <p:nvPr/>
        </p:nvPicPr>
        <p:blipFill>
          <a:blip r:embed="rId3"/>
          <a:stretch/>
        </p:blipFill>
        <p:spPr>
          <a:xfrm>
            <a:off x="6804000" y="836640"/>
            <a:ext cx="2087640" cy="2305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i?id=4f706a876b2949dcb93c472b294c9819-47-144&amp;n=21"/>
          <p:cNvPicPr/>
          <p:nvPr/>
        </p:nvPicPr>
        <p:blipFill>
          <a:blip r:embed="rId4"/>
          <a:stretch/>
        </p:blipFill>
        <p:spPr>
          <a:xfrm>
            <a:off x="468360" y="3573360"/>
            <a:ext cx="3311640" cy="2303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" descr="i?id=e23e5f268838208f7a488886b73c0178-72-144&amp;n=21"/>
          <p:cNvPicPr/>
          <p:nvPr/>
        </p:nvPicPr>
        <p:blipFill>
          <a:blip r:embed="rId5"/>
          <a:stretch/>
        </p:blipFill>
        <p:spPr>
          <a:xfrm>
            <a:off x="3995640" y="3573360"/>
            <a:ext cx="2737080" cy="2303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" descr="i?id=d99a3d7d35593943de57770a990f17bc-117-144&amp;n=21"/>
          <p:cNvPicPr/>
          <p:nvPr/>
        </p:nvPicPr>
        <p:blipFill>
          <a:blip r:embed="rId6"/>
          <a:stretch/>
        </p:blipFill>
        <p:spPr>
          <a:xfrm>
            <a:off x="7020000" y="3573360"/>
            <a:ext cx="2124000" cy="223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3"/>
          <p:cNvSpPr/>
          <p:nvPr/>
        </p:nvSpPr>
        <p:spPr>
          <a:xfrm>
            <a:off x="658800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1F0C-64B5-483A-940B-17620E4A694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4000" y="2924280"/>
            <a:ext cx="6840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16" descr="Imagini frumoase pentru tine 120 (116) / VFL.Ru это, фотохос…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6643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0" y="2997000"/>
            <a:ext cx="8066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ahoma"/>
              </a:rPr>
              <a:t>Люблю грозу в начале мая..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1116000" y="836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2a40"/>
                </a:solidFill>
                <a:latin typeface="Times New Roman"/>
              </a:rPr>
              <a:t>Список литерату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539640" y="1844640"/>
            <a:ext cx="7272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1. Н. Родивилина     «Март на пятки наступает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162a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2. Т. Польщикова «Апрель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3. Ф. И. Тютчев «Весенние воды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4. Иллюстрации</a:t>
            </a:r>
            <a:r>
              <a:rPr b="1" lang="en-US" sz="14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 http://yandex.ru/images/search?tex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5:43:27Z</dcterms:created>
  <dc:creator>Loner-XP</dc:creator>
  <dc:description/>
  <dc:language>en-US</dc:language>
  <cp:lastModifiedBy>Евгений</cp:lastModifiedBy>
  <dcterms:modified xsi:type="dcterms:W3CDTF">2015-03-12T08:09:46Z</dcterms:modified>
  <cp:revision>9</cp:revision>
  <dc:subject/>
  <dc:title>Весна  в русской поэзии и живописи</dc:title>
</cp:coreProperties>
</file>