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580-EC79-4A2D-B19D-7B8ADB6C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B0C-8F98-4720-BE47-A04E27F5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CBF-B02D-422C-864C-242B3FBD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237-4335-477D-BC52-C51CC95A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DA5D-1F27-44CA-A34A-0C8D0331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4608-33D4-4576-BF92-65EEB025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72A1-E835-470C-BAB3-56DAB468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695D-7DF1-4C64-B84F-557D7CA3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BF08-5AC8-4A80-ADC7-B98F22AB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CEF5-1F6F-41FD-A67F-67DDBE75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DEE3-BD32-4710-AB5E-FAFC413D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4AA-595F-402A-B887-C09083FC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7543-DD84-4F51-B12B-26AA137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4C96-556E-462D-AC07-8C27546F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4260-8C5B-438F-AEF9-327857F6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32A6-3742-4282-8FC9-1E8B5DCE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8F11-4B6D-4901-A413-A0157510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743-0F48-4E32-98FD-14284DF0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985-76EC-47C5-9906-7B3CBFB5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9AD-CE26-4D27-83F3-425CE5F3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629-B253-4E4B-9E16-135F3CBB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0E8-849D-4C6C-B0FC-B3A7A81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F9E-1EB2-47E3-9C26-9A1B518B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F46-BFA3-4EAD-9F9A-95BD9F64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07000" y="0"/>
            <a:ext cx="2150640" cy="9142200"/>
            <a:chOff x="-207000" y="0"/>
            <a:chExt cx="2150640" cy="9142200"/>
          </a:xfrm>
        </p:grpSpPr>
        <p:sp>
          <p:nvSpPr>
            <p:cNvPr id="1" name="Freeform 3"/>
            <p:cNvSpPr/>
            <p:nvPr/>
          </p:nvSpPr>
          <p:spPr>
            <a:xfrm>
              <a:off x="-6480" y="6904800"/>
              <a:ext cx="561960" cy="169704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697040"/>
                <a:gd name="textAreaBottom" fmla="*/ 1697400 h 169704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-23400" y="5211720"/>
              <a:ext cx="801360" cy="931320"/>
              <a:chOff x="-23400" y="5211720"/>
              <a:chExt cx="801360" cy="93132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-28800" y="5289120"/>
                <a:ext cx="302760" cy="198000"/>
              </a:xfrm>
              <a:custGeom>
                <a:avLst/>
                <a:gdLst>
                  <a:gd name="textAreaLeft" fmla="*/ -360 w 302760"/>
                  <a:gd name="textAreaRight" fmla="*/ 302760 w 30276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126720" y="5789160"/>
                <a:ext cx="518040" cy="164520"/>
              </a:xfrm>
              <a:custGeom>
                <a:avLst/>
                <a:gdLst>
                  <a:gd name="textAreaLeft" fmla="*/ -360 w 518040"/>
                  <a:gd name="textAreaRight" fmla="*/ 518040 w 518040"/>
                  <a:gd name="textAreaTop" fmla="*/ 0 h 164520"/>
                  <a:gd name="textAreaBottom" fmla="*/ 164520 h 1645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372240" y="5633640"/>
                <a:ext cx="541440" cy="8388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06560" y="3674520"/>
              <a:ext cx="846720" cy="1625760"/>
            </a:xfrm>
            <a:custGeom>
              <a:avLst/>
              <a:gdLst>
                <a:gd name="textAreaLeft" fmla="*/ 0 w 846720"/>
                <a:gd name="textAreaRight" fmla="*/ 847080 w 846720"/>
                <a:gd name="textAreaTop" fmla="*/ 0 h 1625760"/>
                <a:gd name="textAreaBottom" fmla="*/ 1626120 h 162576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21240" y="3578760"/>
              <a:ext cx="1964880" cy="3925080"/>
              <a:chOff x="-21240" y="3578760"/>
              <a:chExt cx="1964880" cy="39250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51000" y="3643920"/>
                <a:ext cx="729360" cy="1339920"/>
              </a:xfrm>
              <a:custGeom>
                <a:avLst/>
                <a:gdLst>
                  <a:gd name="textAreaLeft" fmla="*/ 0 w 729360"/>
                  <a:gd name="textAreaRight" fmla="*/ 729360 w 729360"/>
                  <a:gd name="textAreaTop" fmla="*/ 0 h 1339920"/>
                  <a:gd name="textAreaBottom" fmla="*/ 1340280 h 13399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25640" y="3858840"/>
                <a:ext cx="612360" cy="1362240"/>
              </a:xfrm>
              <a:custGeom>
                <a:avLst/>
                <a:gdLst>
                  <a:gd name="textAreaLeft" fmla="*/ -360 w 612360"/>
                  <a:gd name="textAreaRight" fmla="*/ 612360 w 612360"/>
                  <a:gd name="textAreaTop" fmla="*/ 0 h 1362240"/>
                  <a:gd name="textAreaBottom" fmla="*/ 1362600 h 136224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18600" y="4141440"/>
                <a:ext cx="217080" cy="689760"/>
              </a:xfrm>
              <a:custGeom>
                <a:avLst/>
                <a:gdLst>
                  <a:gd name="textAreaLeft" fmla="*/ -360 w 217080"/>
                  <a:gd name="textAreaRight" fmla="*/ 217080 w 217080"/>
                  <a:gd name="textAreaTop" fmla="*/ 0 h 689760"/>
                  <a:gd name="textAreaBottom" fmla="*/ 689760 h 6897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672120" y="5086800"/>
                <a:ext cx="200880" cy="411480"/>
              </a:xfrm>
              <a:custGeom>
                <a:avLst/>
                <a:gdLst>
                  <a:gd name="textAreaLeft" fmla="*/ 360 w 200880"/>
                  <a:gd name="textAreaRight" fmla="*/ 201600 w 200880"/>
                  <a:gd name="textAreaTop" fmla="*/ 0 h 411480"/>
                  <a:gd name="textAreaBottom" fmla="*/ 411840 h 41148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614520" y="5180400"/>
                <a:ext cx="48960" cy="243720"/>
              </a:xfrm>
              <a:custGeom>
                <a:avLst/>
                <a:gdLst>
                  <a:gd name="textAreaLeft" fmla="*/ 360 w 48960"/>
                  <a:gd name="textAreaRight" fmla="*/ 49680 w 4896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550440" y="5571720"/>
                <a:ext cx="1393200" cy="1932120"/>
                <a:chOff x="550440" y="5571720"/>
                <a:chExt cx="1393200" cy="19321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786240" y="5610240"/>
                  <a:ext cx="633240" cy="914400"/>
                </a:xfrm>
                <a:custGeom>
                  <a:avLst/>
                  <a:gdLst>
                    <a:gd name="textAreaLeft" fmla="*/ -360 w 633240"/>
                    <a:gd name="textAreaRight" fmla="*/ 633240 w 633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1647000" y="6692760"/>
                  <a:ext cx="146520" cy="37512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375120"/>
                    <a:gd name="textAreaBottom" fmla="*/ 375480 h 375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1720080" y="7340400"/>
                  <a:ext cx="265320" cy="63000"/>
                </a:xfrm>
                <a:custGeom>
                  <a:avLst/>
                  <a:gdLst>
                    <a:gd name="textAreaLeft" fmla="*/ -360 w 265320"/>
                    <a:gd name="textAreaRight" fmla="*/ 265320 w 2653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313200" y="8219880"/>
              <a:ext cx="673920" cy="826200"/>
              <a:chOff x="313200" y="8219880"/>
              <a:chExt cx="673920" cy="8262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732600" y="8276040"/>
                <a:ext cx="262440" cy="187920"/>
              </a:xfrm>
              <a:custGeom>
                <a:avLst/>
                <a:gdLst>
                  <a:gd name="textAreaLeft" fmla="*/ 0 w 262440"/>
                  <a:gd name="textAreaRight" fmla="*/ 262440 w 26244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449640" y="8731080"/>
                <a:ext cx="448920" cy="1562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174600" y="8619840"/>
                <a:ext cx="469440" cy="8028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231120" y="2394360"/>
              <a:ext cx="587160" cy="897840"/>
              <a:chOff x="231120" y="2394360"/>
              <a:chExt cx="587160" cy="89784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552960" y="2431800"/>
                <a:ext cx="275760" cy="22464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425160" y="2953440"/>
                <a:ext cx="471960" cy="186480"/>
              </a:xfrm>
              <a:custGeom>
                <a:avLst/>
                <a:gdLst>
                  <a:gd name="textAreaLeft" fmla="*/ 0 w 471960"/>
                  <a:gd name="textAreaRight" fmla="*/ 472320 w 47196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60120" y="2955240"/>
                <a:ext cx="493200" cy="957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969840" y="0"/>
              <a:ext cx="410040" cy="775440"/>
              <a:chOff x="969840" y="0"/>
              <a:chExt cx="410040" cy="77544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969840" y="0"/>
                <a:ext cx="129960" cy="291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291240"/>
                  <a:gd name="textAreaBottom" fmla="*/ 291600 h 291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157400" y="137880"/>
                <a:ext cx="222480" cy="24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112760" y="652320"/>
                <a:ext cx="232560" cy="1231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02960" y="199080"/>
              <a:ext cx="832320" cy="159984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1599840"/>
                <a:gd name="textAreaBottom" fmla="*/ 1600200 h 159984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287280" y="7205040"/>
              <a:ext cx="156960" cy="353160"/>
            </a:xfrm>
            <a:custGeom>
              <a:avLst/>
              <a:gdLst>
                <a:gd name="textAreaLeft" fmla="*/ 0 w 156960"/>
                <a:gd name="textAreaRight" fmla="*/ 156960 w 15696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315720" y="7602840"/>
              <a:ext cx="79560" cy="9072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2600" y="8699760"/>
              <a:ext cx="141480" cy="4424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-360" y="8399160"/>
              <a:ext cx="153360" cy="27072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-360" y="8358840"/>
              <a:ext cx="55800" cy="1800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-360" y="6855840"/>
              <a:ext cx="591840" cy="156600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1566000"/>
                <a:gd name="textAreaBottom" fmla="*/ 1566360 h 156600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22680" y="867600"/>
              <a:ext cx="409680" cy="5162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287280" y="1600200"/>
              <a:ext cx="199800" cy="243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682560" y="605160"/>
              <a:ext cx="176040" cy="338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280080" y="1525320"/>
              <a:ext cx="72360" cy="2052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697320" y="986400"/>
              <a:ext cx="85680" cy="86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-360" y="1875240"/>
              <a:ext cx="428760" cy="13755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1375560"/>
                <a:gd name="textAreaBottom" fmla="*/ 1375920 h 13755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65520" y="177120"/>
              <a:ext cx="957240" cy="1451880"/>
            </a:xfrm>
            <a:custGeom>
              <a:avLst/>
              <a:gdLst>
                <a:gd name="textAreaLeft" fmla="*/ 0 w 957240"/>
                <a:gd name="textAreaRight" fmla="*/ 957600 w 957240"/>
                <a:gd name="textAreaTop" fmla="*/ 0 h 1451880"/>
                <a:gd name="textAreaBottom" fmla="*/ 1452240 h 145188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E07E-E9CD-450E-BF2B-0D6667B356A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48600" y="0"/>
            <a:ext cx="6989040" cy="9143280"/>
            <a:chOff x="-48600" y="0"/>
            <a:chExt cx="6989040" cy="9143280"/>
          </a:xfrm>
        </p:grpSpPr>
        <p:grpSp>
          <p:nvGrpSpPr>
            <p:cNvPr id="85" name="Group 3"/>
            <p:cNvGrpSpPr/>
            <p:nvPr/>
          </p:nvGrpSpPr>
          <p:grpSpPr>
            <a:xfrm>
              <a:off x="3782160" y="304920"/>
              <a:ext cx="3158280" cy="7856280"/>
              <a:chOff x="3782160" y="304920"/>
              <a:chExt cx="3158280" cy="78562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4874400" y="479520"/>
                <a:ext cx="1586880" cy="3143520"/>
              </a:xfrm>
              <a:custGeom>
                <a:avLst/>
                <a:gdLst>
                  <a:gd name="textAreaLeft" fmla="*/ 0 w 1586880"/>
                  <a:gd name="textAreaRight" fmla="*/ 1587240 w 1586880"/>
                  <a:gd name="textAreaTop" fmla="*/ 360 h 3143520"/>
                  <a:gd name="textAreaBottom" fmla="*/ 3144240 h 314352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5533560" y="2634120"/>
                <a:ext cx="681120" cy="1123920"/>
              </a:xfrm>
              <a:custGeom>
                <a:avLst/>
                <a:gdLst>
                  <a:gd name="textAreaLeft" fmla="*/ 0 w 681120"/>
                  <a:gd name="textAreaRight" fmla="*/ 681480 w 681120"/>
                  <a:gd name="textAreaTop" fmla="*/ 360 h 1123920"/>
                  <a:gd name="textAreaBottom" fmla="*/ 1124640 h 11239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5103000" y="3448080"/>
                <a:ext cx="329400" cy="5270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360 h 527040"/>
                  <a:gd name="textAreaBottom" fmla="*/ 527760 h 5270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5355000" y="909360"/>
                <a:ext cx="291240" cy="73404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-360 h 734040"/>
                  <a:gd name="textAreaBottom" fmla="*/ 734040 h 7340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5347800" y="3521520"/>
                <a:ext cx="123840" cy="4420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360 h 442080"/>
                  <a:gd name="textAreaBottom" fmla="*/ 442800 h 4420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5285880" y="1653480"/>
                <a:ext cx="142560" cy="1904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-360 h 190440"/>
                  <a:gd name="textAreaBottom" fmla="*/ 190440 h 19044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4498200" y="3861000"/>
                <a:ext cx="393840" cy="435924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-360 h 4359240"/>
                  <a:gd name="textAreaBottom" fmla="*/ 4359240 h 43592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24480" y="4141800"/>
              <a:ext cx="385200" cy="1375200"/>
            </a:xfrm>
            <a:custGeom>
              <a:avLst/>
              <a:gdLst>
                <a:gd name="textAreaLeft" fmla="*/ 360 w 385200"/>
                <a:gd name="textAreaRight" fmla="*/ 385920 w 385200"/>
                <a:gd name="textAreaTop" fmla="*/ 0 h 1375200"/>
                <a:gd name="textAreaBottom" fmla="*/ 1375560 h 137520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99800" y="2666520"/>
              <a:ext cx="1498680" cy="324252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3242520"/>
                <a:gd name="textAreaBottom" fmla="*/ 3242880 h 324252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5524200"/>
              <a:ext cx="953280" cy="971280"/>
            </a:xfrm>
            <a:custGeom>
              <a:avLst/>
              <a:gdLst>
                <a:gd name="textAreaLeft" fmla="*/ 0 w 953280"/>
                <a:gd name="textAreaRight" fmla="*/ 953640 w 953280"/>
                <a:gd name="textAreaTop" fmla="*/ 0 h 971280"/>
                <a:gd name="textAreaBottom" fmla="*/ 971640 h 97128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067760" y="6042960"/>
              <a:ext cx="422280" cy="981720"/>
            </a:xfrm>
            <a:custGeom>
              <a:avLst/>
              <a:gdLst>
                <a:gd name="textAreaLeft" fmla="*/ -360 w 422280"/>
                <a:gd name="textAreaRight" fmla="*/ 422280 w 42228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950760" y="6305040"/>
              <a:ext cx="103320" cy="579600"/>
            </a:xfrm>
            <a:custGeom>
              <a:avLst/>
              <a:gdLst>
                <a:gd name="textAreaLeft" fmla="*/ -360 w 103320"/>
                <a:gd name="textAreaRight" fmla="*/ 103320 w 10332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415160" y="6927480"/>
              <a:ext cx="1319040" cy="2215800"/>
            </a:xfrm>
            <a:custGeom>
              <a:avLst/>
              <a:gdLst>
                <a:gd name="textAreaLeft" fmla="*/ 0 w 1319040"/>
                <a:gd name="textAreaRight" fmla="*/ 1319400 w 1319040"/>
                <a:gd name="textAreaTop" fmla="*/ 0 h 2215800"/>
                <a:gd name="textAreaBottom" fmla="*/ 2216160 h 221580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3057840" y="1560240"/>
              <a:ext cx="965520" cy="1335240"/>
              <a:chOff x="3057840" y="1560240"/>
              <a:chExt cx="965520" cy="1335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3227040" y="1655640"/>
                <a:ext cx="380880" cy="2844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3408840" y="2297160"/>
                <a:ext cx="651960" cy="236160"/>
              </a:xfrm>
              <a:custGeom>
                <a:avLst/>
                <a:gdLst>
                  <a:gd name="textAreaLeft" fmla="*/ 0 w 651960"/>
                  <a:gd name="textAreaRight" fmla="*/ 652320 w 65196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2967120" y="2525040"/>
                <a:ext cx="681480" cy="120240"/>
              </a:xfrm>
              <a:custGeom>
                <a:avLst/>
                <a:gdLst>
                  <a:gd name="textAreaLeft" fmla="*/ 0 w 681480"/>
                  <a:gd name="textAreaRight" fmla="*/ 681840 w 6814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4183200" y="500040"/>
              <a:ext cx="734400" cy="905400"/>
              <a:chOff x="4183200" y="500040"/>
              <a:chExt cx="734400" cy="9054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4307040" y="1108080"/>
                <a:ext cx="238320" cy="2725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4159440" y="695160"/>
                <a:ext cx="407880" cy="22644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4572000" y="661680"/>
                <a:ext cx="426600" cy="116280"/>
              </a:xfrm>
              <a:custGeom>
                <a:avLst/>
                <a:gdLst>
                  <a:gd name="textAreaLeft" fmla="*/ 0 w 426600"/>
                  <a:gd name="textAreaRight" fmla="*/ 426960 w 426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573120" y="7086960"/>
              <a:ext cx="1081800" cy="926280"/>
              <a:chOff x="573120" y="7086960"/>
              <a:chExt cx="1081800" cy="9262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363680" y="7497360"/>
                <a:ext cx="188640" cy="3985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933840" y="7617960"/>
                <a:ext cx="322560" cy="33084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589320" y="7172640"/>
                <a:ext cx="337320" cy="1684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169560" y="675720"/>
              <a:ext cx="1489320" cy="1469880"/>
              <a:chOff x="169560" y="675720"/>
              <a:chExt cx="1489320" cy="146988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148760" y="1652760"/>
                <a:ext cx="474480" cy="398160"/>
              </a:xfrm>
              <a:custGeom>
                <a:avLst/>
                <a:gdLst>
                  <a:gd name="textAreaLeft" fmla="*/ 360 w 474480"/>
                  <a:gd name="textAreaRight" fmla="*/ 475200 w 47448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522360" y="948600"/>
                <a:ext cx="812160" cy="330480"/>
              </a:xfrm>
              <a:custGeom>
                <a:avLst/>
                <a:gdLst>
                  <a:gd name="textAreaLeft" fmla="*/ 360 w 812160"/>
                  <a:gd name="textAreaRight" fmla="*/ 812880 w 81216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-20880" y="1393200"/>
                <a:ext cx="848880" cy="168480"/>
              </a:xfrm>
              <a:custGeom>
                <a:avLst/>
                <a:gdLst>
                  <a:gd name="textAreaLeft" fmla="*/ 360 w 848880"/>
                  <a:gd name="textAreaRight" fmla="*/ 849600 w 8488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5569560" y="4989240"/>
              <a:ext cx="905400" cy="2010600"/>
              <a:chOff x="5569560" y="4989240"/>
              <a:chExt cx="905400" cy="201060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5646240" y="6270480"/>
                <a:ext cx="266760" cy="70812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708120"/>
                  <a:gd name="textAreaBottom" fmla="*/ 708480 h 7081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5957280" y="5954040"/>
                <a:ext cx="456840" cy="588240"/>
              </a:xfrm>
              <a:custGeom>
                <a:avLst/>
                <a:gdLst>
                  <a:gd name="textAreaLeft" fmla="*/ -360 w 456840"/>
                  <a:gd name="textAreaRight" fmla="*/ 456840 w 456840"/>
                  <a:gd name="textAreaTop" fmla="*/ 0 h 588240"/>
                  <a:gd name="textAreaBottom" fmla="*/ 588600 h 588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5617440" y="5038920"/>
                <a:ext cx="477720" cy="299880"/>
              </a:xfrm>
              <a:custGeom>
                <a:avLst/>
                <a:gdLst>
                  <a:gd name="textAreaLeft" fmla="*/ -360 w 477720"/>
                  <a:gd name="textAreaRight" fmla="*/ 477720 w 4777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448640" y="3960"/>
              <a:ext cx="1024560" cy="1875240"/>
            </a:xfrm>
            <a:custGeom>
              <a:avLst/>
              <a:gdLst>
                <a:gd name="textAreaLeft" fmla="*/ 0 w 1024560"/>
                <a:gd name="textAreaRight" fmla="*/ 1024920 w 1024560"/>
                <a:gd name="textAreaTop" fmla="*/ 0 h 1875240"/>
                <a:gd name="textAreaBottom" fmla="*/ 1875600 h 187524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2567880" y="215640"/>
              <a:ext cx="810360" cy="1254960"/>
            </a:xfrm>
            <a:custGeom>
              <a:avLst/>
              <a:gdLst>
                <a:gd name="textAreaLeft" fmla="*/ 0 w 810360"/>
                <a:gd name="textAreaRight" fmla="*/ 810720 w 810360"/>
                <a:gd name="textAreaTop" fmla="*/ 360 h 1254960"/>
                <a:gd name="textAreaBottom" fmla="*/ 1255680 h 125496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2377080" y="1815120"/>
              <a:ext cx="391680" cy="58788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-360 h 587880"/>
                <a:gd name="textAreaBottom" fmla="*/ 587880 h 58788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2647080" y="1708920"/>
              <a:ext cx="146520" cy="4932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360 h 493200"/>
                <a:gd name="textAreaBottom" fmla="*/ 493920 h 49320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1908360" y="0"/>
              <a:ext cx="147600" cy="2559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2586600" y="2619000"/>
              <a:ext cx="466560" cy="48682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-360 h 4868280"/>
                <a:gd name="textAreaBottom" fmla="*/ 4868280 h 48682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3911400"/>
              <a:ext cx="42840" cy="279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5F3B-31B8-48C1-86BE-A667B7DED18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628640" y="324000"/>
            <a:ext cx="39499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Чудесные крас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97000" y="2652840"/>
          <a:ext cx="4392720" cy="47916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60093"/>
                          </a:solidFill>
                          <a:latin typeface="Arial Black"/>
                          <a:ea typeface="Times New Roman"/>
                        </a:rPr>
                        <a:t>Игры с бумагой и красками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14"/>
          <p:cNvSpPr/>
          <p:nvPr/>
        </p:nvSpPr>
        <p:spPr>
          <a:xfrm>
            <a:off x="779760" y="3123000"/>
            <a:ext cx="589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 Black"/>
                <a:ea typeface="Times New Roman"/>
              </a:rPr>
              <a:t>Консультация для родителей и педагог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 Black"/>
                <a:ea typeface="Times New Roman"/>
              </a:rPr>
              <a:t>Составила: Рамзанова М.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16" descr="PAINT0"/>
          <p:cNvPicPr/>
          <p:nvPr/>
        </p:nvPicPr>
        <p:blipFill>
          <a:blip r:embed="rId1"/>
          <a:stretch/>
        </p:blipFill>
        <p:spPr>
          <a:xfrm>
            <a:off x="1341360" y="4067280"/>
            <a:ext cx="4608720" cy="46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71360" y="4357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952560" y="250920"/>
            <a:ext cx="58388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рижми и отпечатай!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-171360" y="4786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7" descr="j0234089"/>
          <p:cNvPicPr/>
          <p:nvPr/>
        </p:nvPicPr>
        <p:blipFill>
          <a:blip r:embed="rId1"/>
          <a:stretch/>
        </p:blipFill>
        <p:spPr>
          <a:xfrm>
            <a:off x="665280" y="826920"/>
            <a:ext cx="1584360" cy="9525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2033640" y="892080"/>
            <a:ext cx="48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«Печатание ладошкой, картошкой,    пальчиком, ластиком…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60280" y="1765800"/>
            <a:ext cx="6597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образительные материалы: плотная бумага, краска,  налитая в ванночку, кисточка, печат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Разведи на палитре краску нужного цвета. Готовая к работе краска должна быть похожа на кисель. Прижми ладонь к разведенной краске, а затем к бумаге: на бумаге остался отпечаток твоей руки. Вымой скорее руки и начинай печатать, оставляя на бумаге отпечатки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уби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пичечного короб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ловинки клубня картофел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руглого донышка стака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рышечки от чего-либ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Ластика… и многих других предмето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 теперь из этих отпечатков придумай интересные изображения и дорисуй их кисточко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60093"/>
                </a:solidFill>
                <a:latin typeface="Verdana"/>
              </a:rPr>
              <a:t>Ай да краски! Они умеют не только рисовать, но и печатать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11" descr="Default - 0001-1"/>
          <p:cNvPicPr/>
          <p:nvPr/>
        </p:nvPicPr>
        <p:blipFill>
          <a:blip r:embed="rId2"/>
          <a:stretch/>
        </p:blipFill>
        <p:spPr>
          <a:xfrm>
            <a:off x="1889280" y="7093080"/>
            <a:ext cx="3600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j0234089"/>
          <p:cNvPicPr/>
          <p:nvPr/>
        </p:nvPicPr>
        <p:blipFill>
          <a:blip r:embed="rId1"/>
          <a:stretch/>
        </p:blipFill>
        <p:spPr>
          <a:xfrm>
            <a:off x="692280" y="971640"/>
            <a:ext cx="1657080" cy="1368360"/>
          </a:xfrm>
          <a:prstGeom prst="rect">
            <a:avLst/>
          </a:prstGeom>
          <a:ln w="0">
            <a:noFill/>
          </a:ln>
        </p:spPr>
      </p:pic>
      <p:sp>
        <p:nvSpPr>
          <p:cNvPr id="212" name="WordArt 5"/>
          <p:cNvSpPr txBox="1"/>
          <p:nvPr/>
        </p:nvSpPr>
        <p:spPr>
          <a:xfrm>
            <a:off x="692280" y="324000"/>
            <a:ext cx="5572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Диковинный зоопарк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2915280" y="1316880"/>
            <a:ext cx="34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Verdana"/>
              </a:rPr>
              <a:t>«Пальцевая живопись»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33360" y="2417400"/>
            <a:ext cx="61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образительные материалы: плотная бумага, крас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згляни на эту картинку – вот такое диковинное животное может получиться, если ты оставишь на бумаге отпечатки своих пальцев. Обмакивай палец каждый раз в новую краску, …и все обитатели диковинного зоопарка станут разноцветным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60093"/>
                </a:solidFill>
                <a:latin typeface="Verdana"/>
              </a:rPr>
              <a:t>А теперь попробуй сам придумать и изобразить какого – нибудь чудо – зверя.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Picture 8" descr="Default2 - 0002-1"/>
          <p:cNvPicPr/>
          <p:nvPr/>
        </p:nvPicPr>
        <p:blipFill>
          <a:blip r:embed="rId2"/>
          <a:stretch/>
        </p:blipFill>
        <p:spPr>
          <a:xfrm>
            <a:off x="1628640" y="5508720"/>
            <a:ext cx="3791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j0234089"/>
          <p:cNvPicPr/>
          <p:nvPr/>
        </p:nvPicPr>
        <p:blipFill>
          <a:blip r:embed="rId1"/>
          <a:stretch/>
        </p:blipFill>
        <p:spPr>
          <a:xfrm>
            <a:off x="1125360" y="971640"/>
            <a:ext cx="145908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WordArt 5"/>
          <p:cNvSpPr txBox="1"/>
          <p:nvPr/>
        </p:nvSpPr>
        <p:spPr>
          <a:xfrm>
            <a:off x="1268280" y="250920"/>
            <a:ext cx="534348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Узоры из верев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60280" y="2262600"/>
            <a:ext cx="63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образительные материалы: плотная бумага, краска, веревка или шпагат, картон, кле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пробуйте изготовить крупную печать. Берется обыкновенный кубик или деревянный брусок, чтобы его было удобно взять в руку. На одну из сторон бруска наклеивается картон, на картон наносится узор из веревки (бумажного шпагата, капронового шнура). Нанести на картон клей и уложить веревку зигзагами или по спирали. На узор с помощью тампона нанесите краску и печатайте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60093"/>
                </a:solidFill>
                <a:latin typeface="Verdana"/>
              </a:rPr>
              <a:t>При помощи такой печати – штампа можно сделать узоры на косынке или продлить жизнь старой футболке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9" name="Picture 7" descr="Default - 0005-1"/>
          <p:cNvPicPr/>
          <p:nvPr/>
        </p:nvPicPr>
        <p:blipFill>
          <a:blip r:embed="rId2"/>
          <a:stretch/>
        </p:blipFill>
        <p:spPr>
          <a:xfrm>
            <a:off x="3573360" y="637236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Default - 0005-2"/>
          <p:cNvPicPr/>
          <p:nvPr/>
        </p:nvPicPr>
        <p:blipFill>
          <a:blip r:embed="rId3"/>
          <a:stretch/>
        </p:blipFill>
        <p:spPr>
          <a:xfrm>
            <a:off x="549360" y="6372360"/>
            <a:ext cx="2592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j0234089"/>
          <p:cNvPicPr/>
          <p:nvPr/>
        </p:nvPicPr>
        <p:blipFill>
          <a:blip r:embed="rId1"/>
          <a:stretch/>
        </p:blipFill>
        <p:spPr>
          <a:xfrm>
            <a:off x="1125360" y="971640"/>
            <a:ext cx="1366920" cy="1079280"/>
          </a:xfrm>
          <a:prstGeom prst="rect">
            <a:avLst/>
          </a:prstGeom>
          <a:ln w="0">
            <a:noFill/>
          </a:ln>
        </p:spPr>
      </p:pic>
      <p:sp>
        <p:nvSpPr>
          <p:cNvPr id="222" name="WordArt 5"/>
          <p:cNvSpPr txBox="1"/>
          <p:nvPr/>
        </p:nvSpPr>
        <p:spPr>
          <a:xfrm>
            <a:off x="1268280" y="250920"/>
            <a:ext cx="5343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ечатаем цветы и травы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60280" y="2117880"/>
            <a:ext cx="6315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образительные материалы: плотная бумага, краска, кисть, красивые засушенные расте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уляя в лесу или поле, собирай красивые по форме листочки, цветы, другие растения. Уложи, расправив каждый лепесток между газетами, когда подсохнут, приступай к работе. Положи растение на первый лист бумаги, тщательно покрась все растение. Затем осторожно переложи на чистый лист, покрашенной стороной вниз, прикрой сверху другим чистым листом и слегка надав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60093"/>
                </a:solidFill>
                <a:latin typeface="Verdana"/>
              </a:rPr>
              <a:t>Возьми еловую веточку и отпечатай её – Новогодняя открытка готова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4" name="Picture 7" descr="Default - 0007-1"/>
          <p:cNvPicPr/>
          <p:nvPr/>
        </p:nvPicPr>
        <p:blipFill>
          <a:blip r:embed="rId2"/>
          <a:stretch/>
        </p:blipFill>
        <p:spPr>
          <a:xfrm>
            <a:off x="1557360" y="6046920"/>
            <a:ext cx="3743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j0234089"/>
          <p:cNvPicPr/>
          <p:nvPr/>
        </p:nvPicPr>
        <p:blipFill>
          <a:blip r:embed="rId1"/>
          <a:stretch/>
        </p:blipFill>
        <p:spPr>
          <a:xfrm>
            <a:off x="333360" y="1042920"/>
            <a:ext cx="1171440" cy="952560"/>
          </a:xfrm>
          <a:prstGeom prst="rect">
            <a:avLst/>
          </a:prstGeom>
          <a:ln w="0">
            <a:noFill/>
          </a:ln>
        </p:spPr>
      </p:pic>
      <p:sp>
        <p:nvSpPr>
          <p:cNvPr id="226" name="WordArt 5"/>
          <p:cNvSpPr txBox="1"/>
          <p:nvPr/>
        </p:nvSpPr>
        <p:spPr>
          <a:xfrm>
            <a:off x="620640" y="324000"/>
            <a:ext cx="53434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Фейерверк" или "Паучки в темнот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039760" y="1186560"/>
            <a:ext cx="45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«Восковые карандаши + акварель»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60280" y="2171160"/>
            <a:ext cx="6597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Изобразительные материалы: плотная бумага, краска, кисть№8, восковые или масляные карандаш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Ход работы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Фейервер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Нарисуй большой фейерверк, сильно нажимая на карандаш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Нарисуй побольше искр и зигзаг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Закрась рисунок жидкой краской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аучки в темнот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Нарисуй толстое туловище и большие глаз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Закрась туловище мелкам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Нарисуй восемь лапок и паутину, на которой висит паучок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Закрась рисунок жидкой краской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9" name="Picture 7" descr="Default - 0009-1"/>
          <p:cNvPicPr/>
          <p:nvPr/>
        </p:nvPicPr>
        <p:blipFill>
          <a:blip r:embed="rId5"/>
          <a:stretch/>
        </p:blipFill>
        <p:spPr>
          <a:xfrm>
            <a:off x="549360" y="5495760"/>
            <a:ext cx="59626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Default - 0010-1"/>
          <p:cNvPicPr/>
          <p:nvPr/>
        </p:nvPicPr>
        <p:blipFill>
          <a:blip r:embed="rId1"/>
          <a:stretch/>
        </p:blipFill>
        <p:spPr>
          <a:xfrm>
            <a:off x="333360" y="395280"/>
            <a:ext cx="6292800" cy="82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1268280" y="250920"/>
            <a:ext cx="53434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Радужные рыб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2" name="Picture 5" descr="j0234089"/>
          <p:cNvPicPr/>
          <p:nvPr/>
        </p:nvPicPr>
        <p:blipFill>
          <a:blip r:embed="rId1"/>
          <a:stretch/>
        </p:blipFill>
        <p:spPr>
          <a:xfrm>
            <a:off x="1268280" y="755640"/>
            <a:ext cx="1171800" cy="952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6"/>
          <p:cNvSpPr/>
          <p:nvPr/>
        </p:nvSpPr>
        <p:spPr>
          <a:xfrm>
            <a:off x="3020760" y="111528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«Печатание ладошкой»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907920" y="1579680"/>
            <a:ext cx="446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Изобразительные материалы: плотная бумага, крас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Ход рабо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Ложкой разложи краску разных цветов на газет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Прижми ладонь к краске, затем к бумаг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Пальцем дорисуй хвости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Нарисуй глаз и яркие пятнышк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5" name="Picture 7" descr="Default - 0011-1"/>
          <p:cNvPicPr/>
          <p:nvPr/>
        </p:nvPicPr>
        <p:blipFill>
          <a:blip r:embed="rId6"/>
          <a:stretch/>
        </p:blipFill>
        <p:spPr>
          <a:xfrm>
            <a:off x="765000" y="4572000"/>
            <a:ext cx="5294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>
            <a:off x="1700280" y="395280"/>
            <a:ext cx="45054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Кош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2822040" y="125820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«Пальчиковая живопись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8" name="Picture 6" descr="j0234089"/>
          <p:cNvPicPr/>
          <p:nvPr/>
        </p:nvPicPr>
        <p:blipFill>
          <a:blip r:embed="rId1"/>
          <a:stretch/>
        </p:blipFill>
        <p:spPr>
          <a:xfrm>
            <a:off x="1052640" y="1042920"/>
            <a:ext cx="1368360" cy="10810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404640" y="2261880"/>
            <a:ext cx="60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образительные материалы: плотная бумага, крас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льцем нарисуй туловище кошк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очно так же нарисуй кружок поменьше - голов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льцем дорисуй хвостик и ушк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рисуй усы. Кончиком пальца нарисуй глаза и но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рисуй белой краской щеки и груд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0" name="Picture 8" descr="Default - 0015-1"/>
          <p:cNvPicPr/>
          <p:nvPr/>
        </p:nvPicPr>
        <p:blipFill>
          <a:blip r:embed="rId2"/>
          <a:stretch/>
        </p:blipFill>
        <p:spPr>
          <a:xfrm>
            <a:off x="1773360" y="5003640"/>
            <a:ext cx="30956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1628640" y="324000"/>
            <a:ext cx="45054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Ракет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2" name="Picture 5" descr="j0234089"/>
          <p:cNvPicPr/>
          <p:nvPr/>
        </p:nvPicPr>
        <p:blipFill>
          <a:blip r:embed="rId1"/>
          <a:stretch/>
        </p:blipFill>
        <p:spPr>
          <a:xfrm>
            <a:off x="981000" y="973080"/>
            <a:ext cx="1511280" cy="1224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2831400" y="118836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«Пальчиковая живопись»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04640" y="2269440"/>
            <a:ext cx="616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образительные материалы: плотная бумага, краска, газета, кисть №8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режи из газеты длинную ракету. Нарви кусочки  виде облаков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бмакни кусочки в воду, дай стечь и придави к белой бумаг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ольшой кистью нанеси сверху синюю краск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тлепи кусочки газеты, дай просохну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льцем раскрась нос ракеты. Нарисуй узоры и желтое плам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 желтым язычкам пририсуй красные. Кончиком пальца нарисуй плам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5" name="Picture 8" descr="Default - 0012-1"/>
          <p:cNvPicPr/>
          <p:nvPr/>
        </p:nvPicPr>
        <p:blipFill>
          <a:blip r:embed="rId2"/>
          <a:stretch/>
        </p:blipFill>
        <p:spPr>
          <a:xfrm>
            <a:off x="1844640" y="6084720"/>
            <a:ext cx="284796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j0234089"/>
          <p:cNvPicPr/>
          <p:nvPr/>
        </p:nvPicPr>
        <p:blipFill>
          <a:blip r:embed="rId1"/>
          <a:stretch/>
        </p:blipFill>
        <p:spPr>
          <a:xfrm>
            <a:off x="836640" y="900000"/>
            <a:ext cx="1511280" cy="12240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5"/>
          <p:cNvSpPr txBox="1"/>
          <p:nvPr/>
        </p:nvSpPr>
        <p:spPr>
          <a:xfrm>
            <a:off x="1700280" y="250920"/>
            <a:ext cx="45054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оле с кроликам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2708280" y="111564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«Пальчиковая живопись, печатание ладошкой»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04640" y="2336040"/>
            <a:ext cx="61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образительные материалы: плотная бумага, крас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 всей бумаге нанеси желтые отпечатки рук, а затем зеле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льцем нарисуй поверх этого толстую колбаску – туловище кроли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орисуй голов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льцем нарисуй ушки и лап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рисуй белый хвости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чиком пальца нарисуй цветоч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0" name="Picture 8" descr="Default - 0013-1"/>
          <p:cNvPicPr/>
          <p:nvPr/>
        </p:nvPicPr>
        <p:blipFill>
          <a:blip r:embed="rId2"/>
          <a:stretch/>
        </p:blipFill>
        <p:spPr>
          <a:xfrm>
            <a:off x="549360" y="5508720"/>
            <a:ext cx="5695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43000" y="444600"/>
          <a:ext cx="6065640" cy="8231040"/>
        </p:xfrm>
        <a:graphic>
          <a:graphicData uri="http://schemas.openxmlformats.org/drawingml/2006/table">
            <a:tbl>
              <a:tblPr/>
              <a:tblGrid>
                <a:gridCol w="6065640"/>
              </a:tblGrid>
              <a:tr h="823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Уважаемые мамы и папы, бабушки и дедушки!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Мы приглашаем вас вместе с вашими детьми и внуками поиграть красками, бумагой и водой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Ваш ребенок только – только входит в этот мир. Он ещё многого не знает, но ему уже все интересно. Занятия изобразительной деятельностью очень полезны всем детям – они помогают сформировать творческую личность, учат мыслить смело и свободно. Кроме того, постоянно соприкасаясь с искусством и творя самостоятельно, ребенок будет любить и понимать его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Приобщая ребенка к искусству, вы сможете увидеть, какую радость доставляет ему творчество и убедиться в его талантливости. Познайте радость открытий вместе с вашим ребенком.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Занятия «Волшебные краски», предложенные в консультации помогут ребенку не только научиться владеть кистью, но и узнать о нетрадиционных техниках рисования. Что такое монотипия, граттаж, экслибрис и многое другое.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Найдите часок – другой и поиграйте с детьми в наши игры с бумагой и красками – ведь в них можно играть не только в детском саду, но и в кругу семьи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j0234089"/>
          <p:cNvPicPr/>
          <p:nvPr/>
        </p:nvPicPr>
        <p:blipFill>
          <a:blip r:embed="rId1"/>
          <a:stretch/>
        </p:blipFill>
        <p:spPr>
          <a:xfrm>
            <a:off x="1052640" y="755640"/>
            <a:ext cx="1511280" cy="1224000"/>
          </a:xfrm>
          <a:prstGeom prst="rect">
            <a:avLst/>
          </a:prstGeom>
          <a:ln w="0">
            <a:noFill/>
          </a:ln>
        </p:spPr>
      </p:pic>
      <p:sp>
        <p:nvSpPr>
          <p:cNvPr id="252" name="WordArt 5"/>
          <p:cNvSpPr txBox="1"/>
          <p:nvPr/>
        </p:nvSpPr>
        <p:spPr>
          <a:xfrm>
            <a:off x="1773360" y="250920"/>
            <a:ext cx="45050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Ангелочек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2637000" y="1042560"/>
            <a:ext cx="40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«Пальчиковая живопись, печатание ладошкой»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1484280" y="1337760"/>
            <a:ext cx="4969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Изобразительные материалы: плотная бумага, краска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од работы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Сделай отпечаток руки посредине листа бумаги. Это – перевернутое платьиц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Сделай пониже еще два отпечатка – это будут крыль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Переверни бумагу. Пальцем нарисуй круг – голов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Кончиком пальца нарисуй рукава и ручк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Пальцем нарисуй волосы и сияние вокруг головы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Поставь точки глаза и нос, дорисуй улыбк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Picture 7" descr="Default - 0014-1"/>
          <p:cNvPicPr/>
          <p:nvPr/>
        </p:nvPicPr>
        <p:blipFill>
          <a:blip r:embed="rId2"/>
          <a:stretch/>
        </p:blipFill>
        <p:spPr>
          <a:xfrm>
            <a:off x="1773360" y="4427640"/>
            <a:ext cx="381636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4640" y="2843280"/>
            <a:ext cx="6183360" cy="19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Verdana"/>
              </a:rPr>
              <a:t>СПАСИБО </a:t>
            </a:r>
            <a:br>
              <a:rPr sz="5400"/>
            </a:br>
            <a:r>
              <a:rPr b="1" i="1" lang="ru-RU" sz="5400" spc="-1" strike="noStrike">
                <a:solidFill>
                  <a:srgbClr val="ff3300"/>
                </a:solidFill>
                <a:latin typeface="Verdana"/>
              </a:rPr>
              <a:t>ЗА ВНИМАНИЕ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404640" y="-460440"/>
            <a:ext cx="60487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Уважаемые взрослые, помните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Важно, чтобы ребенок испытывал от занятий радость. Старайтесь не оставлять ребенка без внимания, почаще хвалите его работу и усерди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Для ребенка важно уважительное отношение к продуктам его труда. Как только представится возможность, покажите картину другим членам семьи и гостям. Оформите в рамку и повесьте на стен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Все взрослые обязаны, относится к занятиям детей со всей серьезностью. Недопустима хотя бы тень насмешки, когда вы будете оценивать выполненную малышом открытку или просто эксперимент с бумагой, красками и водо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Не бойтесь, что ваш малыш обольется водой, запачкается краской. Ведь вы будете рядом и в любой момент сможете помочь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 Black"/>
                <a:ea typeface="Times New Roman"/>
              </a:rPr>
              <a:t>                 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Успехов  Вам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0" y="4410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765000" y="250920"/>
            <a:ext cx="583884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Бабочка вот - вот взлетит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5" name="Picture 6" descr="j0234089"/>
          <p:cNvPicPr/>
          <p:nvPr/>
        </p:nvPicPr>
        <p:blipFill>
          <a:blip r:embed="rId1"/>
          <a:stretch/>
        </p:blipFill>
        <p:spPr>
          <a:xfrm>
            <a:off x="907920" y="684360"/>
            <a:ext cx="180972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3487680" y="12582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«МОНОТИПИЯ»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62000" y="2122560"/>
            <a:ext cx="66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образительные материалы: краска, кисти, бумаг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ожите лист бумаги пополам. На одной стороне поближе к центру нанесите кисточкой несколько ярких пятен. Пока краска не высохла, сложи лист бумаги пополам по сгибу и хорошо прогладь ладошкой. Откройте и всмотритесь: что получилось? Сказочные цветы, жук, а может это фантастическое животное? Да нет – это красавица бабочка! Получается сказка, которую можно дорисовать кисточко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Кстати, монотипия – это в переводе «отпечаток, снятый один раз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9" descr="Default - 0006-1"/>
          <p:cNvPicPr/>
          <p:nvPr/>
        </p:nvPicPr>
        <p:blipFill>
          <a:blip r:embed="rId2"/>
          <a:stretch/>
        </p:blipFill>
        <p:spPr>
          <a:xfrm>
            <a:off x="1052640" y="5940360"/>
            <a:ext cx="511164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620640" y="468360"/>
            <a:ext cx="583884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олшебная ниточк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5" descr="j0234089"/>
          <p:cNvPicPr/>
          <p:nvPr/>
        </p:nvPicPr>
        <p:blipFill>
          <a:blip r:embed="rId1"/>
          <a:stretch/>
        </p:blipFill>
        <p:spPr>
          <a:xfrm>
            <a:off x="836640" y="1476360"/>
            <a:ext cx="1924200" cy="1152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3493080" y="176292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«Пиктография»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04640" y="2910960"/>
            <a:ext cx="60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образительные материалы: нитки №10, гуашь разного цвета, бумаг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дну, две, три нитки пропитать красками. Разложить на листе бумаги и закрыть другим листом так, чтобы концы ниток были видны. Тяните одну ниточку, затем другую, третью, а верхний лист придерживайте рукой. Получилась необычная картинка, а вот что это, придумайте сами и дорисуйте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60093"/>
                </a:solidFill>
                <a:latin typeface="Verdana"/>
              </a:rPr>
              <a:t>Попробуйте, вы получите столько радости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0" y="4348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620640" y="539640"/>
            <a:ext cx="583884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ластилиновая сказк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5" name="Picture 6" descr="j0234089"/>
          <p:cNvPicPr/>
          <p:nvPr/>
        </p:nvPicPr>
        <p:blipFill>
          <a:blip r:embed="rId1"/>
          <a:stretch/>
        </p:blipFill>
        <p:spPr>
          <a:xfrm>
            <a:off x="476280" y="1403280"/>
            <a:ext cx="2087640" cy="1368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2547360" y="161820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Verdana"/>
              </a:rPr>
              <a:t>«Рисование пластилином»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549360" y="3378600"/>
            <a:ext cx="58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образительные материалы: плотная бумага или картон, пластилин, карандаш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плотный лист бумаги или картон нанесите контур будущего рисунка. Может это будет зимний лес с его жителями или подводное царство. Затем выкладывайте рисунок пластилином – «рисуйте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олучается очень даже здорово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j0234089"/>
          <p:cNvPicPr/>
          <p:nvPr/>
        </p:nvPicPr>
        <p:blipFill>
          <a:blip r:embed="rId1"/>
          <a:stretch/>
        </p:blipFill>
        <p:spPr>
          <a:xfrm>
            <a:off x="333360" y="755640"/>
            <a:ext cx="1895400" cy="11905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0" y="434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WordArt 5"/>
          <p:cNvSpPr txBox="1"/>
          <p:nvPr/>
        </p:nvSpPr>
        <p:spPr>
          <a:xfrm>
            <a:off x="1019160" y="250920"/>
            <a:ext cx="5838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Снежинки на бархат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553840" y="11152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«Рисование зубной щеткой»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60280" y="1975320"/>
            <a:ext cx="63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образительные материалы: бумага, гуашь или акварель, ножницы, карандаш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 эту игру особенно интересно играть перед новым годом. Вместе с мамой или папой вырежи из бумаги красивые ажурные снежинки, пушистые ёлочки, луну, звёзды. На большом, плотном листе бумаги разложите все фигурки, каждую придави пуговицей или монеткой. Чуть-чуть смочи зубную щетку водой, проведи несколько раз по сухой краске, а затем энергично натри щетку карандашом или чайной ложкой. При этом проследи, чтобы брызги попадали прямо на листок. Делай так до тех пор, пока рисунок не станет бархатным. Сними все фигурки и монетки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60093"/>
                </a:solidFill>
                <a:latin typeface="Verdana"/>
              </a:rPr>
              <a:t>Получилась замечательная Новогодняя картинка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Default - 0008-1"/>
          <p:cNvPicPr/>
          <p:nvPr/>
        </p:nvPicPr>
        <p:blipFill>
          <a:blip r:embed="rId2"/>
          <a:stretch/>
        </p:blipFill>
        <p:spPr>
          <a:xfrm>
            <a:off x="1052640" y="6443640"/>
            <a:ext cx="4914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j0234089"/>
          <p:cNvPicPr/>
          <p:nvPr/>
        </p:nvPicPr>
        <p:blipFill>
          <a:blip r:embed="rId1"/>
          <a:stretch/>
        </p:blipFill>
        <p:spPr>
          <a:xfrm>
            <a:off x="907920" y="826920"/>
            <a:ext cx="1895760" cy="1190880"/>
          </a:xfrm>
          <a:prstGeom prst="rect">
            <a:avLst/>
          </a:prstGeom>
          <a:ln w="0">
            <a:noFill/>
          </a:ln>
        </p:spPr>
      </p:pic>
      <p:sp>
        <p:nvSpPr>
          <p:cNvPr id="195" name="WordArt 5"/>
          <p:cNvSpPr txBox="1"/>
          <p:nvPr/>
        </p:nvSpPr>
        <p:spPr>
          <a:xfrm>
            <a:off x="1700280" y="250920"/>
            <a:ext cx="4248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Купаем картинку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907800" y="1316880"/>
            <a:ext cx="18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Verdana"/>
              </a:rPr>
              <a:t>«Акватушь»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89000" y="2196720"/>
            <a:ext cx="6361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образительные материалы: плотная бумага, краска, вода, налитая в ванночку, тушь черна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Разведите гуашь и крупно, широкими мазками нарисуйте на бумаге дерево, гриб, цветок – что угодно. Желательно, чтобы рисунок был крупным. Когда гуашь подсохнет, покройте весь лист черной тушью большой кистью или тампоном (последняя сохнет быстро, если её слой не слишком толст) а затем проявите рисунок в ванночке с водой.  После этого ты увидишь, что на листе бумаги останется, бледный рисунок на черном фон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60093"/>
                </a:solidFill>
                <a:latin typeface="Verdana"/>
              </a:rPr>
              <a:t>Контуры слегка размыты и рисунок похож на те, что рисуют настоящие художники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8" descr="Default - 0003-1"/>
          <p:cNvPicPr/>
          <p:nvPr/>
        </p:nvPicPr>
        <p:blipFill>
          <a:blip r:embed="rId2"/>
          <a:stretch/>
        </p:blipFill>
        <p:spPr>
          <a:xfrm>
            <a:off x="765000" y="6156360"/>
            <a:ext cx="53294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j0234089"/>
          <p:cNvPicPr/>
          <p:nvPr/>
        </p:nvPicPr>
        <p:blipFill>
          <a:blip r:embed="rId1"/>
          <a:stretch/>
        </p:blipFill>
        <p:spPr>
          <a:xfrm>
            <a:off x="333360" y="1042920"/>
            <a:ext cx="1895400" cy="1190520"/>
          </a:xfrm>
          <a:prstGeom prst="rect">
            <a:avLst/>
          </a:prstGeom>
          <a:ln w="0">
            <a:noFill/>
          </a:ln>
        </p:spPr>
      </p:pic>
      <p:sp>
        <p:nvSpPr>
          <p:cNvPr id="200" name="WordArt 5"/>
          <p:cNvSpPr txBox="1"/>
          <p:nvPr/>
        </p:nvSpPr>
        <p:spPr>
          <a:xfrm>
            <a:off x="765000" y="324000"/>
            <a:ext cx="5838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Светлые линии на темном фон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466000" y="1402560"/>
            <a:ext cx="39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«Граттаж» (скрести, царапать)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404640" y="2590920"/>
            <a:ext cx="61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образительные материалы: плотная бумага, краски, свеча парафиновая, черная тушь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д рабо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лотную бумагу натереть слоем воска или парафина. Всю поверхность покрыть слоем черной туши или гуаши. При необходимости наносить несколько слоев краски. После просыхания процарапать контур задуманного рисунка. Это может быть и космос, и ночной город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ожно, прежде чем натирать лист бумаги свечей нанести на него яркие пятна и картинка будет цветна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Picture 8" descr="Default1 - 0001-1"/>
          <p:cNvPicPr/>
          <p:nvPr/>
        </p:nvPicPr>
        <p:blipFill>
          <a:blip r:embed="rId2"/>
          <a:stretch/>
        </p:blipFill>
        <p:spPr>
          <a:xfrm>
            <a:off x="1413000" y="6259680"/>
            <a:ext cx="410364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04:03:02Z</dcterms:created>
  <dc:creator>User</dc:creator>
  <dc:description/>
  <dc:language>en-US</dc:language>
  <cp:lastModifiedBy>admin</cp:lastModifiedBy>
  <dcterms:modified xsi:type="dcterms:W3CDTF">2014-06-20T08:55:44Z</dcterms:modified>
  <cp:revision>19</cp:revision>
  <dc:subject/>
  <dc:title>Слайд 1</dc:title>
</cp:coreProperties>
</file>