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367-B81F-48DF-AE51-2BB4E92A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8BF-5CA4-4F94-B1BE-FEA71C6D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5A8-2DFA-4229-82B2-A05E07F4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E3A-0E27-46FD-BB2E-3C079396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296-9A4A-461C-A952-61E92450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53E-0FCB-4FF1-AC5C-6B336BCD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84A-F4DB-4DEB-B97E-6F89C30C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4F7-F727-45E3-9ED6-D041135F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05B-A9CD-4B8F-AB67-00CE1E4E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FDA-7781-4A96-BD54-279BE2E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0FF-0342-4590-9E32-64359D3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191-B7D2-407B-870E-CD927C9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1AF9-F31A-4536-9794-182FA5BF3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Воронежский край в годы Великой Отечественной войны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941360"/>
            <a:ext cx="640080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истории в 9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1:47:41Z</dcterms:created>
  <dc:creator>User</dc:creator>
  <dc:description/>
  <dc:language>en-US</dc:language>
  <cp:lastModifiedBy>User</cp:lastModifiedBy>
  <dcterms:modified xsi:type="dcterms:W3CDTF">2006-12-19T20:02:13Z</dcterms:modified>
  <cp:revision>15</cp:revision>
  <dc:subject/>
  <dc:title>Воронежский край в годы Великой Отечественной войны.</dc:title>
</cp:coreProperties>
</file>