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897-5928-45F0-9ABD-374EFB7C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9A9-CE54-4D5A-874C-1FE91F5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6CC-D4F4-47AE-A3F4-9CA0AAF8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B42-B41D-4E16-947C-930E3299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FED-850A-4F89-9D92-D3545B01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B45-95AE-4639-91A8-A9ECC239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DDD-178E-4CBA-AA6A-7FD93042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B69-D8FD-4BF8-BA8B-FDDAC3DA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BB9-65A2-481F-AC33-1552216C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6B8-C551-4CAF-89E1-D5087D6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FF4-90D6-499A-A23F-EF134C6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7E0-A008-40C4-B724-53FA17B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f2d69"/>
                </a:solidFill>
                <a:uFillTx/>
                <a:latin typeface="Segoe Print"/>
              </a:rPr>
              <a:t>Click to edit the title text format</a:t>
            </a: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f2dc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f2dc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f2dc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4E5C-7460-456D-8E98-AAC8B72FF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f2d69"/>
                </a:solidFill>
                <a:uFillTx/>
                <a:latin typeface="Segoe Print"/>
              </a:rPr>
              <a:t>Click to edit the title text format</a:t>
            </a: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f2dc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f2dc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f2dc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f2d69"/>
                </a:solidFill>
                <a:uFillTx/>
                <a:latin typeface="Segoe Print"/>
              </a:rPr>
              <a:t>Click to edit the title text format</a:t>
            </a:r>
            <a:endParaRPr b="0" lang="en-US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f2dc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f2dc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f2dc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cdb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6" descr="711808522.gif"/>
          <p:cNvPicPr/>
          <p:nvPr/>
        </p:nvPicPr>
        <p:blipFill>
          <a:blip r:embed="rId2"/>
          <a:stretch/>
        </p:blipFill>
        <p:spPr>
          <a:xfrm rot="2526000">
            <a:off x="7602120" y="5530680"/>
            <a:ext cx="153504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3" descr="0_5432_c77dc761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57120" y="192852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Segoe UI"/>
              </a:rPr>
              <a:t>Среди весенних первых дней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Segoe UI"/>
              </a:rPr>
              <a:t>8 Марта всех дороже.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Segoe UI"/>
              </a:rPr>
              <a:t>На всей земле, для всех людей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Segoe UI"/>
              </a:rPr>
              <a:t>Весна и женщины похожи.</a:t>
            </a:r>
            <a:endParaRPr b="0" lang="en-US" sz="32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00720" y="1999800"/>
            <a:ext cx="4186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много праздников </a:t>
            </a:r>
            <a:endParaRPr b="0" lang="en-US" sz="20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ане, </a:t>
            </a:r>
            <a:endParaRPr b="0" lang="en-US" sz="20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женский день отдан Весне, </a:t>
            </a:r>
            <a:endParaRPr b="0" lang="en-US" sz="20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дь только женщинам подвластно </a:t>
            </a:r>
            <a:endParaRPr b="0" lang="en-US" sz="2000" spc="-1" strike="noStrike">
              <a:solidFill>
                <a:srgbClr val="f2dcdb"/>
              </a:solidFill>
              <a:latin typeface="Segoe UI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ть весенний праздник - лаской. </a:t>
            </a:r>
            <a:endParaRPr b="0" lang="en-US" sz="2000" spc="-1" strike="noStrike">
              <a:solidFill>
                <a:srgbClr val="f2dcdb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фу.gif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7a2.gif"/>
          <p:cNvPicPr/>
          <p:nvPr/>
        </p:nvPicPr>
        <p:blipFill>
          <a:blip r:embed="rId2"/>
          <a:stretch/>
        </p:blipFill>
        <p:spPr>
          <a:xfrm>
            <a:off x="6715080" y="1500120"/>
            <a:ext cx="1428840" cy="16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87280" y="476280"/>
            <a:ext cx="6121440" cy="4897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 u="sng">
              <a:solidFill>
                <a:srgbClr val="ef2d69"/>
              </a:solidFill>
              <a:uFillTx/>
              <a:latin typeface="Segoe Pri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7:38:17Z</dcterms:created>
  <dc:creator>Татьяна</dc:creator>
  <dc:description/>
  <dc:language>en-US</dc:language>
  <cp:lastModifiedBy>Учитель</cp:lastModifiedBy>
  <dcterms:modified xsi:type="dcterms:W3CDTF">2015-02-27T14:37:22Z</dcterms:modified>
  <cp:revision>29</cp:revision>
  <dc:subject/>
  <dc:title>8 МАРТА</dc:title>
</cp:coreProperties>
</file>