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70C-F4F6-4C47-801B-61B5CD5A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225-E29A-4606-A090-9B6FF398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425-EBB3-47D0-9BFE-8E0C6282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F73-10AE-48DD-989F-5B8467BA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8A4-049F-4974-9EE2-DF6613F5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449-2FE6-42B0-B97A-53EDC137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F92-15CB-41DC-9DC2-3A7FEB35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63D-3FC2-4E8D-B095-62C89063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B60-EF80-4696-9EE2-0B55012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E68-A48C-4C09-AA37-717381B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00C-0E5F-4533-873A-865F24A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75D-414E-4450-86F1-F275FA51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7EE8-1ED7-4EF8-9B97-102DCDA26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p-g.ru/?p=578" TargetMode="External"/><Relationship Id="rId2" Type="http://schemas.openxmlformats.org/officeDocument/2006/relationships/hyperlink" Target="http://ilibrary.ru/text/438/p.1/index.html" TargetMode="External"/><Relationship Id="rId3" Type="http://schemas.openxmlformats.org/officeDocument/2006/relationships/hyperlink" Target="http://www.antonchehov.ru/chbiography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Музыкальность произведений Антона Павловича Чех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0200" y="507204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Автор: Юдаева Галия, 5 класс 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ГБОУ СОШ № 3 п.г.т. Смышляев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м.р. Волжский Самар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Лента блогов"/>
          <p:cNvPicPr/>
          <p:nvPr/>
        </p:nvPicPr>
        <p:blipFill>
          <a:blip r:embed="rId1"/>
          <a:stretch/>
        </p:blipFill>
        <p:spPr>
          <a:xfrm>
            <a:off x="5572080" y="355680"/>
            <a:ext cx="33577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Творчество Сергея Никит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Страница с актёрами, рожденными 8 марта - страница 4"/>
          <p:cNvPicPr/>
          <p:nvPr/>
        </p:nvPicPr>
        <p:blipFill>
          <a:blip r:embed="rId1"/>
          <a:stretch/>
        </p:blipFill>
        <p:spPr>
          <a:xfrm>
            <a:off x="5500800" y="1638360"/>
            <a:ext cx="3095640" cy="404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Билеты на спектакль &quot;А чой-то ты во фраке&quot; в театр Школа сов…"/>
          <p:cNvPicPr/>
          <p:nvPr/>
        </p:nvPicPr>
        <p:blipFill>
          <a:blip r:embed="rId2"/>
          <a:stretch/>
        </p:blipFill>
        <p:spPr>
          <a:xfrm>
            <a:off x="642960" y="1857240"/>
            <a:ext cx="4079880" cy="321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732960" y="51436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Водевиль «Предложе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(«А чой-то ты во фраке?» (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507000" y="57150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С. Ники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Чехов и Рахман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28400" y="278568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1e1c11"/>
                </a:solidFill>
                <a:latin typeface="Calibri"/>
              </a:rPr>
              <a:t>Рахманинов часто встречался с Чеховым в Москве, Ялте. Во время этих встреч Сергей Васильевич играл для Чехова свои сочинения, произведения П.И. Чайковского. Рахманинов видел в Чехове некоторые черты сходства с характером Чайковского. В воспоминаниях композитора встречаются такие строки: «Чайковский был самым обаятельным. Его душевная тонкость неповторима. Он был скромен. Из всех, кого я знал, только Чехов походил на него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1e1c11"/>
                </a:solidFill>
                <a:latin typeface="Calibri"/>
              </a:rPr>
              <a:t>Через всю жизнь пронес Рахманинов любовь к личности и творчеству А.П. Чехо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Calibri"/>
              </a:rPr>
              <a:t>               </a:t>
            </a:r>
            <a:r>
              <a:rPr b="0" lang="ru-RU" sz="2000" spc="-1" strike="noStrike">
                <a:solidFill>
                  <a:srgbClr val="1e1c11"/>
                </a:solidFill>
                <a:latin typeface="Calibri"/>
              </a:rPr>
              <a:t>В 1906 г. Рахманинов написал романс «Мы отдохнем» на слова А.П. Чехова из пьесы «Дядя Ваня» и даже мечтал написать оперу по этой пье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Сергей Рахманинов - гений русского духа."/>
          <p:cNvPicPr/>
          <p:nvPr/>
        </p:nvPicPr>
        <p:blipFill>
          <a:blip r:embed="rId1"/>
          <a:stretch/>
        </p:blipFill>
        <p:spPr>
          <a:xfrm>
            <a:off x="357120" y="285840"/>
            <a:ext cx="306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Чехов и Чай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Детский сад. Страница 10763 - Для воспитателей детских садов - Мааам.ру"/>
          <p:cNvPicPr/>
          <p:nvPr/>
        </p:nvPicPr>
        <p:blipFill>
          <a:blip r:embed="rId1"/>
          <a:stretch/>
        </p:blipFill>
        <p:spPr>
          <a:xfrm>
            <a:off x="357120" y="1643040"/>
            <a:ext cx="5419800" cy="419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5715000" y="1928880"/>
            <a:ext cx="314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В сборник рассказ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«Хмурые лю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вошли 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по настроению рассказ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«Детвора», «Кухарка женится», «Беглец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На первой странице было напечат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«Посвящается Петру Ильичу Чайковско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Произведения Чехова </a:t>
            </a:r>
            <a:br>
              <a:rPr sz="4400"/>
            </a:b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тесно связаны с музы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29080" y="2356920"/>
            <a:ext cx="45007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«Контрабас и флей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«Роман с контрабас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«Хорист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«Певч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«Скрипка Ротшиль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Николай Андреевич Римский- Корсаков - Картинка 17972/14"/>
          <p:cNvPicPr/>
          <p:nvPr/>
        </p:nvPicPr>
        <p:blipFill>
          <a:blip r:embed="rId1"/>
          <a:stretch/>
        </p:blipFill>
        <p:spPr>
          <a:xfrm>
            <a:off x="571680" y="1428840"/>
            <a:ext cx="17856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Иллюстрация 4 из 4 для DVD Великий Шаляпин - Альдохин, Авдеенко, Гальперин Лабиринт - видео"/>
          <p:cNvPicPr/>
          <p:nvPr/>
        </p:nvPicPr>
        <p:blipFill>
          <a:blip r:embed="rId2"/>
          <a:stretch/>
        </p:blipFill>
        <p:spPr>
          <a:xfrm>
            <a:off x="571680" y="3929040"/>
            <a:ext cx="3595680" cy="2576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871200" y="350028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Н. А. Римский-Корс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366440" y="61437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Ф. И. Шаля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38574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Calibri"/>
              </a:rPr>
              <a:t>Какие произведения</a:t>
            </a:r>
            <a:br>
              <a:rPr sz="2800"/>
            </a:br>
            <a:r>
              <a:rPr b="0" lang="ru-RU" sz="2800" spc="-1" strike="noStrike">
                <a:solidFill>
                  <a:srgbClr val="1e1c11"/>
                </a:solidFill>
                <a:latin typeface="Calibri"/>
              </a:rPr>
              <a:t> А. П. Чехова вы знает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00" y="2428920"/>
            <a:ext cx="35002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e1c11"/>
                </a:solidFill>
                <a:latin typeface="Calibri"/>
              </a:rPr>
              <a:t>5 А – «Ванька» (75%) и «Хирургия» (75 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e1c11"/>
                </a:solidFill>
                <a:latin typeface="Calibri"/>
              </a:rPr>
              <a:t>5 Б – «Каштанка» (10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e1c11"/>
                </a:solidFill>
                <a:latin typeface="Calibri"/>
              </a:rPr>
              <a:t>5 В – «Хирургия» (10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6" descr=""/>
          <p:cNvPicPr/>
          <p:nvPr/>
        </p:nvPicPr>
        <p:blipFill>
          <a:blip r:embed="rId1"/>
          <a:stretch/>
        </p:blipFill>
        <p:spPr>
          <a:xfrm>
            <a:off x="4500720" y="928800"/>
            <a:ext cx="43542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3840" y="3642840"/>
            <a:ext cx="5286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«Любая пьеса Чехова подобна  музыкальному произведению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1e1c11"/>
                </a:solidFill>
                <a:latin typeface="Calibri"/>
              </a:rPr>
              <a:t>Андре Мору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Клуб Любителей АудиоКниг Андре Моруа - Жизнь Александра Флем…"/>
          <p:cNvPicPr/>
          <p:nvPr/>
        </p:nvPicPr>
        <p:blipFill>
          <a:blip r:embed="rId1"/>
          <a:stretch/>
        </p:blipFill>
        <p:spPr>
          <a:xfrm>
            <a:off x="857160" y="428760"/>
            <a:ext cx="1762200" cy="2600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тон Павлович Чехов &quot;Пестрые рассказы&quot; Серия &quot;Pocket Сlassic&quot; - Купить книгу"/>
          <p:cNvPicPr/>
          <p:nvPr/>
        </p:nvPicPr>
        <p:blipFill>
          <a:blip r:embed="rId2"/>
          <a:stretch/>
        </p:blipFill>
        <p:spPr>
          <a:xfrm>
            <a:off x="5000760" y="571680"/>
            <a:ext cx="38224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1.  Семейная православная газета, № 3, март 201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p-g.ru/?p=578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2.  А. П. Чехов. Каштанка, Самокат,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3.  А. П. Чехов. Человек в футляре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library.ru/text/438/p.1/index.html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4.  Биография А.П. Чехова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ntonchehov.ru/chbiography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5.  А. П. Чехов, вики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c11"/>
                </a:solidFill>
                <a:latin typeface="Calibri"/>
              </a:rPr>
              <a:t>http://www.antonchehov.ru/chbiographyhttps://ru.wikipedia.org/wiki/ru: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Чехов,_Антон_Павлович?</a:t>
            </a:r>
            <a:r>
              <a:rPr b="0" lang="en-US" sz="2400" spc="-1" strike="noStrike">
                <a:solidFill>
                  <a:srgbClr val="1e1c11"/>
                </a:solidFill>
                <a:latin typeface="Calibri"/>
              </a:rPr>
              <a:t>uselang=en</a:t>
            </a: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480" y="1500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1e1c11"/>
                </a:solidFill>
                <a:latin typeface="Calibri"/>
              </a:rPr>
              <a:t>Изучить вопрос музыкальности речи Антона Павловича Чех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1) изучить биографию А. П. Чех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2) прочитать  его произве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3) познакомиться с разнообразием музыкальных жанров по чеховским сюжет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Лента блогов"/>
          <p:cNvPicPr/>
          <p:nvPr/>
        </p:nvPicPr>
        <p:blipFill>
          <a:blip r:embed="rId1"/>
          <a:stretch/>
        </p:blipFill>
        <p:spPr>
          <a:xfrm>
            <a:off x="6572160" y="171360"/>
            <a:ext cx="2367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Музыка в семье Чехов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Anton Pavlovich Chekhov Picture Gallery - Photo Gallery - Images"/>
          <p:cNvPicPr/>
          <p:nvPr/>
        </p:nvPicPr>
        <p:blipFill>
          <a:blip r:embed="rId1"/>
          <a:stretch/>
        </p:blipFill>
        <p:spPr>
          <a:xfrm>
            <a:off x="5214960" y="2714760"/>
            <a:ext cx="3600360" cy="256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www.anton-chehov.info/assets/images/muzej-chexova-taganrog-1.jpg"/>
          <p:cNvPicPr/>
          <p:nvPr/>
        </p:nvPicPr>
        <p:blipFill>
          <a:blip r:embed="rId2"/>
          <a:stretch/>
        </p:blipFill>
        <p:spPr>
          <a:xfrm>
            <a:off x="285840" y="2214720"/>
            <a:ext cx="4711680" cy="3416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63160" y="585792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г. Таганрог. Дом, где родился Антон Че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080040" y="55008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Семья Чех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Голоса в произведениях Чех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Ба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Тен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Соп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Контраль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0040" y="3643200"/>
          <a:ext cx="8001000" cy="2546640"/>
        </p:xfrm>
        <a:graphic>
          <a:graphicData uri="http://schemas.openxmlformats.org/drawingml/2006/table">
            <a:tbl>
              <a:tblPr/>
              <a:tblGrid>
                <a:gridCol w="3000240"/>
                <a:gridCol w="5000760"/>
              </a:tblGrid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e1c11"/>
                          </a:solidFill>
                          <a:latin typeface="Calibri"/>
                        </a:rPr>
                        <a:t>Название расск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e1c11"/>
                          </a:solidFill>
                          <a:latin typeface="Calibri"/>
                        </a:rPr>
                        <a:t>Действующие 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e1c11"/>
                          </a:solidFill>
                          <a:latin typeface="Calibri"/>
                        </a:rPr>
                        <a:t>«Налим»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e1c11"/>
                          </a:solidFill>
                          <a:latin typeface="Calibri"/>
                        </a:rPr>
                        <a:t>Герасим и Любим  говорят «хриплым басом и озябшим, визгливым тенорк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e1c11"/>
                          </a:solidFill>
                          <a:latin typeface="Calibri"/>
                        </a:rPr>
                        <a:t>«Черный монах» (18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e1c11"/>
                          </a:solidFill>
                          <a:latin typeface="Calibri"/>
                        </a:rPr>
                        <a:t>Поют Таня – сопрано, барышня – контральто, разучивая серена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e1c11"/>
                          </a:solidFill>
                          <a:latin typeface="Calibri"/>
                        </a:rPr>
                        <a:t>«Человек в футляре»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e1c11"/>
                          </a:solidFill>
                          <a:latin typeface="Calibri"/>
                        </a:rPr>
                        <a:t>Коваленко «спрашивает бас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6" descr="Опера Три Сестры"/>
          <p:cNvPicPr/>
          <p:nvPr/>
        </p:nvPicPr>
        <p:blipFill>
          <a:blip r:embed="rId1"/>
          <a:stretch/>
        </p:blipFill>
        <p:spPr>
          <a:xfrm>
            <a:off x="4429080" y="12142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Оркестры в рассказ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&quot;Любите ли вы Брамса?&quot; &quot; Майкоп - городской портал ПРО Майко…"/>
          <p:cNvPicPr/>
          <p:nvPr/>
        </p:nvPicPr>
        <p:blipFill>
          <a:blip r:embed="rId1"/>
          <a:stretch/>
        </p:blipFill>
        <p:spPr>
          <a:xfrm>
            <a:off x="357120" y="1500120"/>
            <a:ext cx="3746520" cy="250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Портал BFM.ru"/>
          <p:cNvPicPr/>
          <p:nvPr/>
        </p:nvPicPr>
        <p:blipFill>
          <a:blip r:embed="rId2"/>
          <a:stretch/>
        </p:blipFill>
        <p:spPr>
          <a:xfrm>
            <a:off x="5072040" y="1500120"/>
            <a:ext cx="3714840" cy="24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Легендарный ансамбль Моисеева в Челябинске"/>
          <p:cNvPicPr/>
          <p:nvPr/>
        </p:nvPicPr>
        <p:blipFill>
          <a:blip r:embed="rId3"/>
          <a:stretch/>
        </p:blipFill>
        <p:spPr>
          <a:xfrm>
            <a:off x="3143160" y="3857760"/>
            <a:ext cx="3000600" cy="2708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723240" y="43578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Симфо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079400" y="43578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Во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648440" y="592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Нар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ры в произведения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Концерт академического женского хора Центра культуры и досуга им. Н.Г.Васильева - Великий Новгород"/>
          <p:cNvPicPr/>
          <p:nvPr/>
        </p:nvPicPr>
        <p:blipFill>
          <a:blip r:embed="rId1"/>
          <a:stretch/>
        </p:blipFill>
        <p:spPr>
          <a:xfrm>
            <a:off x="500040" y="1571760"/>
            <a:ext cx="343368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Лучшая гостиница в Красноярске &quot;ВОСТОК&quot;, бронирование гостиниц дешево Красноярск, оптимальные цены за номер, уютные гостиницы Кр"/>
          <p:cNvPicPr/>
          <p:nvPr/>
        </p:nvPicPr>
        <p:blipFill>
          <a:blip r:embed="rId2"/>
          <a:stretch/>
        </p:blipFill>
        <p:spPr>
          <a:xfrm>
            <a:off x="2427120" y="4143240"/>
            <a:ext cx="407376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Творчество поэтов Казахстана представили в Алтайском крае"/>
          <p:cNvPicPr/>
          <p:nvPr/>
        </p:nvPicPr>
        <p:blipFill>
          <a:blip r:embed="rId3"/>
          <a:stretch/>
        </p:blipFill>
        <p:spPr>
          <a:xfrm>
            <a:off x="4857840" y="1571760"/>
            <a:ext cx="3779640" cy="2309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860760" y="40719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724800" y="60008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7081920" y="40719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Купить Классическая гитара FLIGHT C 102"/>
          <p:cNvPicPr/>
          <p:nvPr/>
        </p:nvPicPr>
        <p:blipFill>
          <a:blip r:embed="rId1"/>
          <a:stretch/>
        </p:blipFill>
        <p:spPr>
          <a:xfrm>
            <a:off x="7786800" y="1285920"/>
            <a:ext cx="111276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7168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Гит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Буб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Флей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Скри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Виолонч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Контраб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Рояль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Фотографии Концертный рояль Petrof P 237 Monsoon"/>
          <p:cNvPicPr/>
          <p:nvPr/>
        </p:nvPicPr>
        <p:blipFill>
          <a:blip r:embed="rId2"/>
          <a:stretch/>
        </p:blipFill>
        <p:spPr>
          <a:xfrm>
            <a:off x="6572160" y="4714920"/>
            <a:ext cx="1981440" cy="187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ow to Buy a Violin"/>
          <p:cNvPicPr/>
          <p:nvPr/>
        </p:nvPicPr>
        <p:blipFill>
          <a:blip r:embed="rId3"/>
          <a:stretch/>
        </p:blipFill>
        <p:spPr>
          <a:xfrm>
            <a:off x="6072120" y="1500120"/>
            <a:ext cx="15210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Духовые инструменты - Классические инструменты - Jupiter - Bestmusik интернет магазин музыкальных инструментов"/>
          <p:cNvPicPr/>
          <p:nvPr/>
        </p:nvPicPr>
        <p:blipFill>
          <a:blip r:embed="rId4"/>
          <a:stretch/>
        </p:blipFill>
        <p:spPr>
          <a:xfrm>
            <a:off x="6072120" y="2786040"/>
            <a:ext cx="1216080" cy="100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Музпром - производство, продажа, импорт, экспорт"/>
          <p:cNvPicPr/>
          <p:nvPr/>
        </p:nvPicPr>
        <p:blipFill>
          <a:blip r:embed="rId5"/>
          <a:stretch/>
        </p:blipFill>
        <p:spPr>
          <a:xfrm>
            <a:off x="7429680" y="3500280"/>
            <a:ext cx="1511280" cy="107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Константин Киселёв Театральная афиша Сочи, билеты в Зимний театр. Афиша концертов филармонии Сочи."/>
          <p:cNvPicPr/>
          <p:nvPr/>
        </p:nvPicPr>
        <p:blipFill>
          <a:blip r:embed="rId6"/>
          <a:stretch/>
        </p:blipFill>
        <p:spPr>
          <a:xfrm>
            <a:off x="428760" y="1214280"/>
            <a:ext cx="300024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c11"/>
                </a:solidFill>
                <a:latin typeface="Calibri"/>
              </a:rPr>
              <a:t>Тан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Галерея - Категория: 17 декабря, Pro-Am Dance Show - Файл: Кадриль в исполнении Анжелики Арзамасцевой, Наталии Дуброво, Ирины Хв"/>
          <p:cNvPicPr/>
          <p:nvPr/>
        </p:nvPicPr>
        <p:blipFill>
          <a:blip r:embed="rId1"/>
          <a:stretch/>
        </p:blipFill>
        <p:spPr>
          <a:xfrm>
            <a:off x="785880" y="1285920"/>
            <a:ext cx="3143160" cy="209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Вальс о вальсе"/>
          <p:cNvPicPr/>
          <p:nvPr/>
        </p:nvPicPr>
        <p:blipFill>
          <a:blip r:embed="rId2"/>
          <a:stretch/>
        </p:blipFill>
        <p:spPr>
          <a:xfrm>
            <a:off x="4714920" y="4000680"/>
            <a:ext cx="3738600" cy="227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Фото. Студия творчества Цыпленок и Огурец Главспорт"/>
          <p:cNvPicPr/>
          <p:nvPr/>
        </p:nvPicPr>
        <p:blipFill>
          <a:blip r:embed="rId3"/>
          <a:stretch/>
        </p:blipFill>
        <p:spPr>
          <a:xfrm>
            <a:off x="642960" y="4000680"/>
            <a:ext cx="347508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Украинская Полька - Кабаре - Шоу VIVA - Фотогалерея - N4.Biz"/>
          <p:cNvPicPr/>
          <p:nvPr/>
        </p:nvPicPr>
        <p:blipFill>
          <a:blip r:embed="rId4"/>
          <a:stretch/>
        </p:blipFill>
        <p:spPr>
          <a:xfrm>
            <a:off x="5000760" y="1285920"/>
            <a:ext cx="3141360" cy="2095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1443240" y="62866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«Камарин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6077880" y="34290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Пол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720800" y="3500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Кадр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433920" y="6286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Ва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1c11"/>
                </a:solidFill>
                <a:latin typeface="Calibri"/>
              </a:rPr>
              <a:t>Жанры музыкальных произвед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Медведь. &quot;У Белого рояля&quot; / Афиша / Афиша Краснодара"/>
          <p:cNvPicPr/>
          <p:nvPr/>
        </p:nvPicPr>
        <p:blipFill>
          <a:blip r:embed="rId1"/>
          <a:stretch/>
        </p:blipFill>
        <p:spPr>
          <a:xfrm>
            <a:off x="714240" y="3714840"/>
            <a:ext cx="3645000" cy="242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Музыка Опера Балет - InternetLooK ONLINE Лучшие и Раритерные…"/>
          <p:cNvPicPr/>
          <p:nvPr/>
        </p:nvPicPr>
        <p:blipFill>
          <a:blip r:embed="rId2"/>
          <a:stretch/>
        </p:blipFill>
        <p:spPr>
          <a:xfrm>
            <a:off x="5357880" y="1214280"/>
            <a:ext cx="3051000" cy="4946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Три сестры"/>
          <p:cNvPicPr/>
          <p:nvPr/>
        </p:nvPicPr>
        <p:blipFill>
          <a:blip r:embed="rId3"/>
          <a:stretch/>
        </p:blipFill>
        <p:spPr>
          <a:xfrm>
            <a:off x="1143000" y="1285920"/>
            <a:ext cx="2709720" cy="1901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1364760" y="321480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Пьеса «Три сест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438880" y="614376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Балет «Дама с соба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732960" y="614376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«Медведь» – комическая о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13T16:38:59Z</dcterms:modified>
  <cp:revision>27</cp:revision>
  <dc:subject/>
  <dc:title>Слайд 1</dc:title>
</cp:coreProperties>
</file>