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427-B7EE-4B9B-AB3B-40DA1DDD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5B3-B429-480B-9925-AAD92E5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D7D-9FAB-4066-80C6-AF4004C6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2BF-6C0D-44A1-B7A5-4FF754DF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737-EB18-4FC8-BD51-D65E3F18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A5C-8673-4A2C-9E36-2D3D1E54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57D-6B24-4433-9DCC-9845CCB7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6CA-D237-4CD6-A634-13E76F49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9F1-5E37-4B8E-B35C-BD2CCAA8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C24-879D-4D74-92B4-37CD4DF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73E-F8C2-4E94-B930-BDC2DF6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B02-6E65-43CF-A499-B83BE18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C513-47EC-4596-B317-22C472C07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40388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te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bout Great Britain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mage_index-41-1345093544"/>
          <p:cNvPicPr/>
          <p:nvPr/>
        </p:nvPicPr>
        <p:blipFill>
          <a:blip r:embed="rId1"/>
          <a:stretch/>
        </p:blipFill>
        <p:spPr>
          <a:xfrm>
            <a:off x="3564000" y="692280"/>
            <a:ext cx="5580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ymonds_Yat_Rock_View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525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57643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 a lot of rivers , forests in Great Bri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 of Great Britain is Lond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022-london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51664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famous places in Lond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g Ben , Houses of Parliament , parks , museu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1"/>
          <p:cNvPicPr/>
          <p:nvPr/>
        </p:nvPicPr>
        <p:blipFill>
          <a:blip r:embed="rId1"/>
          <a:stretch/>
        </p:blipFill>
        <p:spPr>
          <a:xfrm>
            <a:off x="179280" y="105264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k1"/>
          <p:cNvPicPr/>
          <p:nvPr/>
        </p:nvPicPr>
        <p:blipFill>
          <a:blip r:embed="rId2"/>
          <a:stretch/>
        </p:blipFill>
        <p:spPr>
          <a:xfrm>
            <a:off x="4643280" y="1052640"/>
            <a:ext cx="450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5516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fficial language is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angl_starsheklas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eat Britain you can meet people of many different nationalit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London_062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5157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 is  rainy , sometimes  snowy.  Summer is sunny and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4341"/>
          <p:cNvPicPr/>
          <p:nvPr/>
        </p:nvPicPr>
        <p:blipFill>
          <a:blip r:embed="rId1"/>
          <a:stretch/>
        </p:blipFill>
        <p:spPr>
          <a:xfrm>
            <a:off x="0" y="836640"/>
            <a:ext cx="489600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ages"/>
          <p:cNvPicPr/>
          <p:nvPr/>
        </p:nvPicPr>
        <p:blipFill>
          <a:blip r:embed="rId2"/>
          <a:stretch/>
        </p:blipFill>
        <p:spPr>
          <a:xfrm>
            <a:off x="4932360" y="765000"/>
            <a:ext cx="4211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7:23:44Z</dcterms:created>
  <dc:creator>Марина</dc:creator>
  <dc:description/>
  <dc:language>en-US</dc:language>
  <cp:lastModifiedBy>ШК 38</cp:lastModifiedBy>
  <dcterms:modified xsi:type="dcterms:W3CDTF">2014-12-03T08:55:13Z</dcterms:modified>
  <cp:revision>7</cp:revision>
  <dc:subject/>
  <dc:title>Слайд 1</dc:title>
</cp:coreProperties>
</file>