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89C-7C3A-4E91-8753-BCB795D9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5C15-0599-474E-8587-7D3B4A57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F90-0E8B-4298-9615-425879FF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2B4-55BB-4BEF-9CBE-A88B77BE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2521-506F-4C44-88DE-B4A21729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496F-7092-4810-9A6F-C90441A6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CF5F-EC3A-4D07-A9DB-B09C0A8E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777D-4CF8-467A-A71D-B1915A43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25C3-942F-4722-B89C-9EB1EF79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D64D-6A4A-44C5-A541-D871799F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FEC3-B02E-44D0-B533-EA1F353E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DF8-D2CB-4672-9AD3-E0B196B6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E075-5C61-4412-A734-819B7A76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871C-07D1-49D1-9DA8-D20E6E17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C60C-9710-4A64-ADBB-C8CBA496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1C22-10CA-49DA-9715-E1C05D1F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B385-43F5-4593-A33E-CEA91B7C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7BD-5B98-48B4-94D8-1781D16F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FCD-1B81-4164-88AB-C9E2DD94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93B-8C78-426A-8E75-7CD96E7D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053-2B4E-42F0-979E-0B1A15D5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662-A667-4F13-A07B-C0ADC935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5B4-8CC4-4060-ACC3-AE0651C3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6A7-C273-43F3-B078-66DCB0F2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3B1A-2D0E-417C-8301-7B7734630CC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8CD5-5077-41EB-90F9-77E070024A7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Education in the Unite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1520" y="3674880"/>
            <a:ext cx="5984640" cy="141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Colle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Universit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Undergraduate Scho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119700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tudents who have completed high school and would like to attend college or university must attend what is referred to as an 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undergraduate school: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a two-year degre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(called an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associate degre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four-year degre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(called a bachelors degree –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Bachelor of Arts (BA) or Bachelor of Science (B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a specific course of study. That course of study is called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jo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s to be selected by the end of the second year at school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b200"/>
                </a:solidFill>
                <a:latin typeface="Comic Sans MS"/>
              </a:rPr>
              <a:t>Students who complete an associate degree can continue their education at a </a:t>
            </a:r>
            <a:r>
              <a:rPr b="1" lang="en-US" sz="2700" spc="-1" strike="noStrike">
                <a:solidFill>
                  <a:srgbClr val="00b200"/>
                </a:solidFill>
                <a:latin typeface="Comic Sans MS"/>
              </a:rPr>
              <a:t>four-year school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nd eventually complete a bachelor degree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raduate Scho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98100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types of degree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000" spc="-1" strike="noStrike">
                <a:solidFill>
                  <a:srgbClr val="00b200"/>
                </a:solidFill>
                <a:latin typeface="Comic Sans MS"/>
              </a:rPr>
              <a:t>master’s degree (Master of Arts - MA, Master of Science – MS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usually a two-year degree that is highly specialized in a specific field). Students are sometimes admitted to a master’s degree program only if they hav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bachelor’s degree in a closely related fiel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However, there are many exceptions to this, such as with students who want to pursue a Master’s in Business Administration (MBA) degre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200"/>
                </a:solidFill>
                <a:latin typeface="Comic Sans MS"/>
              </a:rPr>
              <a:t>a doctorate degree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lso called </a:t>
            </a:r>
            <a:r>
              <a:rPr b="1" lang="en-US" sz="2000" spc="-1" strike="noStrike">
                <a:solidFill>
                  <a:srgbClr val="00b200"/>
                </a:solidFill>
                <a:latin typeface="Comic Sans MS"/>
              </a:rPr>
              <a:t>a PhD (Doctor of Philosophy)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hD degree can tak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tween three and six years to complete 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very intensiv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search pape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at must be completed prior to earning the degre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000" spc="-1" strike="noStrike">
                <a:solidFill>
                  <a:srgbClr val="00b200"/>
                </a:solidFill>
                <a:latin typeface="Comic Sans MS"/>
              </a:rPr>
              <a:t>research pap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(thesis or dissertations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required of students pursuing a PhD, and may sometimes be required of students pursuing a master’s degree (depending on the school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relation of Russian and US degre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tain courses of study in US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are only available at the graduate school lev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America. The most notable of these are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law, dentistry, and medici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Students who want to pursue a degree in one of these fields must first obtain a bachelor’s degre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Financial support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o university stud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ent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lo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</a:t>
            </a: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scholarshi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versity scholarshi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ing and Research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assistantshi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Need-ba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Merit-ba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rimary Scho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1341360"/>
            <a:ext cx="87854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ly known as </a:t>
            </a: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elementary educ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sts of five years of education, referred to as </a:t>
            </a: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first through fifth grad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rst stage of </a:t>
            </a: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compulso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du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ceded b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e-school or nursery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lowed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ondary edu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rimary school (continue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125000"/>
            <a:ext cx="8856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merican children start school </a:t>
            </a:r>
            <a:r>
              <a:rPr b="1" lang="en-US" sz="2700" spc="-1" strike="noStrike">
                <a:solidFill>
                  <a:srgbClr val="00b200"/>
                </a:solidFill>
                <a:latin typeface="Comic Sans MS"/>
              </a:rPr>
              <a:t>at the age of five year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first year at school is called </a:t>
            </a:r>
            <a:r>
              <a:rPr b="1" lang="en-US" sz="2700" spc="-1" strike="noStrike">
                <a:solidFill>
                  <a:srgbClr val="00b200"/>
                </a:solidFill>
                <a:latin typeface="Comic Sans MS"/>
              </a:rPr>
              <a:t>kindergarten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. It is required of all American children enrolled in the American education system.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second year at school is considered the first year of primary school and is referred to as </a:t>
            </a:r>
            <a:r>
              <a:rPr b="1" lang="en-US" sz="2700" spc="-1" strike="noStrike">
                <a:solidFill>
                  <a:srgbClr val="00b200"/>
                </a:solidFill>
                <a:latin typeface="Comic Sans MS"/>
              </a:rPr>
              <a:t>first grade</a:t>
            </a:r>
            <a:r>
              <a:rPr b="0" lang="en-US" sz="2700" spc="-1" strike="noStrike">
                <a:solidFill>
                  <a:srgbClr val="00b200"/>
                </a:solidFill>
                <a:latin typeface="Comic Sans MS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n America, the word </a:t>
            </a:r>
            <a:r>
              <a:rPr b="1" lang="en-US" sz="2700" spc="-1" strike="noStrike">
                <a:solidFill>
                  <a:srgbClr val="0000cc"/>
                </a:solidFill>
                <a:latin typeface="Comic Sans MS"/>
              </a:rPr>
              <a:t>grade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has two meanings: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) the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core achiev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an exam or in a course, a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 a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year of edu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primary or secondary school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Goals of Primary Edu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78920" y="1125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chieving </a:t>
            </a:r>
            <a:r>
              <a:rPr b="1" lang="en-US" sz="2700" spc="-1" strike="noStrike">
                <a:solidFill>
                  <a:srgbClr val="0000cc"/>
                </a:solidFill>
                <a:latin typeface="Comic Sans MS"/>
              </a:rPr>
              <a:t>basic literacy and numeracy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amongst all pupil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establishing </a:t>
            </a:r>
            <a:r>
              <a:rPr b="1" lang="en-US" sz="2700" spc="-1" strike="noStrike">
                <a:solidFill>
                  <a:srgbClr val="0000cc"/>
                </a:solidFill>
                <a:latin typeface="Comic Sans MS"/>
              </a:rPr>
              <a:t>foundations in science, geography, history and other social sciences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The relative priority of various areas, and the methods used to teach them, are an area of considerable political debate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b200"/>
                </a:solidFill>
                <a:latin typeface="Comic Sans MS"/>
              </a:rPr>
              <a:t>classes with one teacher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class composition changes every year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excellent </a:t>
            </a:r>
            <a:r>
              <a:rPr b="1" lang="en-US" sz="2700" spc="-1" strike="noStrike">
                <a:solidFill>
                  <a:srgbClr val="00b200"/>
                </a:solidFill>
                <a:latin typeface="Comic Sans MS"/>
              </a:rPr>
              <a:t>equipment</a:t>
            </a:r>
            <a:r>
              <a:rPr b="0" lang="en-US" sz="2700" spc="-1" strike="noStrike">
                <a:solidFill>
                  <a:srgbClr val="00b200"/>
                </a:solidFill>
                <a:latin typeface="Comic Sans MS"/>
              </a:rPr>
              <a:t>, </a:t>
            </a:r>
            <a:r>
              <a:rPr b="1" lang="en-US" sz="2700" spc="-1" strike="noStrike">
                <a:solidFill>
                  <a:srgbClr val="00b200"/>
                </a:solidFill>
                <a:latin typeface="Comic Sans MS"/>
              </a:rPr>
              <a:t>Interne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access;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b200"/>
                </a:solidFill>
                <a:latin typeface="Comic Sans MS"/>
              </a:rPr>
              <a:t>opportunitie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for foreign students, students with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disabilities, etc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econdary Scho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junior high schoo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high school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different location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on completion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fth grad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the last year of primary schoo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ondary schoo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ost commonly consists of a total of </a:t>
            </a: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seven yea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rough 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rad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unior hig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the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rough 1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rad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most commonly referred to a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igh schoo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urriculu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9280" y="1341360"/>
            <a:ext cx="896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 the US there are </a:t>
            </a:r>
            <a:r>
              <a:rPr b="1" lang="en-US" sz="3000" spc="-1" strike="noStrike">
                <a:solidFill>
                  <a:srgbClr val="703dff"/>
                </a:solidFill>
                <a:latin typeface="Comic Sans MS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such organizations as the </a:t>
            </a:r>
            <a:r>
              <a:rPr b="1" lang="en-US" sz="3000" spc="-1" strike="noStrike">
                <a:solidFill>
                  <a:srgbClr val="703dff"/>
                </a:solidFill>
                <a:latin typeface="Comic Sans MS"/>
              </a:rPr>
              <a:t>Ministry of Education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000" spc="-1" strike="noStrike">
                <a:solidFill>
                  <a:srgbClr val="703dff"/>
                </a:solidFill>
                <a:latin typeface="Comic Sans MS"/>
              </a:rPr>
              <a:t>Stat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703dff"/>
                </a:solidFill>
                <a:latin typeface="Comic Sans MS"/>
              </a:rPr>
              <a:t>Committee of Education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that develop standard curricula for schools and universities (as well as admissions requirements)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200"/>
                </a:solidFill>
                <a:latin typeface="Comic Sans MS"/>
              </a:rPr>
              <a:t>curriculum varie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from school to schoo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200"/>
                </a:solidFill>
                <a:latin typeface="Comic Sans MS"/>
              </a:rPr>
              <a:t>Student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are required to </a:t>
            </a:r>
            <a:r>
              <a:rPr b="1" lang="en-US" sz="3000" spc="-1" strike="noStrike">
                <a:solidFill>
                  <a:srgbClr val="00b200"/>
                </a:solidFill>
                <a:latin typeface="Comic Sans MS"/>
              </a:rPr>
              <a:t>choose classe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merican </a:t>
            </a:r>
            <a:r>
              <a:rPr b="1" lang="en-US" sz="3000" spc="-1" strike="noStrike">
                <a:solidFill>
                  <a:srgbClr val="703dff"/>
                </a:solidFill>
                <a:latin typeface="Comic Sans MS"/>
              </a:rPr>
              <a:t>School Counselors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ssoci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lf-reliance, no parent meetings, bi-monthly parent report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870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ypes of high schools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892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college preparat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igh school (academic focus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vocation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igh schools (technical education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speci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igh schools (for students with disabilities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onl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ho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chool Ex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126792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on completion of twelfth grade, American students are awarded </a:t>
            </a:r>
            <a:r>
              <a:rPr b="1" lang="en-US" sz="2000" spc="-1" strike="noStrike">
                <a:solidFill>
                  <a:srgbClr val="00b200"/>
                </a:solidFill>
                <a:latin typeface="Comic Sans MS"/>
              </a:rPr>
              <a:t>high school diplom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equired to be admitted into college or university). Pre-requisite </a:t>
            </a:r>
            <a:r>
              <a:rPr b="1" lang="en-US" sz="2000" spc="-1" strike="noStrike">
                <a:solidFill>
                  <a:srgbClr val="00b200"/>
                </a:solidFill>
                <a:latin typeface="Comic Sans MS"/>
              </a:rPr>
              <a:t>Graduation T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200"/>
                </a:solidFill>
                <a:latin typeface="Comic Sans MS"/>
              </a:rPr>
              <a:t>The SAT Reasoning Te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formerly Scholastic Aptitude Test and Scholastic Assessment Test) is a standardized </a:t>
            </a:r>
            <a:r>
              <a:rPr b="1" lang="en-US" sz="2000" spc="-1" strike="noStrike">
                <a:solidFill>
                  <a:srgbClr val="00b200"/>
                </a:solidFill>
                <a:latin typeface="Comic Sans MS"/>
              </a:rPr>
              <a:t>test for college admiss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United States. The SAT is owned, published, and developed by the College Board, a non-profit organization in the United States, and was once developed, published, and scored by the Educational Testing Service (E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llege Board claims that the SAT ca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termine whether or not a person is ready for college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urrent SAT Reasoning Test takes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three hours and forty-five minutes and costs $45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$71 Internation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2005, the test was renamed to the "SAT Reasoning Test" with possible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scores from 600 to 240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mbining test results from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three 800-point sections (math, critical reading, and writing)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long with other subsections scored separate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pecial program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 addition to bilingual and bicultural programs many schools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have </a:t>
            </a:r>
            <a:r>
              <a:rPr b="1" lang="en-US" sz="2500" spc="-1" strike="noStrike">
                <a:solidFill>
                  <a:srgbClr val="00b200"/>
                </a:solidFill>
                <a:latin typeface="Comic Sans MS"/>
              </a:rPr>
              <a:t>special programs for gifted students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en-US" sz="2500" spc="-1" strike="noStrike">
                <a:solidFill>
                  <a:srgbClr val="00b200"/>
                </a:solidFill>
                <a:latin typeface="Comic Sans MS"/>
              </a:rPr>
              <a:t> for students with learning and reading difficulties,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s well as free school education and professional training for people with disabilities.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ll the education system of USA have always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stressed </a:t>
            </a:r>
            <a:r>
              <a:rPr b="1" lang="en-US" sz="2500" spc="-1" strike="noStrike">
                <a:solidFill>
                  <a:srgbClr val="00b200"/>
                </a:solidFill>
                <a:latin typeface="Comic Sans MS"/>
              </a:rPr>
              <a:t>the importance of "character" or "social skills</a:t>
            </a:r>
            <a:r>
              <a:rPr b="0" lang="en-US" sz="2500" spc="-1" strike="noStrike">
                <a:solidFill>
                  <a:srgbClr val="00b200"/>
                </a:solidFill>
                <a:latin typeface="Comic Sans MS"/>
              </a:rPr>
              <a:t>"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through </a:t>
            </a:r>
            <a:r>
              <a:rPr b="1" lang="en-US" sz="2500" spc="-1" strike="noStrike">
                <a:solidFill>
                  <a:srgbClr val="00b200"/>
                </a:solidFill>
                <a:latin typeface="Comic Sans MS"/>
              </a:rPr>
              <a:t>extracurricular activiti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including </a:t>
            </a:r>
            <a:r>
              <a:rPr b="1" lang="en-US" sz="2500" spc="-1" strike="noStrike">
                <a:solidFill>
                  <a:srgbClr val="00b200"/>
                </a:solidFill>
                <a:latin typeface="Comic Sans MS"/>
              </a:rPr>
              <a:t>organized sports</a:t>
            </a:r>
            <a:r>
              <a:rPr b="0" lang="en-US" sz="2500" spc="-1" strike="noStrike">
                <a:solidFill>
                  <a:srgbClr val="00b200"/>
                </a:solidFill>
                <a:latin typeface="Comic Sans MS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There is usually a very broad range of such activities available.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Give pupils a chance to be together outside normal classes, help to develop a feeling of </a:t>
            </a:r>
            <a:r>
              <a:rPr b="1" lang="en-US" sz="2500" spc="-1" strike="noStrike">
                <a:solidFill>
                  <a:srgbClr val="00b200"/>
                </a:solidFill>
                <a:latin typeface="Comic Sans MS"/>
              </a:rPr>
              <a:t>"school spirit".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School athletic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College scholarships for athlet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9:57:45Z</dcterms:created>
  <dc:creator>vg</dc:creator>
  <dc:description/>
  <dc:language>en-US</dc:language>
  <cp:lastModifiedBy>НГЛУ</cp:lastModifiedBy>
  <dcterms:modified xsi:type="dcterms:W3CDTF">2009-10-27T09:09:28Z</dcterms:modified>
  <cp:revision>18</cp:revision>
  <dc:subject/>
  <dc:title>Education in the United States</dc:title>
</cp:coreProperties>
</file>