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C55-2074-4C3C-AD43-6EC5FBAD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253-C493-4E84-BF98-D510DA1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E85-0844-43D7-A244-358DD292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BF-B9D8-4222-B79D-2A422008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D28-D26F-4505-93F7-0AA33DCA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16BB-EF5F-4EAF-8624-762E633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9CE-BBEF-4B0B-B030-C59F8A11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1DE5-904A-4C51-A0AE-7C69B41F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01F3-3A6B-4E14-A6B8-FF03C687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58F5-7351-48DA-9D70-572CD78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A925-7DE1-440C-B756-91F9008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648-2833-493F-B3A7-E4DD2DA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4AE-1684-46C0-A410-D38C127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A75-9BC4-4F23-9D62-4281BC5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C51-92E2-4792-9987-6778192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1469-1657-4F6E-B91B-A26B9313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0C95-1DA5-4031-AF7F-9BE6276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56FF-5013-4F14-8B9E-8F2E23F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3F95-15E8-4BD2-9CAA-88174F33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318F-08A5-4AC9-9052-F7818FE9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564C-5A6F-4FC8-87DD-C73AFEF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1D0F-816F-43B4-B2AF-EE8E1B5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E2F-0860-4C17-AD70-35DC24C5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AC02-7B4C-4D5E-B7A3-F502120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A6B9-35CC-48A0-8918-62324B0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89EB-3F4A-4689-9B16-B47A77E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0B59-2048-4C31-BBE0-B006061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A7DE-0D2D-4501-98CA-B0CD2BE7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0889-EB79-433B-8728-1F652B2F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8DB8-330C-4742-9CBA-5927AA44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CB8-3797-47A5-BFDD-ED4AF08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DF1-6588-4E71-B23C-E6A85F7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5FD-1963-4362-A3BD-7C9CA3A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F0E-9E73-4EB2-984C-82D2A43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C6E-BC46-4552-BC50-D641879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7BD-72B6-45F6-B3E4-5EF8712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24C1-0D9C-4D68-842B-7491F314D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CF4-51A3-43F4-8C62-E481306C4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DC1-5380-487E-A162-D00ADC2DB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00114_121253_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324000" y="260280"/>
            <a:ext cx="388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ГБУЗ «Детский Санаторий «Чайка» Санкт – Петербур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узыкальный руководит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ебедева Лидия Игор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042920" y="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тверг- разгуляй. В этот день устраивались игры и заба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696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826920" y="692280"/>
            <a:ext cx="19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ятница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— «тещины вечера», в этот день зять едет «к теще на блины», а теща зятя привечает, угоща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2" descr="http://www.tula.rodgor.ru/news_images/2mesto%20(1).JPG"/>
          <p:cNvPicPr/>
          <p:nvPr/>
        </p:nvPicPr>
        <p:blipFill>
          <a:blip r:embed="rId1"/>
          <a:stretch/>
        </p:blipFill>
        <p:spPr>
          <a:xfrm>
            <a:off x="3979800" y="333360"/>
            <a:ext cx="49132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468360" y="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Суббот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— «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овкины посиделки». Ходят в гости ко всем другим родственникам, и опять угощение — бесчисленные бли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3" descr="C:\Users\Пользователь\Pictures\блины1.jpg"/>
          <p:cNvPicPr/>
          <p:nvPr/>
        </p:nvPicPr>
        <p:blipFill>
          <a:blip r:embed="rId1"/>
          <a:stretch/>
        </p:blipFill>
        <p:spPr>
          <a:xfrm>
            <a:off x="1763640" y="177336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26028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оскресень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— «прощеный день». В этот день просят прощения у родных и знакомых за нанесенные обиды и, облегчив душу, весело поют и пляшут, провожая широкую Маслениц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53aa5621f34b"/>
          <p:cNvPicPr/>
          <p:nvPr/>
        </p:nvPicPr>
        <p:blipFill>
          <a:blip r:embed="rId1"/>
          <a:stretch/>
        </p:blipFill>
        <p:spPr>
          <a:xfrm>
            <a:off x="1827360" y="2421000"/>
            <a:ext cx="5624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9cb5"/>
                </a:solidFill>
                <a:latin typeface="Tahoma"/>
              </a:rPr>
              <a:t>Многие думают, что в последний день масленичной недели сжигают чучело масленицы, но нет, не Масленицу сжигают, а Зиму провожают!</a:t>
            </a:r>
            <a:br>
              <a:rPr sz="2400"/>
            </a:b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51" name="Picture 8" descr="2177222"/>
          <p:cNvPicPr/>
          <p:nvPr/>
        </p:nvPicPr>
        <p:blipFill>
          <a:blip r:embed="rId1"/>
          <a:stretch/>
        </p:blipFill>
        <p:spPr>
          <a:xfrm>
            <a:off x="900000" y="404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228600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ак проходила масленая неделя. Народ старался отпраздновать ее как можно веселее, сытнее, богаче. Считалось, что тогда и весь предстоящий год будет благополучным и сыт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4" descr="123550746697828bfff493"/>
          <p:cNvPicPr/>
          <p:nvPr/>
        </p:nvPicPr>
        <p:blipFill>
          <a:blip r:embed="rId1"/>
          <a:stretch/>
        </p:blipFill>
        <p:spPr>
          <a:xfrm>
            <a:off x="2916360" y="2759040"/>
            <a:ext cx="42494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788000" y="-360"/>
            <a:ext cx="4032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крыльях птиц прилетает весна. Бегут навстречу весне с птичками в руках  детки и поют песни-веснянки, кричат закл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1" descr="skidki-Saratov-1393664101"/>
          <p:cNvPicPr/>
          <p:nvPr/>
        </p:nvPicPr>
        <p:blipFill>
          <a:blip r:embed="rId1"/>
          <a:stretch/>
        </p:blipFill>
        <p:spPr>
          <a:xfrm>
            <a:off x="395280" y="836640"/>
            <a:ext cx="4311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ANd9GcRbvXgxrReKpQT38u6hVOn0AUwT8JiaaPjkKpyE9wDSR70cAe_X"/>
          <p:cNvPicPr/>
          <p:nvPr/>
        </p:nvPicPr>
        <p:blipFill>
          <a:blip r:embed="rId1"/>
          <a:stretch/>
        </p:blipFill>
        <p:spPr>
          <a:xfrm>
            <a:off x="4427640" y="1197000"/>
            <a:ext cx="4278240" cy="4753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 flipH="1">
            <a:off x="539640" y="260280"/>
            <a:ext cx="360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Жаворонушк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илетайте к нам, да принеси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м  Весну красную, да тепло летечко. Нам зима-то надоела, много хлебушка поела, да наскучил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C:\Users\Пользователь\Pictures\масленница1.jpg"/>
          <p:cNvPicPr/>
          <p:nvPr/>
        </p:nvPicPr>
        <p:blipFill>
          <a:blip r:embed="rId1"/>
          <a:stretch/>
        </p:blipFill>
        <p:spPr>
          <a:xfrm>
            <a:off x="1187280" y="1197000"/>
            <a:ext cx="66675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067280" y="363600"/>
            <a:ext cx="48258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 все коту Масленица, будет и Великий пос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асленица семь дней гуляе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асленица объедуха, деньгами приберух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Это Масленица идет, блин да мед несе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 блинов -не Маслени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линцы, блинчики, блины, как колеса у вес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3986106"/>
          <p:cNvPicPr/>
          <p:nvPr/>
        </p:nvPicPr>
        <p:blipFill>
          <a:blip r:embed="rId1"/>
          <a:stretch/>
        </p:blipFill>
        <p:spPr>
          <a:xfrm>
            <a:off x="0" y="549360"/>
            <a:ext cx="3745080" cy="3924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397080" y="55166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говорки о маслениц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84360" y="40464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Масленица — самый веселый, очень шумный ,народный праздник. Раньше праздновали его семь дней. Каждый день этой недели имел свое название, которое говорило о том, что в этот день нужно дел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Масленица,  — это не только блины. В Масленицу первым делом нужно было помочь прогнать зиму и  разбудить природу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971640" y="2581200"/>
            <a:ext cx="7056360" cy="42768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Пользователь\Pictures\масленница4.jpg"/>
          <p:cNvPicPr/>
          <p:nvPr/>
        </p:nvPicPr>
        <p:blipFill>
          <a:blip r:embed="rId1"/>
          <a:stretch/>
        </p:blipFill>
        <p:spPr>
          <a:xfrm>
            <a:off x="90000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2916360" y="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щай, Маслениц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640" y="1173240"/>
            <a:ext cx="6480360" cy="56847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46836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ждый день масленицы имел свое наз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0" y="549360"/>
            <a:ext cx="399564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ервый день Масленицы - встреча, из соломы делали чучело Масленицы, надевали на него старую одежду, повязывали платком . Насадив чучело на шест, с пением и прибаутками возили его по деревне на санях, затем водружали на самой высокой горе, где начиналось катание на санях. В честь Масленицы пели величальную песн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C:\Users\Пользователь\Pictures\масленница10.jpg"/>
          <p:cNvPicPr/>
          <p:nvPr/>
        </p:nvPicPr>
        <p:blipFill>
          <a:blip r:embed="rId1"/>
          <a:stretch/>
        </p:blipFill>
        <p:spPr>
          <a:xfrm>
            <a:off x="3924360" y="1268280"/>
            <a:ext cx="496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рогая наша Масленица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дотьюшка Изотьевна!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уня белая, Дуня румяная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са длинная, триаршинная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нта алая, двуполтинная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ток беленький, новомодненький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ови черные, наведенные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уба синяя, ластки красные;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пти частые, головастые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ртянки белые, набеленны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" descr="maslenica-na-raduge9934"/>
          <p:cNvPicPr/>
          <p:nvPr/>
        </p:nvPicPr>
        <p:blipFill>
          <a:blip r:embed="rId1"/>
          <a:stretch/>
        </p:blipFill>
        <p:spPr>
          <a:xfrm>
            <a:off x="4788000" y="260280"/>
            <a:ext cx="37576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1052640"/>
            <a:ext cx="241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ник- заигрыш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этот день начинались игры потехи, а за победу угощали блин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9" descr="na"/>
          <p:cNvPicPr/>
          <p:nvPr/>
        </p:nvPicPr>
        <p:blipFill>
          <a:blip r:embed="rId1"/>
          <a:stretch/>
        </p:blipFill>
        <p:spPr>
          <a:xfrm>
            <a:off x="2771640" y="404640"/>
            <a:ext cx="60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сленица к нам идет —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лая весна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инные глазищ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ет она со сна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достно ликуе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зднует народ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мечает солнц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лету поворот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дет любви и счастья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лнца и тепла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аждет вместе с чучелом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ды сжечь дотла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дость и веселье —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воды зимы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нова птичьи трел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место вьюг и ть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2" descr="maslenica-542x407"/>
          <p:cNvPicPr/>
          <p:nvPr/>
        </p:nvPicPr>
        <p:blipFill>
          <a:blip r:embed="rId1"/>
          <a:stretch/>
        </p:blipFill>
        <p:spPr>
          <a:xfrm>
            <a:off x="3924360" y="981000"/>
            <a:ext cx="4991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ред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— «лакомка». Название говорит само за себя. В этот день хозяйки поступают по поговорке: «Что есть в печи — все на стол мечи!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9" descr="6c06fb57fc5b11abb6709e2d0146ad14"/>
          <p:cNvPicPr/>
          <p:nvPr/>
        </p:nvPicPr>
        <p:blipFill>
          <a:blip r:embed="rId1"/>
          <a:stretch/>
        </p:blipFill>
        <p:spPr>
          <a:xfrm>
            <a:off x="1042920" y="981000"/>
            <a:ext cx="6265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5364000" y="117360"/>
            <a:ext cx="33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усская масленица всегда славилась блинами, особенно их количеством. «Блин не клин – живот не расколет», «Блины брюха не портят», - памятуя об этих поговорках, обычно съедали огромное количество блинов. Чаще всего масленичные блины пеклись из гречневой муки, реже - из пшеничн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319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29Z</dcterms:created>
  <dc:creator>User</dc:creator>
  <dc:description/>
  <dc:language>en-US</dc:language>
  <cp:lastModifiedBy>Пользователь</cp:lastModifiedBy>
  <dcterms:modified xsi:type="dcterms:W3CDTF">2015-03-13T11:40:18Z</dcterms:modified>
  <cp:revision>59</cp:revision>
  <dc:subject/>
  <dc:title>Маслениц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280000000000010250300207f7000400038000</vt:lpwstr>
  </property>
</Properties>
</file>