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4C3-167A-407A-9C33-87FC7CAE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322-B575-4888-B048-A45A3CA4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91B-6978-43B8-85DE-10FA5A75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3E9-B15F-4A2D-BEB8-8D4AE81C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6B3-2738-46AD-850B-66DAD619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79B-9D51-4B87-9AD4-E608744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F00-5E5C-400E-8B75-6AFCE236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C9A-E6B6-4389-A5D7-442A4CA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6E6-A54B-43E4-89DE-0C415EA3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E7F-AC9D-440F-BD8E-01B6CCC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A5B-4987-4946-9B67-0B69462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26F-2BC8-4E44-8349-A6339AA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D2B6-5F41-4E17-91AA-DC005E7CB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шаблоны осенние11.jpg"/>
          <p:cNvPicPr/>
          <p:nvPr/>
        </p:nvPicPr>
        <p:blipFill>
          <a:blip r:embed="rId1"/>
          <a:stretch/>
        </p:blipFill>
        <p:spPr>
          <a:xfrm>
            <a:off x="0" y="0"/>
            <a:ext cx="7101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"/>
          <p:cNvSpPr txBox="1"/>
          <p:nvPr/>
        </p:nvSpPr>
        <p:spPr>
          <a:xfrm>
            <a:off x="836640" y="468360"/>
            <a:ext cx="540072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9966"/>
                  </a:solidFill>
                  <a:miter/>
                </a:ln>
                <a:solidFill>
                  <a:srgbClr val="002060"/>
                </a:solidFill>
                <a:latin typeface="PG Isadora Cyr Pro"/>
              </a:rPr>
              <a:t>Как работать со </a:t>
            </a:r>
            <a:endParaRPr b="1" lang="en-US" sz="1800" spc="1" strike="noStrike">
              <a:ln w="15840">
                <a:solidFill>
                  <a:srgbClr val="339966"/>
                </a:solidFill>
                <a:miter/>
              </a:ln>
              <a:solidFill>
                <a:srgbClr val="002060"/>
              </a:solidFill>
              <a:latin typeface="PG Isadora Cyr Pro"/>
              <a:ea typeface="PG Isadora Cyr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9966"/>
                  </a:solidFill>
                  <a:miter/>
                </a:ln>
                <a:solidFill>
                  <a:srgbClr val="002060"/>
                </a:solidFill>
                <a:latin typeface="PG Isadora Cyr Pro"/>
              </a:rPr>
              <a:t>звуками</a:t>
            </a:r>
            <a:endParaRPr b="1" lang="en-US" sz="1800" spc="1" strike="noStrike">
              <a:ln w="15840">
                <a:solidFill>
                  <a:srgbClr val="339966"/>
                </a:solidFill>
                <a:miter/>
              </a:ln>
              <a:solidFill>
                <a:srgbClr val="002060"/>
              </a:solidFill>
              <a:latin typeface="PG Isadora Cyr Pro"/>
              <a:ea typeface="PG Isadora Cyr Pro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65000" y="1908000"/>
            <a:ext cx="133988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орите звук совместно с ребен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е, как располагаются губы, зубы, язык при произнес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го зву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е ли вы голос при произнесении этого зву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ребенком найдите слова, которые начинаются с да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а, затем придумайте слова, где этот звук встречается в нача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в середине и в кон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букву, которая обозначает этот звук в тетра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епите ее из пластилина, вырежьте из бумаги, сконструируй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четных пал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предметы, которые начинаются на данный зв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тради напишите по образцу букву по клеточ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игры со звуком, над которым работ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орите речевой материал на этот зв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шаблоны осенние36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"/>
          <p:cNvSpPr txBox="1"/>
          <p:nvPr/>
        </p:nvSpPr>
        <p:spPr>
          <a:xfrm>
            <a:off x="836640" y="900000"/>
            <a:ext cx="5143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_Romanus"/>
              </a:rPr>
              <a:t>Памятка родител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00cc99"/>
                  </a:gs>
                </a:gsLst>
                <a:lin ang="5400000"/>
              </a:gradFill>
              <a:latin typeface="a_Romanus"/>
              <a:ea typeface="a_Roman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_Romanu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_Romanus"/>
              </a:rPr>
              <a:t>для организации занят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00cc99"/>
                  </a:gs>
                </a:gsLst>
                <a:lin ang="5400000"/>
              </a:gradFill>
              <a:latin typeface="a_Romanus"/>
              <a:ea typeface="a_Roman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_Romanu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_Romanus"/>
              </a:rPr>
              <a:t>по заданию логопе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00cc99"/>
                  </a:gs>
                </a:gsLst>
                <a:lin ang="5400000"/>
              </a:gradFill>
              <a:latin typeface="a_Romanus"/>
              <a:ea typeface="a_Romanus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92280" y="2556000"/>
            <a:ext cx="195278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должны быть регулярными, носить занимательный, никак 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ый характер, не превращаться в дополните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ч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могут проводиться во время прогулок, поездок.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иды занятий требуют обязательной спокойной дело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ановки, а также отсутствия отвлекающих фак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иучать ребенка к самостоятельному выпол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й. Не следует спешить, показывая, как нужно выпол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, даже если ребенок огорчен неудачей. Помощь ребе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носить своевременный и разумный харак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должны быть непродолжительными, не вызывать утом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ыщения. Желательно сообщать ребенку о том, какие задания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выполнять зав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разнообразить формы и методы проведения занят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ть задания по обогащению словаря с заданиями по развит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и, внимания, звукопроизношения, развитию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оддерживать у ребенка желание занимать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его к дальнейшей работе, поощрять успехи, уч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ть тру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0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334800"/>
            <a:ext cx="5810400" cy="147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33360" y="2124000"/>
            <a:ext cx="242762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стихотворение ребенку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асив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ропясь. Обращайте внимание ребенка на то, какие чувства, настро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тот или иной текст. Попробуйте придумать вместе, почему поэ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то или иное стихотвор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уточняется, все ли слова понят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, объясняются малознакомые слова и вы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йте вопрос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по содержанию стихотворения, которые помогут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понять текст, а Вам проверить это по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йт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изношен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ребенок уже ум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, но не всегда еще употребляет правильно. Необходимо сраз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ь произносить все слова в стихотворении точно, поправить ребен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еобходимо; т.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учивания текста это будет сделать у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труд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ребенка 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ю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строчки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 голо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рассказывании стихотвор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удар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з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приемы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помогут вам при эт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творения в лицах, драматизации. Этот прием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му осмыслению текста, выбору нужной интонации и больш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сти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стихотворения по-разному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, грустно, скучн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обот, радостно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2-10-19T10:59:48Z</dcterms:modified>
  <cp:revision>54</cp:revision>
  <dc:subject/>
  <dc:title>Слайд 1</dc:title>
</cp:coreProperties>
</file>