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41B-5D03-4DE6-9A36-EC09208A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BC5-878B-402F-B238-48CEBBC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2C3-6601-4485-B73F-4E79AA94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105-AFB4-44B8-A25A-EA98BCEC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759A-4EF2-4E94-A537-AF5B2515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EE4-BD73-4C57-AAE2-E42CD363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1E9C-8A92-4A42-8FC5-6DE04E1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4414-FA99-401A-8611-2F89CF3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C52-8923-422F-AB0C-4D0F21D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2E1-FDD8-44A4-82D4-21C6319A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28AE-DDAF-4AD4-A81E-E4DE67D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B6E-A3F1-42C6-B628-187532D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A409-A466-41CA-8484-F4EE4C2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C73E-A713-4ADB-8F59-F69A97FB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324-C734-4A5B-993E-88C6B01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E510-A18F-4183-B122-6859A7C1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1841-CE11-44A4-A66D-DDE7B627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56E-BF6F-45B9-BE4A-D0DC6AF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F2F-5A14-4516-AED4-C53EBBB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0BE-00B3-4483-912E-89F2379C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8A0-6D95-4537-A3D0-A370098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D67-2C47-435D-A756-7F75966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967-6B02-450E-8AF8-EAB6F80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26F-1994-494E-AF65-A9C970C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D31F-091F-46BE-BD82-A5B74C647B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42B-B693-4225-8E7C-547FBDC4F5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" Target="slide8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00000" y="1197000"/>
            <a:ext cx="7848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ef66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Крестики - </a:t>
            </a:r>
            <a:endParaRPr b="0" lang="en-US" sz="1800" spc="1" strike="noStrike">
              <a:ln w="12600">
                <a:solidFill>
                  <a:srgbClr val="ffef66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ef66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олики</a:t>
            </a:r>
            <a:endParaRPr b="0" lang="en-US" sz="1800" spc="1" strike="noStrike">
              <a:ln w="12600">
                <a:solidFill>
                  <a:srgbClr val="ffef66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06560" y="187920"/>
            <a:ext cx="813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</a:rPr>
              <a:t>“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</a:rPr>
              <a:t>Кроссворд”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2600" y="2174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62600" y="359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62600" y="174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62600" y="3171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9240" y="-68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9240" y="135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00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76280"/>
            <a:ext cx="3780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 горизонт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 Как правило, она содержит от 101 до 104 клави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 Самая главная микросхема, мозг компью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 Похожа на серенького зверька с хвост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 вертика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 Устройства для хранения, обработки информации находятся в системном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Переводит графическую информацию в цифровой вид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 Устройство похожее на телевиз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 Он бывает матричный, струйный и лазер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Она бывает внутренней и внеш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56240" y="817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56240" y="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19680" y="2241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98880" y="2590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08600" y="1868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8600" y="329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5240" y="1608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05240" y="3032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4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05240" y="1608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05240" y="3032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4160" y="62161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6920" y="311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173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19280" y="1413000"/>
          <a:ext cx="6455880" cy="4657680"/>
        </p:xfrm>
        <a:graphic>
          <a:graphicData uri="http://schemas.openxmlformats.org/drawingml/2006/table">
            <a:tbl>
              <a:tblPr/>
              <a:tblGrid>
                <a:gridCol w="460440"/>
                <a:gridCol w="462600"/>
                <a:gridCol w="460440"/>
                <a:gridCol w="460440"/>
                <a:gridCol w="461160"/>
                <a:gridCol w="462240"/>
                <a:gridCol w="460800"/>
                <a:gridCol w="460440"/>
                <a:gridCol w="462600"/>
                <a:gridCol w="460800"/>
                <a:gridCol w="460440"/>
                <a:gridCol w="460440"/>
                <a:gridCol w="462600"/>
                <a:gridCol w="46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3132000" y="3573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566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155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0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6764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3500280"/>
            <a:ext cx="4535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5013360"/>
            <a:ext cx="4105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5516640"/>
            <a:ext cx="18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4005360"/>
            <a:ext cx="43164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19640" y="2924280"/>
            <a:ext cx="50472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1916280"/>
            <a:ext cx="503280" cy="36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7640" y="1413000"/>
            <a:ext cx="50508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96360" y="2924280"/>
            <a:ext cx="50472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26920" y="230400"/>
            <a:ext cx="75614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«Раскрась-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й  команде  даётся задание  быстрей разукрасить рисунок в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int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заготовка прилагае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0" t="0" r="36343" b="6383"/>
          <a:stretch/>
        </p:blipFill>
        <p:spPr>
          <a:xfrm>
            <a:off x="1835280" y="1530360"/>
            <a:ext cx="4830480" cy="5327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150520" y="5516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1187280" y="1628640"/>
          <a:ext cx="6840720" cy="439128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703dff"/>
                      </a:solidFill>
                    </a:lnL>
                    <a:lnR w="18720">
                      <a:solidFill>
                        <a:srgbClr val="703dff"/>
                      </a:solidFill>
                    </a:lnR>
                    <a:lnT w="18720">
                      <a:solidFill>
                        <a:srgbClr val="703dff"/>
                      </a:solidFill>
                    </a:lnT>
                    <a:lnB w="18720">
                      <a:solidFill>
                        <a:srgbClr val="703d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 txBox="1"/>
          <p:nvPr/>
        </p:nvSpPr>
        <p:spPr>
          <a:xfrm>
            <a:off x="3276720" y="26028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ИТ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39640" y="476280"/>
          <a:ext cx="8280000" cy="5471640"/>
        </p:xfrm>
        <a:graphic>
          <a:graphicData uri="http://schemas.openxmlformats.org/drawingml/2006/table">
            <a:tbl>
              <a:tblPr/>
              <a:tblGrid>
                <a:gridCol w="2760120"/>
                <a:gridCol w="2759760"/>
                <a:gridCol w="2760120"/>
              </a:tblGrid>
              <a:tr h="18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img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2924280"/>
            <a:ext cx="2460600" cy="750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116000" y="4292640"/>
            <a:ext cx="1730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иф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92360" y="981000"/>
            <a:ext cx="22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кий стрело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348000" y="2781360"/>
            <a:ext cx="2521080" cy="770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419640" y="4467240"/>
            <a:ext cx="2447640" cy="1174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156360" y="1197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сели дом</a:t>
            </a:r>
            <a:endParaRPr b="0" lang="en-US" sz="1800" spc="1" strike="noStrike">
              <a:ln w="0">
                <a:noFill/>
              </a:ln>
              <a:solidFill>
                <a:srgbClr val="3333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27640" y="2711520"/>
            <a:ext cx="2160720" cy="1243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300720" y="4437000"/>
            <a:ext cx="20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крась-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052640"/>
            <a:ext cx="22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удож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328320"/>
            <a:ext cx="842472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“Художни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рисовать как можно больше рисунков  в графическом редакторе Paint ( дана заготовка, нарисован круг, придумать и добавить ему элементы, чтобы получился объект или образ, например, колобок, робот, воздушные шары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0" t="0" r="0" b="5674"/>
          <a:stretch/>
        </p:blipFill>
        <p:spPr>
          <a:xfrm>
            <a:off x="1692360" y="2162160"/>
            <a:ext cx="5543640" cy="392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84360" y="6237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181080"/>
            <a:ext cx="8209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«Меткий стрел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ранее на листках бумаги записаны столбики слов. Необходимо стрелками соединить сочетающие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878480"/>
            <a:ext cx="878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ОЗ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минимальный участок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Палитра </a:t>
            </a:r>
            <a:r>
              <a:rPr b="0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оры цветов, в которые окрашиваю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ч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52200" y="3194280"/>
            <a:ext cx="905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Пиксе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ая быстрая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Процесс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устройство, которое выводит изоб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кран мон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200"/>
                </a:solidFill>
                <a:latin typeface="Arial"/>
                <a:ea typeface="Times New Roman"/>
              </a:rPr>
              <a:t>Видеокар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ботк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2205000"/>
            <a:ext cx="3959280" cy="12240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924280"/>
            <a:ext cx="2089440" cy="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87280" y="2276280"/>
            <a:ext cx="2664000" cy="115236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4005360"/>
            <a:ext cx="3311640" cy="93636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92360" y="4149360"/>
            <a:ext cx="2950920" cy="86364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5734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140400"/>
            <a:ext cx="777744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«Засели д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ранее подготовлены 2 дома, в каждом 3 этажа. Надо заселить все этажи, написав либо устройство,  либо вид информации         (может быть два вида) , которую это устройство об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0800000">
            <a:off x="755640" y="2852640"/>
            <a:ext cx="3672000" cy="26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59280" y="2852280"/>
            <a:ext cx="3816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2133720"/>
            <a:ext cx="3672000" cy="7189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133720"/>
            <a:ext cx="3816360" cy="7189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06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уд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79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292428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кстов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аф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39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вуков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47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део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2852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371628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581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аф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479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08720" y="3141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3789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кстов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аф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кс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37162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4581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595008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11280" y="196560"/>
            <a:ext cx="7775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“Музыкальна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манды исполняют “Песню компьютерных разбойников”. Одна команда исполняет 1, 2-й куплеты. Другая – 3, 4-й куплеты на мотив “Песни разбойников” из мультфильма “Бременские музыканты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665000"/>
            <a:ext cx="4427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1 куплет</a:t>
            </a: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. Говорят, мы бяки-буки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И на нас управы нет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Дайте в руки ноутбуки –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Мы взломаем Интернет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Ой-ля-ля, ой-ля-ля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Не заплатим ни рубля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Ой-ля-ля ой-ля-ля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Оп-п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2 куплет</a:t>
            </a: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. Зря спасенья не ищи ты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Ибо мы умнее всех!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аши хитрые защиты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Мы расколем как орех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Ух-ух-ух, эх-эх-эх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сюду влезем без помех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ай-вай-вай, открывай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Файлы</a:t>
            </a:r>
            <a:r>
              <a:rPr b="0" lang="ru-RU" sz="1800" spc="-1" strike="noStrike">
                <a:solidFill>
                  <a:srgbClr val="ff33cc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60880" y="1665000"/>
            <a:ext cx="4443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3 куплет</a:t>
            </a: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. Говорят мы бяки-буки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И, Фон Нейман, нас прости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Мы плодим такие глюки –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ам вовек не разгрести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Пам-пам-пам, та-ра-рам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Без ошибок нет программ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Та-ра-рам, трам-пам-пам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Так-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4 куплет</a:t>
            </a: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. Мыслим мы машинным кодом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Это высший пилотаж!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сех поздравит с Новым годом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Самый новый вирус наш.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Раз-два-три, три-два-раз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Пишем вирус на заказ,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Тук-тук-тук, ждите глюк</a:t>
            </a:r>
            <a:br>
              <a:rPr sz="2000"/>
            </a:br>
            <a:r>
              <a:rPr b="0" lang="ru-RU" sz="2000" spc="-1" strike="noStrike">
                <a:solidFill>
                  <a:srgbClr val="ff33cc"/>
                </a:solidFill>
                <a:latin typeface="Comic Sans MS"/>
              </a:rPr>
              <a:t>В полноч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6491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2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8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9320" y="4102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59320" y="6120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0" y="824328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-37440"/>
            <a:ext cx="8015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“Ребу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ждой команде раздается по пять ребусов. Побеждает та команда, которая быстро и правильно разгадает ребу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0" r="0" b="9835"/>
          <a:stretch/>
        </p:blipFill>
        <p:spPr>
          <a:xfrm>
            <a:off x="179280" y="1197000"/>
            <a:ext cx="4608720" cy="1084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rcRect l="0" t="15775" r="0" b="0"/>
          <a:stretch/>
        </p:blipFill>
        <p:spPr>
          <a:xfrm>
            <a:off x="179280" y="2349360"/>
            <a:ext cx="4608720" cy="1017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rcRect l="0" t="4602" r="0" b="9127"/>
          <a:stretch/>
        </p:blipFill>
        <p:spPr>
          <a:xfrm>
            <a:off x="324000" y="3357720"/>
            <a:ext cx="4248000" cy="1112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3097080" cy="106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55640" y="5605560"/>
            <a:ext cx="2881440" cy="1108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796000" y="595008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ИСПОЛН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96000" y="2565360"/>
            <a:ext cx="28796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24360" y="3716280"/>
            <a:ext cx="29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867280" y="4869000"/>
            <a:ext cx="24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96000" y="1484280"/>
            <a:ext cx="24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АЛГОРИТ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3851280" y="623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26920" y="533880"/>
            <a:ext cx="77774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“Черный ящи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носится черный ящик, в котором лежит предмет, связанный с компьютером. Наводящими вопросами, участники отгадывают предмет. Учитель на вопросы учеников отвечает «да» или «нет». Побеждает команда, которая быстрее отгадает этот предмет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12067" t="2994" r="9270" b="0"/>
          <a:stretch/>
        </p:blipFill>
        <p:spPr>
          <a:xfrm>
            <a:off x="3276720" y="2349360"/>
            <a:ext cx="2977920" cy="36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51280" y="6093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26720"/>
            <a:ext cx="855324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«Шифр»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андам предлагается в задании переставить буквы, так что бы получились слова, связанные с элементами компьютера, элементами устройства компьютера и элементами мультимед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1.Элементы компьютера: перринт, россецорп, красен, три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2.Элементы устройства компьютера: камыш, ниша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3.Элементы мультимедиа: фигарка, иведо, вукз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645000"/>
            <a:ext cx="583236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ff"/>
                </a:solidFill>
                <a:uFillTx/>
                <a:latin typeface="Comic Sans MS"/>
              </a:rPr>
              <a:t>Отве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Comic Sans MS"/>
              </a:rPr>
              <a:t>1.ПРИНТЕР,ПРОЦЕССОР,СКАНЕР,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.МЫШКА,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3.ГРАФИКА,ВИДЕО,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952560" cy="799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859280" y="5084640"/>
            <a:ext cx="1800360" cy="104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308720" y="3500280"/>
            <a:ext cx="1287720" cy="127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2268360" y="5445000"/>
            <a:ext cx="1043280" cy="978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6877080" y="5157720"/>
            <a:ext cx="1420920" cy="1013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37440" y="6237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32:03Z</dcterms:created>
  <dc:creator>1</dc:creator>
  <dc:description/>
  <dc:language>en-US</dc:language>
  <cp:lastModifiedBy>1</cp:lastModifiedBy>
  <dcterms:modified xsi:type="dcterms:W3CDTF">2010-01-11T20:56:48Z</dcterms:modified>
  <cp:revision>11</cp:revision>
  <dc:subject/>
  <dc:title>Слайд 1</dc:title>
</cp:coreProperties>
</file>