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png" ContentType="image/png"/>
  <Override PartName="/ppt/media/image9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7AA-CC07-4E06-8EBB-8E722D9B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046-AA5F-4F42-837E-3A69C248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7EC-12C5-4559-83E4-CE86D30A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137-4D22-458E-ACB1-AADAA35F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18838-2D16-42A4-9793-8EA62DCC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053E6-E911-4141-8469-7709D56A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4628E-2849-4E57-94BD-5BC97650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39349-22D1-410F-8DA1-8B8A985D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CE101-CF2F-4933-AEFE-99E22E51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647F6-8FA7-4205-9C7A-AE0B5FA1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AF9AF-9AA7-48F9-B598-21158AB4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196-8B6E-4D20-A85A-DE429474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55F14-D1EE-4DA1-A653-500A6D0C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2B746-64BF-4E5B-B4F1-31424B9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FC2B7-A4DA-4016-B012-CE7C2EF2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152F1-D554-4660-BC86-118FB665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F8BAD-33DA-46A5-85E6-F43D8508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6A8-156F-4567-8A42-DC41FA46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431-774C-443C-B15F-DDF83D7A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F2E-CDD0-49F6-952C-7A702B09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C49-376B-4E45-ABD7-55532FA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F45-7DFA-43C5-9C8D-23F7B7B3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B6C-972E-42C4-A4C9-AA20A4F1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08E-F42A-4337-913A-7B967C42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C102-CF86-4202-9C09-0C28C17CD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0EFD-CBD3-4AC6-A920-8FF1EF11B2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БОУ Сорская ООШ №2 им. Толстихиной Ю. 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179280" y="981000"/>
            <a:ext cx="85694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ковь-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езный овощ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250920" y="6237360"/>
            <a:ext cx="547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imes New Roman"/>
              </a:rPr>
              <a:t>РУКОВОДИТЕЛЬ:   Кокова Любовь Валер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4500720" y="537372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ыполнил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5724360" y="5300640"/>
            <a:ext cx="331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imes New Roman"/>
              </a:rPr>
              <a:t>Черкасских Иван Леонид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8028000" y="6381720"/>
            <a:ext cx="86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79280" y="189000"/>
            <a:ext cx="878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Bookman Old Style"/>
              </a:rPr>
              <a:t>Секреты выращивания морков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556000" y="77292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орковь — двулетнее корнеплодное растение. Семена     мелкие (в 1 г 800 шт.), могут прорастать при температуре  3...4° С. При благоприятных условиях всходы появляются на 15—20-й день после посева. Взошедшие растения очень медленно растут, поэтому сорняки сильно угнетают молодые раст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23840" y="985680"/>
            <a:ext cx="2158920" cy="25927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p:transition spd="med">
    <p:fade thruBlk="true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2400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рнеплод образуется из корня, который начинает утолщаться только через 40—60 дней после посе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емена можно высевать весной, летом и осенью. Весной сеют рано (апрель-май). Летний посев проводят в первых числах июня, осенний (подзимний) — до замерзания почвы. Чтобы получить раннюю продукцию, проводят подзимний или ранневесенний посевы. Корнеплоды, полученные при летнем посеве, используют для зимнего хранения и на семенники.Посев проводят по хорошо выровненной почве на расстоянии 18...20 см между рядами. Норма высева на 10 м2 при весеннем и летнем сроках 4...5 г, при подзимнем — 6...7 г на глубину 2 с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44360" y="24624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Приемы ухода за морковь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96920" y="121392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полку сорняков ведут до и после появления всходов. Рыхление почвы - при образовании почвенной корки (после дождя, полив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119320" y="3040200"/>
            <a:ext cx="70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первый раз загущенные всходы прореживают,  оставляя  растение на расстоянии около 2 см. Второе прореживание  проводят при появлении 4-5 листьев. В зависимости от сорта  окончательное расстояние между растениями достигает 3-6 с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7" descr="сканирование0005"/>
          <p:cNvPicPr/>
          <p:nvPr/>
        </p:nvPicPr>
        <p:blipFill>
          <a:blip r:embed="rId1"/>
          <a:stretch/>
        </p:blipFill>
        <p:spPr>
          <a:xfrm>
            <a:off x="196920" y="2685960"/>
            <a:ext cx="1922400" cy="1629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142" name="Picture 10" descr="сканирование0006"/>
          <p:cNvPicPr/>
          <p:nvPr/>
        </p:nvPicPr>
        <p:blipFill>
          <a:blip r:embed="rId2"/>
          <a:stretch/>
        </p:blipFill>
        <p:spPr>
          <a:xfrm>
            <a:off x="6227640" y="5129280"/>
            <a:ext cx="1614600" cy="165564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143" name="Rectangle 11"/>
          <p:cNvSpPr/>
          <p:nvPr/>
        </p:nvSpPr>
        <p:spPr>
          <a:xfrm>
            <a:off x="179280" y="53388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324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68000" y="47592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 подзимнем и ранневесеннем сроках посева уборк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чинают в июле. Для зимнего хранения корнеплоды убирают до наступления заморозков в сентябре - октябре, обрезая ботву на уровне головки корнеплода. Для получения семян отбирают лучшие корнеплоды и обрезают у них листья, не повреждая верхушечную поч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316872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971640" y="1628640"/>
            <a:ext cx="7630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Picture 5" descr="Копия DSC02027"/>
          <p:cNvPicPr/>
          <p:nvPr/>
        </p:nvPicPr>
        <p:blipFill>
          <a:blip r:embed="rId1"/>
          <a:stretch/>
        </p:blipFill>
        <p:spPr>
          <a:xfrm>
            <a:off x="1403280" y="2997360"/>
            <a:ext cx="6481800" cy="308736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148" name="WordArt 6"/>
          <p:cNvSpPr txBox="1"/>
          <p:nvPr/>
        </p:nvSpPr>
        <p:spPr>
          <a:xfrm>
            <a:off x="468360" y="333360"/>
            <a:ext cx="8351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ият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fade thruBlk="true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</a:rPr>
              <a:t>«Хитрый» пиро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3860640"/>
            <a:ext cx="8424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Маргарин растопи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Разбить в него 2 яйца и перемеш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Добавить в полученную массу сахарный песок, протертую морковь, перемеш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 полученную массу всыпать соду, ванилин, просеять муку, перемеш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олученную массу (как густая сметана) выложить в смазанную форму и выпекать при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180 градусов 20 – 25 мину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ерх украсить цветной посыпкой или взбитыми с сахаром бел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324000" y="765000"/>
            <a:ext cx="32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Monotype Corsiva"/>
              </a:rPr>
              <a:t>Продукт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5280" y="1267920"/>
            <a:ext cx="489744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2 стакана тертой морков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1 пачка маргарин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2 яйц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1 стакан пе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ода на кончике чайной лож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анил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250920" y="3284640"/>
            <a:ext cx="4248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Способ приготовления</a:t>
            </a:r>
            <a:r>
              <a:rPr b="0" lang="ru-RU" sz="3600" spc="-1" strike="noStrike">
                <a:solidFill>
                  <a:srgbClr val="00ffcc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4" descr="крупенник"/>
          <p:cNvPicPr/>
          <p:nvPr/>
        </p:nvPicPr>
        <p:blipFill>
          <a:blip r:embed="rId1"/>
          <a:stretch/>
        </p:blipFill>
        <p:spPr>
          <a:xfrm>
            <a:off x="5292720" y="1052640"/>
            <a:ext cx="3527280" cy="286704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</p:spTree>
  </p:cSld>
  <p:transition spd="med">
    <p:fade thruBlk="true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42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94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440"/>
                            </p:stCondLst>
                            <p:childTnLst>
                              <p:par>
                                <p:cTn id="5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880"/>
                            </p:stCondLst>
                            <p:childTnLst>
                              <p:par>
                                <p:cTn id="5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6560"/>
                            </p:stCondLst>
                            <p:childTnLst>
                              <p:par>
                                <p:cTn id="5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6"/>
          <p:cNvSpPr txBox="1"/>
          <p:nvPr/>
        </p:nvSpPr>
        <p:spPr>
          <a:xfrm>
            <a:off x="900000" y="0"/>
            <a:ext cx="756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тер - класс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Picture 7" descr="сканирование0001"/>
          <p:cNvPicPr/>
          <p:nvPr/>
        </p:nvPicPr>
        <p:blipFill>
          <a:blip r:embed="rId3"/>
          <a:srcRect l="2920" t="5398" r="5906" b="285"/>
          <a:stretch/>
        </p:blipFill>
        <p:spPr>
          <a:xfrm>
            <a:off x="6516720" y="4149720"/>
            <a:ext cx="2232000" cy="2160720"/>
          </a:xfrm>
          <a:prstGeom prst="rect">
            <a:avLst/>
          </a:prstGeom>
          <a:ln w="76320">
            <a:solidFill>
              <a:srgbClr val="ccffcc"/>
            </a:solidFill>
            <a:miter/>
          </a:ln>
        </p:spPr>
      </p:pic>
      <p:pic>
        <p:nvPicPr>
          <p:cNvPr id="157" name="Picture 8" descr="сканирование0002"/>
          <p:cNvPicPr/>
          <p:nvPr/>
        </p:nvPicPr>
        <p:blipFill>
          <a:blip r:embed="rId4"/>
          <a:srcRect l="9670" t="6817" r="9670" b="6595"/>
          <a:stretch/>
        </p:blipFill>
        <p:spPr>
          <a:xfrm>
            <a:off x="395280" y="4149720"/>
            <a:ext cx="2144880" cy="2232000"/>
          </a:xfrm>
          <a:prstGeom prst="rect">
            <a:avLst/>
          </a:prstGeom>
          <a:ln w="76320">
            <a:solidFill>
              <a:srgbClr val="ccffcc"/>
            </a:solidFill>
            <a:miter/>
          </a:ln>
        </p:spPr>
      </p:pic>
      <p:pic>
        <p:nvPicPr>
          <p:cNvPr id="158" name="Picture 10" descr="Копия DSC02243"/>
          <p:cNvPicPr/>
          <p:nvPr/>
        </p:nvPicPr>
        <p:blipFill>
          <a:blip r:embed="rId5"/>
          <a:stretch/>
        </p:blipFill>
        <p:spPr>
          <a:xfrm>
            <a:off x="3492360" y="1052640"/>
            <a:ext cx="2016360" cy="1987560"/>
          </a:xfrm>
          <a:prstGeom prst="rect">
            <a:avLst/>
          </a:prstGeom>
          <a:ln w="76320">
            <a:solidFill>
              <a:srgbClr val="ccffcc"/>
            </a:solidFill>
            <a:miter/>
          </a:ln>
        </p:spPr>
      </p:pic>
      <p:sp>
        <p:nvSpPr>
          <p:cNvPr id="159" name="WordArt 11"/>
          <p:cNvSpPr txBox="1"/>
          <p:nvPr/>
        </p:nvSpPr>
        <p:spPr>
          <a:xfrm>
            <a:off x="395280" y="2924280"/>
            <a:ext cx="84978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765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Цветы из морков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fade thruBlk="true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7404120" y="5013360"/>
            <a:ext cx="1487520" cy="1441440"/>
          </a:xfrm>
          <a:prstGeom prst="rect">
            <a:avLst/>
          </a:prstGeom>
          <a:ln w="76320">
            <a:solidFill>
              <a:srgbClr val="ccffcc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632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Розы из морков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9" descr="Копия сканирование0002"/>
          <p:cNvPicPr/>
          <p:nvPr/>
        </p:nvPicPr>
        <p:blipFill>
          <a:blip r:embed="rId2"/>
          <a:srcRect l="8392" t="0" r="16224" b="0"/>
          <a:stretch/>
        </p:blipFill>
        <p:spPr>
          <a:xfrm>
            <a:off x="179280" y="2316240"/>
            <a:ext cx="1295640" cy="105732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pic>
        <p:nvPicPr>
          <p:cNvPr id="163" name="Picture 10" descr="Копия (4) сканирование0002"/>
          <p:cNvPicPr/>
          <p:nvPr/>
        </p:nvPicPr>
        <p:blipFill>
          <a:blip r:embed="rId3"/>
          <a:stretch/>
        </p:blipFill>
        <p:spPr>
          <a:xfrm>
            <a:off x="4140360" y="1801800"/>
            <a:ext cx="1368360" cy="104292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pic>
        <p:nvPicPr>
          <p:cNvPr id="164" name="Picture 11" descr="Копия Копия сканирование0002"/>
          <p:cNvPicPr/>
          <p:nvPr/>
        </p:nvPicPr>
        <p:blipFill>
          <a:blip r:embed="rId4"/>
          <a:stretch/>
        </p:blipFill>
        <p:spPr>
          <a:xfrm>
            <a:off x="131760" y="3675240"/>
            <a:ext cx="1368360" cy="112068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pic>
        <p:nvPicPr>
          <p:cNvPr id="165" name="Picture 12" descr="сканирование0002"/>
          <p:cNvPicPr/>
          <p:nvPr/>
        </p:nvPicPr>
        <p:blipFill>
          <a:blip r:embed="rId5"/>
          <a:srcRect l="11218" t="0" r="0" b="0"/>
          <a:stretch/>
        </p:blipFill>
        <p:spPr>
          <a:xfrm>
            <a:off x="250920" y="907920"/>
            <a:ext cx="1226880" cy="115416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sp>
        <p:nvSpPr>
          <p:cNvPr id="166" name="Rectangle 13"/>
          <p:cNvSpPr/>
          <p:nvPr/>
        </p:nvSpPr>
        <p:spPr>
          <a:xfrm>
            <a:off x="1692360" y="1052640"/>
            <a:ext cx="7199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. Для формирования лепестка сделайте надрез по косой к центру. Повторите надрезы еще с двух сторо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1511280" y="2349360"/>
            <a:ext cx="32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. Осторожно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тделит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лепес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692360" y="3860640"/>
            <a:ext cx="28461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3. Насадите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епестки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зубочист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5508720" y="1700280"/>
            <a:ext cx="363528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. Из моркови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азличной толщины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зготовьте лепестки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азличных размеров,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тем сложите цветок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з нескольких рядов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епест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8" descr="Копия (3) сканирование0002"/>
          <p:cNvPicPr/>
          <p:nvPr/>
        </p:nvPicPr>
        <p:blipFill>
          <a:blip r:embed="rId6"/>
          <a:stretch/>
        </p:blipFill>
        <p:spPr>
          <a:xfrm rot="19917600">
            <a:off x="4533840" y="3731760"/>
            <a:ext cx="993960" cy="100656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sp>
        <p:nvSpPr>
          <p:cNvPr id="171" name="Rectangle 17"/>
          <p:cNvSpPr/>
          <p:nvPr/>
        </p:nvSpPr>
        <p:spPr>
          <a:xfrm>
            <a:off x="131760" y="5013360"/>
            <a:ext cx="71042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Так можно собрать цветы из моркови в букет и использовать его для  украшения сто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3940"/>
                            </p:stCondLst>
                            <p:childTnLst>
                              <p:par>
                                <p:cTn id="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180"/>
                            </p:stCondLst>
                            <p:childTnLst>
                              <p:par>
                                <p:cTn id="5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6540"/>
                            </p:stCondLst>
                            <p:childTnLst>
                              <p:par>
                                <p:cTn id="6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114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Копия DSC02243"/>
          <p:cNvPicPr/>
          <p:nvPr/>
        </p:nvPicPr>
        <p:blipFill>
          <a:blip r:embed="rId1"/>
          <a:stretch/>
        </p:blipFill>
        <p:spPr>
          <a:xfrm>
            <a:off x="6659640" y="3860640"/>
            <a:ext cx="2278080" cy="2246400"/>
          </a:xfrm>
          <a:prstGeom prst="rect">
            <a:avLst/>
          </a:prstGeom>
          <a:ln w="76320">
            <a:solidFill>
              <a:srgbClr val="ccffcc"/>
            </a:solidFill>
            <a:miter/>
          </a:ln>
        </p:spPr>
      </p:pic>
      <p:sp>
        <p:nvSpPr>
          <p:cNvPr id="173" name="Rectangle 6"/>
          <p:cNvSpPr/>
          <p:nvPr/>
        </p:nvSpPr>
        <p:spPr>
          <a:xfrm>
            <a:off x="0" y="189000"/>
            <a:ext cx="88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Ромашки и гвоздики  из морков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7" descr="Копия (2) сканирование0003"/>
          <p:cNvPicPr/>
          <p:nvPr/>
        </p:nvPicPr>
        <p:blipFill>
          <a:blip r:embed="rId2"/>
          <a:stretch/>
        </p:blipFill>
        <p:spPr>
          <a:xfrm>
            <a:off x="611280" y="2349360"/>
            <a:ext cx="1833480" cy="99720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pic>
        <p:nvPicPr>
          <p:cNvPr id="175" name="Picture 8" descr="Копия Копия сканирование0003"/>
          <p:cNvPicPr/>
          <p:nvPr/>
        </p:nvPicPr>
        <p:blipFill>
          <a:blip r:embed="rId3"/>
          <a:stretch/>
        </p:blipFill>
        <p:spPr>
          <a:xfrm>
            <a:off x="250920" y="1052640"/>
            <a:ext cx="1873080" cy="101592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sp>
        <p:nvSpPr>
          <p:cNvPr id="176" name="Rectangle 9"/>
          <p:cNvSpPr/>
          <p:nvPr/>
        </p:nvSpPr>
        <p:spPr>
          <a:xfrm>
            <a:off x="2340000" y="1125360"/>
            <a:ext cx="68040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. Разрезать морковь на кружочки. Вырезать цветки ромашки при помощи выемки с лопастными кра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771640" y="2349360"/>
            <a:ext cx="59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. Насадите цветки на зубочист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2556000" y="3070080"/>
            <a:ext cx="38876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Мелкими цветами на ножках можно украсить салаты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и другие блюда.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А еще из них можно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собрать гвоздику,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вколов зубочистки в одну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общую основу,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например ябло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12" descr="Копия DSC02026"/>
          <p:cNvPicPr/>
          <p:nvPr/>
        </p:nvPicPr>
        <p:blipFill>
          <a:blip r:embed="rId4"/>
          <a:srcRect l="6741" t="4763" r="8893" b="6849"/>
          <a:stretch/>
        </p:blipFill>
        <p:spPr>
          <a:xfrm>
            <a:off x="250920" y="4508640"/>
            <a:ext cx="2232000" cy="150948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</p:spTree>
  </p:cSld>
  <p:transition spd="med">
    <p:fade thruBlk="true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6707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аким образом, в своей работе мне удалось раскрыть поставленную цель и реализовать запланированные задачи. По ходу выполнения работы было изучено много литературы, апробированы на практике кулинарные рецеп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2565360"/>
            <a:ext cx="2087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8320"/>
                            </p:stCondLst>
                            <p:childTnLst>
                              <p:par>
                                <p:cTn id="691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0" y="188640"/>
            <a:ext cx="2952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одержани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79640" y="907560"/>
            <a:ext cx="5113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вед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* Обоснование тем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* Цели и зада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Чудо овощ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* Немного исто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* Многообразие сортов морко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* Морковь и здоровье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* Секреты выращивания морко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3.   Ах, морковка, объедень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* Крупеник манный с морков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* Хитрый пиро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4.   Мастер –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* Розы из морков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* Ромашки и гвоздики из морко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ойте  вместе с 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ыв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Библиограф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12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68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92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204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304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Литература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19664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buClr>
                <a:srgbClr val="010199"/>
              </a:buClr>
              <a:buSzPct val="120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Кристанини Ди Фидио Дж. «Фантазии из овощей и фруктов».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buClr>
                <a:srgbClr val="010199"/>
              </a:buClr>
              <a:buSzPct val="120000"/>
              <a:buFont typeface="Times New Roman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Трайтак Д.И. Пичугина Г.В. «Сельско-хозяйственный труд. Введение в сельское хозяйство».                     «Просвещение» 19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buClr>
                <a:srgbClr val="010199"/>
              </a:buClr>
              <a:buSzPct val="120000"/>
              <a:buFont typeface="Times New Roman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3.  Соболева Л.С. Крылова И.Л. «Зеленая аптека Татари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4.   Хворостухина С.А. «Запекаем в духовке».    Мир книги»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5.   «Выпечка. Быстро, вкусно, доступно» Москва «АСТ – пресс книга»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360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Гипоте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920" y="907920"/>
            <a:ext cx="77868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4d"/>
                </a:solidFill>
                <a:latin typeface="Times New Roman"/>
              </a:rPr>
              <a:t>Морковь как овощ мы взяли для исследовательской работы , так как она востребована  любой хозяйкой на кухне, любима очень детьми и является популярным овощем в нашей мест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68360" y="3645000"/>
            <a:ext cx="1666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95280" y="1844640"/>
            <a:ext cx="1081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995640" y="2205000"/>
            <a:ext cx="40388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611280" y="2276640"/>
            <a:ext cx="78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Цель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4d"/>
                </a:solidFill>
                <a:latin typeface="Tahoma"/>
              </a:rPr>
              <a:t>Доказать, что морковь важный овощ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052640"/>
            <a:ext cx="8291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3"/>
                </a:solidFill>
                <a:latin typeface="Times New Roman"/>
              </a:rPr>
              <a:t>Познакомиться с историей возникновения моркови, с многообразием ее сорт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3"/>
                </a:solidFill>
                <a:latin typeface="Times New Roman"/>
              </a:rPr>
              <a:t>Раскрыть ее значение для  здоровья челове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3"/>
                </a:solidFill>
                <a:latin typeface="Times New Roman"/>
              </a:rPr>
              <a:t>Изучить процесс  выращивания морков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3"/>
                </a:solidFill>
                <a:latin typeface="Times New Roman"/>
              </a:rPr>
              <a:t>Научиться готовить блюда и украшения из морков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55640" y="980640"/>
            <a:ext cx="4537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Times New Roman"/>
              </a:rPr>
              <a:t>Морковь    (ашамлык   кишер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-36360" y="179280"/>
            <a:ext cx="2592360" cy="273996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103" name="Rectangle 15"/>
          <p:cNvSpPr/>
          <p:nvPr/>
        </p:nvSpPr>
        <p:spPr>
          <a:xfrm>
            <a:off x="4643280" y="2997360"/>
            <a:ext cx="237672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2700360" y="152856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4d"/>
                </a:solidFill>
                <a:latin typeface="Times New Roman"/>
              </a:rPr>
              <a:t>Морковь начали возделывать около 4 тысяч лет тому назад в начале как лекарственное, а уж потом как пищевое и кормовое раст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1187280" y="2205000"/>
            <a:ext cx="144720" cy="142920"/>
          </a:xfrm>
          <a:prstGeom prst="diamond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1476360" y="1844640"/>
            <a:ext cx="144360" cy="142920"/>
          </a:xfrm>
          <a:prstGeom prst="diamond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971640" y="2421000"/>
            <a:ext cx="144360" cy="142920"/>
          </a:xfrm>
          <a:prstGeom prst="diamond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1979640" y="2421000"/>
            <a:ext cx="144360" cy="142920"/>
          </a:xfrm>
          <a:prstGeom prst="diamond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2556000" y="2133720"/>
            <a:ext cx="144360" cy="142920"/>
          </a:xfrm>
          <a:prstGeom prst="diamond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900000" y="189000"/>
            <a:ext cx="72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Немного истор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252360" y="3804120"/>
            <a:ext cx="85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4d"/>
                </a:solidFill>
                <a:latin typeface="Times New Roman"/>
              </a:rPr>
              <a:t>Родиной культурных сортов моркови считается </a:t>
            </a:r>
            <a:r>
              <a:rPr b="1" lang="ru-RU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4d"/>
                </a:solidFill>
                <a:latin typeface="Times New Roman"/>
              </a:rPr>
              <a:t>Средиземноморье и Афганистан, и до сих пор </a:t>
            </a:r>
            <a:r>
              <a:rPr b="1" lang="ru-RU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4d"/>
                </a:solidFill>
                <a:latin typeface="Times New Roman"/>
              </a:rPr>
              <a:t>в Европе, Азии и Северной Африке можно встретить предка культурных сортов — дикую морковь; проникла она также в Америку и Австрал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32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324000" y="333360"/>
            <a:ext cx="3282840" cy="5400720"/>
          </a:xfrm>
          <a:prstGeom prst="rect">
            <a:avLst/>
          </a:prstGeom>
          <a:ln w="76320">
            <a:solidFill>
              <a:srgbClr val="00c600"/>
            </a:solidFill>
            <a:miter/>
          </a:ln>
        </p:spPr>
      </p:pic>
      <p:sp>
        <p:nvSpPr>
          <p:cNvPr id="113" name="Rectangle 6"/>
          <p:cNvSpPr/>
          <p:nvPr/>
        </p:nvSpPr>
        <p:spPr>
          <a:xfrm>
            <a:off x="3780000" y="260280"/>
            <a:ext cx="53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Дикая морков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635280" y="2017080"/>
            <a:ext cx="55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Дикую морковь можно встретить и у нас — на сухих склонах и обочинах дорог. Это шершавоволосистое растение с тонким беловатым корнем, узнать его очень легко во время плодоношения, поскольку из всех растущих в Хакасии  зонтичных, только у дикой моркови лучи зонтика бывают подняты вверх и сжаты. Это растение занесено в Красную книгу Республики Хакас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265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Сорта морков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668600" y="4657680"/>
            <a:ext cx="2879640" cy="2144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623880" y="4967280"/>
            <a:ext cx="892080" cy="16556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141120" y="3932280"/>
            <a:ext cx="890640" cy="16556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19" name="Picture 8" descr=""/>
          <p:cNvPicPr/>
          <p:nvPr/>
        </p:nvPicPr>
        <p:blipFill>
          <a:blip r:embed="rId4"/>
          <a:stretch/>
        </p:blipFill>
        <p:spPr>
          <a:xfrm>
            <a:off x="2916360" y="3735360"/>
            <a:ext cx="882360" cy="1584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20" name="Picture 9" descr=""/>
          <p:cNvPicPr/>
          <p:nvPr/>
        </p:nvPicPr>
        <p:blipFill>
          <a:blip r:embed="rId5"/>
          <a:stretch/>
        </p:blipFill>
        <p:spPr>
          <a:xfrm>
            <a:off x="6318360" y="3529080"/>
            <a:ext cx="887400" cy="16556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21" name="Picture 10" descr=""/>
          <p:cNvPicPr/>
          <p:nvPr/>
        </p:nvPicPr>
        <p:blipFill>
          <a:blip r:embed="rId6"/>
          <a:stretch/>
        </p:blipFill>
        <p:spPr>
          <a:xfrm>
            <a:off x="4714920" y="3670200"/>
            <a:ext cx="880920" cy="1656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22" name="Picture 12" descr=""/>
          <p:cNvPicPr/>
          <p:nvPr/>
        </p:nvPicPr>
        <p:blipFill>
          <a:blip r:embed="rId7"/>
          <a:stretch/>
        </p:blipFill>
        <p:spPr>
          <a:xfrm>
            <a:off x="4788000" y="4883040"/>
            <a:ext cx="3058920" cy="1986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3" name="Picture 13" descr=""/>
          <p:cNvPicPr/>
          <p:nvPr/>
        </p:nvPicPr>
        <p:blipFill>
          <a:blip r:embed="rId8"/>
          <a:stretch/>
        </p:blipFill>
        <p:spPr>
          <a:xfrm>
            <a:off x="7596360" y="3557520"/>
            <a:ext cx="1665000" cy="2554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4" name="Rectangle 15"/>
          <p:cNvSpPr/>
          <p:nvPr/>
        </p:nvSpPr>
        <p:spPr>
          <a:xfrm>
            <a:off x="179280" y="74448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3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73"/>
                </a:solidFill>
                <a:latin typeface="Times New Roman"/>
              </a:rPr>
              <a:t>В настоящее время морковь культивируют во всем мире. Из дикой моркови выведены  многочисленные огородные сорта, при этом были изменены размер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73"/>
                </a:solidFill>
                <a:latin typeface="Times New Roman"/>
              </a:rPr>
              <a:t>форма  и цвет корнеплода, который используется для пит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324000" y="17146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3"/>
                </a:solidFill>
                <a:latin typeface="Times New Roman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68120" y="2349360"/>
            <a:ext cx="86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73"/>
                </a:solidFill>
                <a:latin typeface="Times New Roman"/>
              </a:rPr>
              <a:t>По созреванию различают скороспелые, средней спелости и поздние сорта моркови. В настоящее время морковь можно приобрести в любое время года, что делает ее действительно ценным продук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3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4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канирование0057"/>
          <p:cNvPicPr/>
          <p:nvPr/>
        </p:nvPicPr>
        <p:blipFill>
          <a:blip r:embed="rId1"/>
          <a:stretch/>
        </p:blipFill>
        <p:spPr>
          <a:xfrm>
            <a:off x="2916360" y="5214960"/>
            <a:ext cx="1155600" cy="1584360"/>
          </a:xfrm>
          <a:prstGeom prst="rect">
            <a:avLst/>
          </a:prstGeom>
          <a:ln w="76320">
            <a:solidFill>
              <a:srgbClr val="00c600"/>
            </a:solidFill>
            <a:miter/>
          </a:ln>
        </p:spPr>
      </p:pic>
      <p:sp>
        <p:nvSpPr>
          <p:cNvPr id="128" name="Rectangle 16"/>
          <p:cNvSpPr/>
          <p:nvPr/>
        </p:nvSpPr>
        <p:spPr>
          <a:xfrm>
            <a:off x="179280" y="708840"/>
            <a:ext cx="849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рнеплоды моркови содержат большое количество витаминов – главным образом провитамин А (каротин), а кроме того, витамины В1   В2   В5  С  Е   К   Р   РР. Чем ярче окраска корнеплодов, тем больше в них каротина: при оранжевой окраске – 8 мг%, при желтой 1,5 мг%, а в белых корнеплодах каротина почти нет. Кроме витаминов корнеплоды содержат большое количество сахаров, флаваноиды, эфирное масло, макроэлементы – калий, фосфор, железо и микроэлементы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179280" y="189000"/>
            <a:ext cx="878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Морковь и здоровье челове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1" descr=""/>
          <p:cNvPicPr/>
          <p:nvPr/>
        </p:nvPicPr>
        <p:blipFill>
          <a:blip r:embed="rId2"/>
          <a:stretch/>
        </p:blipFill>
        <p:spPr>
          <a:xfrm>
            <a:off x="6243480" y="5141880"/>
            <a:ext cx="1511280" cy="1511280"/>
          </a:xfrm>
          <a:prstGeom prst="rect">
            <a:avLst/>
          </a:prstGeom>
          <a:ln w="76320">
            <a:solidFill>
              <a:srgbClr val="00c600"/>
            </a:solidFill>
            <a:miter/>
          </a:ln>
        </p:spPr>
      </p:pic>
      <p:pic>
        <p:nvPicPr>
          <p:cNvPr id="131" name="Picture 22" descr="DSC01982"/>
          <p:cNvPicPr/>
          <p:nvPr/>
        </p:nvPicPr>
        <p:blipFill>
          <a:blip r:embed="rId3"/>
          <a:stretch/>
        </p:blipFill>
        <p:spPr>
          <a:xfrm>
            <a:off x="4459320" y="5214960"/>
            <a:ext cx="1582560" cy="1386000"/>
          </a:xfrm>
          <a:prstGeom prst="rect">
            <a:avLst/>
          </a:prstGeom>
          <a:ln w="76320">
            <a:solidFill>
              <a:srgbClr val="00c600"/>
            </a:solidFill>
            <a:miter/>
          </a:ln>
        </p:spPr>
      </p:pic>
      <p:pic>
        <p:nvPicPr>
          <p:cNvPr id="132" name="Picture 23" descr=""/>
          <p:cNvPicPr/>
          <p:nvPr/>
        </p:nvPicPr>
        <p:blipFill>
          <a:blip r:embed="rId4"/>
          <a:stretch/>
        </p:blipFill>
        <p:spPr>
          <a:xfrm>
            <a:off x="8121600" y="3902040"/>
            <a:ext cx="998640" cy="1440000"/>
          </a:xfrm>
          <a:prstGeom prst="rect">
            <a:avLst/>
          </a:prstGeom>
          <a:ln w="76320">
            <a:solidFill>
              <a:srgbClr val="00c600"/>
            </a:solidFill>
            <a:miter/>
          </a:ln>
        </p:spPr>
      </p:pic>
      <p:sp>
        <p:nvSpPr>
          <p:cNvPr id="133" name="Rectangle 24"/>
          <p:cNvSpPr/>
          <p:nvPr/>
        </p:nvSpPr>
        <p:spPr>
          <a:xfrm>
            <a:off x="108000" y="43063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народной медицине настой зрелых семян моркови, собранных в сентябре, используют для лечения почечно-каменной боле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920"/>
                            </p:stCondLst>
                            <p:childTnLst>
                              <p:par>
                                <p:cTn id="3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692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34:51Z</dcterms:created>
  <dc:creator>Customer</dc:creator>
  <dc:description/>
  <dc:language>en-US</dc:language>
  <cp:lastModifiedBy>User</cp:lastModifiedBy>
  <dcterms:modified xsi:type="dcterms:W3CDTF">2015-03-13T08:05:49Z</dcterms:modified>
  <cp:revision>49</cp:revision>
  <dc:subject/>
  <dc:title>Ах, моркошка, объеденье!!!</dc:title>
</cp:coreProperties>
</file>