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8A0-D07A-4E0A-BFD7-0FEFF925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FEF-5358-45CE-9661-015A6877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AA5-B469-41B8-9014-0EADE12B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1EB-CFEF-4901-BA10-7166015E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D3B-2967-4FDE-BAC1-184E430A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422-640C-472E-BBA0-78C96DB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6EF-E17F-4BC5-B488-B45E41D5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A3B-24BE-4BF2-A15E-324FBB73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213-6A09-47EB-BA6A-49E431D3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978-FE6D-411C-9BA1-2C13C78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C99-5AA2-408A-B42E-D06F5EF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68C-572A-4946-97BA-D3275EF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704-B96E-4088-8DFB-38B35C93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Семинар-практикум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«Обучение детей составлению диафильма».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Занятие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 воспитатель МБ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/с №5 г.Ворс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мова Н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Умения детей старшего дошкольного возраста по развитию повествовательной речи (программа «Детство»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ять сюжетные рассказы по картине, из опыта, по игрушкам; с помощью воспитателя строить свой рассказ в соответствии с требованиями к структуре сюжетного пов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ставленном повествовании отражать характерные особенности жанра; придумывая сказки пользоваться свойственными жанру средствами выразительности и знаниями об особенности сю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ть интерес к самостоятельному сочинению, создавать разнообразные виды творческих рассказов (в старшей группе – придумывание продолжения и конца рассказа, рассказы по аналогии, рассказы по плану воспитателя, по модели; в подготовительной группе – рассказы, сказки на тему, предложенную воспитателем, моделирование рассказа, придумывание диафильмов, рассказы по кляксографии, по пословицам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ворческих рассказах проявлять индивидуальные способности к творческой рече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внимательно выслушивать рассказы сверстников, помогать им в случае затруднений, замечать речевые и логические ошибки и доброжелательно исправлять 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692280"/>
            <a:ext cx="6629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сновные задачи развития речи до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268280"/>
            <a:ext cx="19429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268280"/>
            <a:ext cx="194328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1268280"/>
            <a:ext cx="19429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1268280"/>
            <a:ext cx="194328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206064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206064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3068640"/>
            <a:ext cx="13716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068640"/>
            <a:ext cx="13716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3068640"/>
            <a:ext cx="13716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068640"/>
            <a:ext cx="137160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3500280"/>
            <a:ext cx="1371600" cy="2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22100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221000"/>
            <a:ext cx="1371600" cy="2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869000"/>
            <a:ext cx="194436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869000"/>
            <a:ext cx="137160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оставление диафиль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221000"/>
            <a:ext cx="1371600" cy="2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221000"/>
            <a:ext cx="1714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4869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4869000"/>
            <a:ext cx="1942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8053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468360" y="4005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58053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5805360"/>
            <a:ext cx="137160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805360"/>
            <a:ext cx="137160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5805360"/>
            <a:ext cx="160020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4221000"/>
            <a:ext cx="1371600" cy="2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10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10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476000" y="1052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08720" y="1052640"/>
            <a:ext cx="343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2781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2708280"/>
            <a:ext cx="5713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363640" y="27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640" y="242100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28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378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2720" y="1844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32720" y="184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9040" y="289800"/>
            <a:ext cx="46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Заполни пустые блоки схемы (вариант для заполн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22860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52360" y="1733400"/>
            <a:ext cx="6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2200" y="1387440"/>
            <a:ext cx="186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питание звуко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ультуры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14130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овар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4200" y="1341360"/>
            <a:ext cx="197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грамм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ческого строя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141120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витие связной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02760" y="2131920"/>
            <a:ext cx="153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монол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ической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5120" y="2203560"/>
            <a:ext cx="14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диал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ической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04200" y="30672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ис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49280" y="299556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веств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74760" y="299556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ссу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8560" y="306720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нтамин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416880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чевой образ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3680" y="416880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Частичный образ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31840" y="416880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 высказы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9840" y="421956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ёмы ТР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75480" y="4148280"/>
            <a:ext cx="13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рамат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200" y="486720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ллектив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ставление расск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77320" y="486720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южетных карт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00200" y="4795920"/>
            <a:ext cx="12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сцени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игруш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00" y="5732640"/>
            <a:ext cx="15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оделировани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30760" y="5803920"/>
            <a:ext cx="171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ментирован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30400" y="58039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констру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к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73680" y="573264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законч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сс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03840" y="5803920"/>
            <a:ext cx="106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Чт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повествовательного расска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573360"/>
            <a:ext cx="165564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1557360"/>
            <a:ext cx="1800360" cy="16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1557360"/>
            <a:ext cx="1800360" cy="16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3573360"/>
            <a:ext cx="165600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557360"/>
            <a:ext cx="17272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971640" y="321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22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22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56720" y="3213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716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бо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роев, ме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720" y="1916280"/>
            <a:ext cx="11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ыт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71600" y="184464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30880" y="1557360"/>
            <a:ext cx="178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м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а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яж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мен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19440" y="388152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конч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ыт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95280" y="235080"/>
          <a:ext cx="8280360" cy="6622920"/>
        </p:xfrm>
        <a:graphic>
          <a:graphicData uri="http://schemas.openxmlformats.org/drawingml/2006/table">
            <a:tbl>
              <a:tblPr/>
              <a:tblGrid>
                <a:gridCol w="2590920"/>
                <a:gridCol w="3313080"/>
                <a:gridCol w="2376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е компоненты текста и их трактовка для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структурных компонентов в рассказ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структурных компонентов в сказ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озиция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С чего все началось»: надо назвать, где все произошло и с к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 одном городе жили-были два друга – Коля и Сережа. Они ходили в один детский са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Жили-были дед и баба, и была у них курочка Ряб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язка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Почему все произошло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днажды в группу принесли красивую новую машину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несла курочка яичко, не простое, а золото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событий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Как развивались события, что приключилось с героя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се дети по очереди брали машину, открывали дверцу, крутили колеса и передавали следующему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ед бил-бил – не разбил, баба била-била – не разби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минация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Самый важный момент. От него зависит, плохой или хороший будет конец произвед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оля взял машину, пеервернул ее вверх колесами, хотел разглядеть ее получше, и вдруг раздался ужасный грохот. Это упала новая машина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ышка побежала, хвостиком махнула – яичко упало и разбилось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язка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Чем все закончилос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…и только Сережа не ругал плачущего Колю. Он подошел и незаметно взял его за руку. Коля с благодарностью посмотрел на друг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лачет дед, плачет бааб, а курочка Ряба им говорит: «Снесу я вам яичко не золотое, а просто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7:30:02Z</dcterms:created>
  <dc:creator>1</dc:creator>
  <dc:description/>
  <dc:language>en-US</dc:language>
  <cp:lastModifiedBy>*</cp:lastModifiedBy>
  <dcterms:modified xsi:type="dcterms:W3CDTF">2003-01-02T04:05:08Z</dcterms:modified>
  <cp:revision>4</cp:revision>
  <dc:subject/>
  <dc:title>Слайд 1</dc:title>
</cp:coreProperties>
</file>