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6.wmf" ContentType="image/x-wmf"/>
  <Override PartName="/ppt/media/image23.png" ContentType="image/png"/>
  <Override PartName="/ppt/media/image22.wmf" ContentType="image/x-wmf"/>
  <Override PartName="/ppt/media/image19.png" ContentType="image/png"/>
  <Override PartName="/ppt/media/image21.wmf" ContentType="image/x-wmf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7.png" ContentType="image/png"/>
  <Override PartName="/ppt/media/image34.jpeg" ContentType="image/jpeg"/>
  <Override PartName="/ppt/media/image17.wmf" ContentType="image/x-wmf"/>
  <Override PartName="/ppt/media/image9.png" ContentType="image/png"/>
  <Override PartName="/ppt/media/image39.png" ContentType="image/png"/>
  <Override PartName="/ppt/media/image27.png" ContentType="image/png"/>
  <Override PartName="/ppt/media/image12.wmf" ContentType="image/x-wmf"/>
  <Override PartName="/ppt/media/image13.png" ContentType="image/png"/>
  <Override PartName="/ppt/media/image8.wmf" ContentType="image/x-wmf"/>
  <Override PartName="/ppt/media/image37.jpeg" ContentType="image/jpeg"/>
  <Override PartName="/ppt/media/image30.png" ContentType="image/png"/>
  <Override PartName="/ppt/media/image35.jpeg" ContentType="image/jpeg"/>
  <Override PartName="/ppt/media/image38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2.wmf" ContentType="image/x-wmf"/>
  <Override PartName="/ppt/media/image5.jpeg" ContentType="image/jpeg"/>
  <Override PartName="/ppt/media/image20.wmf" ContentType="image/x-wmf"/>
  <Override PartName="/ppt/media/image4.wmf" ContentType="image/x-wmf"/>
  <Override PartName="/ppt/media/image33.png" ContentType="image/png"/>
  <Override PartName="/ppt/media/image3.png" ContentType="image/png"/>
  <Override PartName="/ppt/media/image31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75B41-9338-4D3F-997F-4B53363355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26B96-4687-4DBB-AF21-5963A733ED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2F3D4-5572-4263-8316-5FF2E2CDF5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93B49-1A64-4B33-B48F-D391967B9D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3CBD-EA56-40AC-A931-FC56A5860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F881-9E17-4467-A8DB-1772D3CBA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7451-AA19-4244-8928-22D54C3B3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6157-4AA7-4259-B07B-598AC81B1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9FBD-5854-433E-9BC7-459A75D1D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C5F1-B4E3-4EB6-8A55-7D225498E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FCB9-A5D5-4F42-87A6-C38C446BC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F767-028A-4D18-93FE-9A9C7F067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F824-7F89-48E5-8ECB-122125D15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B160-2794-418B-956D-21159A9A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ED8E-10A8-45B9-9A64-D03FEB61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165A-700D-431D-805F-8511628C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354AC-3AED-4E66-A936-F889EAE05A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21.wmf"/><Relationship Id="rId3" Type="http://schemas.openxmlformats.org/officeDocument/2006/relationships/image" Target="../media/image26.wmf"/><Relationship Id="rId4" Type="http://schemas.openxmlformats.org/officeDocument/2006/relationships/image" Target="../media/image20.wmf"/><Relationship Id="rId5" Type="http://schemas.openxmlformats.org/officeDocument/2006/relationships/image" Target="../media/image17.wmf"/><Relationship Id="rId6" Type="http://schemas.openxmlformats.org/officeDocument/2006/relationships/image" Target="../media/image21.wmf"/><Relationship Id="rId7" Type="http://schemas.openxmlformats.org/officeDocument/2006/relationships/image" Target="../media/image32.wmf"/><Relationship Id="rId8" Type="http://schemas.openxmlformats.org/officeDocument/2006/relationships/image" Target="../media/image33.png"/><Relationship Id="rId9" Type="http://schemas.openxmlformats.org/officeDocument/2006/relationships/image" Target="../media/image31.png"/><Relationship Id="rId10" Type="http://schemas.openxmlformats.org/officeDocument/2006/relationships/image" Target="../media/image20.wmf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8.png"/><Relationship Id="rId3" Type="http://schemas.openxmlformats.org/officeDocument/2006/relationships/image" Target="../media/image38.png"/><Relationship Id="rId4" Type="http://schemas.openxmlformats.org/officeDocument/2006/relationships/image" Target="../media/image38.png"/><Relationship Id="rId5" Type="http://schemas.openxmlformats.org/officeDocument/2006/relationships/image" Target="../media/image5.jpeg"/><Relationship Id="rId6" Type="http://schemas.openxmlformats.org/officeDocument/2006/relationships/image" Target="../media/image39.png"/><Relationship Id="rId7" Type="http://schemas.openxmlformats.org/officeDocument/2006/relationships/image" Target="../media/image38.png"/><Relationship Id="rId8" Type="http://schemas.openxmlformats.org/officeDocument/2006/relationships/image" Target="../media/image3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8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1.png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5257800"/>
          </a:xfrm>
          <a:prstGeom prst="rect">
            <a:avLst/>
          </a:prstGeom>
          <a:solidFill>
            <a:srgbClr val="c5f49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000" spc="-1" strike="noStrike">
                <a:solidFill>
                  <a:srgbClr val="195c4e"/>
                </a:solidFill>
                <a:latin typeface="Times New Roman"/>
                <a:ea typeface="Times New Roman"/>
              </a:rPr>
              <a:t>Воспитатель:  Храмцова Елена Анатольевна.</a:t>
            </a:r>
            <a:r>
              <a:rPr b="0" lang="ru-RU" sz="1400" spc="-1" strike="noStrike">
                <a:solidFill>
                  <a:srgbClr val="195c4e"/>
                </a:solidFill>
                <a:latin typeface="Times New Roman"/>
                <a:ea typeface="Times New Roman"/>
              </a:rPr>
              <a:t> </a:t>
            </a:r>
            <a:br>
              <a:rPr sz="1400"/>
            </a:br>
            <a:r>
              <a:rPr b="0" lang="ru-RU" sz="1400" spc="-1" strike="noStrike">
                <a:solidFill>
                  <a:srgbClr val="195c4e"/>
                </a:solidFill>
                <a:latin typeface="Times New Roman"/>
                <a:ea typeface="Times New Roman"/>
              </a:rPr>
              <a:t>ГБДОУ № 131 СП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Прямоугольник 3" descr=""/>
          <p:cNvPicPr/>
          <p:nvPr/>
        </p:nvPicPr>
        <p:blipFill>
          <a:blip r:embed="rId1"/>
          <a:stretch/>
        </p:blipFill>
        <p:spPr>
          <a:xfrm>
            <a:off x="530280" y="2475000"/>
            <a:ext cx="7967520" cy="89064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5" descr=""/>
          <p:cNvPicPr/>
          <p:nvPr/>
        </p:nvPicPr>
        <p:blipFill>
          <a:blip r:embed="rId2"/>
          <a:stretch/>
        </p:blipFill>
        <p:spPr>
          <a:xfrm>
            <a:off x="1122480" y="1474920"/>
            <a:ext cx="7265880" cy="823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8" descr=""/>
          <p:cNvPicPr/>
          <p:nvPr/>
        </p:nvPicPr>
        <p:blipFill>
          <a:blip r:embed="rId3"/>
          <a:stretch/>
        </p:blipFill>
        <p:spPr>
          <a:xfrm>
            <a:off x="7391520" y="4419720"/>
            <a:ext cx="1143000" cy="16002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solidFill>
            <a:srgbClr val="c5f49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амовар укусил Машу. (Комар укусил Маш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весна2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2971800" y="1676520"/>
            <a:ext cx="4038480" cy="4952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"/>
          <p:cNvPicPr/>
          <p:nvPr/>
        </p:nvPicPr>
        <p:blipFill>
          <a:blip r:embed="rId2"/>
          <a:stretch/>
        </p:blipFill>
        <p:spPr>
          <a:xfrm>
            <a:off x="838080" y="1676520"/>
            <a:ext cx="2086200" cy="3200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slide0010_image028"/>
          <p:cNvPicPr/>
          <p:nvPr/>
        </p:nvPicPr>
        <p:blipFill>
          <a:blip r:embed="rId3">
            <a:lum contrast="10000"/>
          </a:blip>
          <a:stretch/>
        </p:blipFill>
        <p:spPr>
          <a:xfrm>
            <a:off x="6553080" y="2209680"/>
            <a:ext cx="1656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5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3886200" cy="330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534160" cy="5867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6858000" y="2666880"/>
            <a:ext cx="1217520" cy="16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716040"/>
          </a:xfrm>
          <a:prstGeom prst="rect">
            <a:avLst/>
          </a:prstGeom>
          <a:solidFill>
            <a:srgbClr val="c5f49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го не стал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BUTRFLY3"/>
          <p:cNvPicPr/>
          <p:nvPr/>
        </p:nvPicPr>
        <p:blipFill>
          <a:blip r:embed="rId1"/>
          <a:stretch/>
        </p:blipFill>
        <p:spPr>
          <a:xfrm rot="3340200">
            <a:off x="4442040" y="3329640"/>
            <a:ext cx="1440000" cy="1485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LADYBUG1"/>
          <p:cNvPicPr/>
          <p:nvPr/>
        </p:nvPicPr>
        <p:blipFill>
          <a:blip r:embed="rId2"/>
          <a:stretch/>
        </p:blipFill>
        <p:spPr>
          <a:xfrm rot="2772000">
            <a:off x="790200" y="1419120"/>
            <a:ext cx="1542960" cy="16002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HOUSEFLY"/>
          <p:cNvPicPr/>
          <p:nvPr/>
        </p:nvPicPr>
        <p:blipFill>
          <a:blip r:embed="rId3"/>
          <a:stretch/>
        </p:blipFill>
        <p:spPr>
          <a:xfrm rot="4840200">
            <a:off x="3263400" y="1809720"/>
            <a:ext cx="1190880" cy="1447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BUMBLBEE"/>
          <p:cNvPicPr/>
          <p:nvPr/>
        </p:nvPicPr>
        <p:blipFill>
          <a:blip r:embed="rId4"/>
          <a:stretch/>
        </p:blipFill>
        <p:spPr>
          <a:xfrm>
            <a:off x="6095880" y="1752480"/>
            <a:ext cx="1447920" cy="1067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BUTRFLY3"/>
          <p:cNvPicPr/>
          <p:nvPr/>
        </p:nvPicPr>
        <p:blipFill>
          <a:blip r:embed="rId5"/>
          <a:stretch/>
        </p:blipFill>
        <p:spPr>
          <a:xfrm rot="3840000">
            <a:off x="3711240" y="4898880"/>
            <a:ext cx="1211400" cy="13190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LADYBUG1"/>
          <p:cNvPicPr/>
          <p:nvPr/>
        </p:nvPicPr>
        <p:blipFill>
          <a:blip r:embed="rId6"/>
          <a:stretch/>
        </p:blipFill>
        <p:spPr>
          <a:xfrm rot="3289200">
            <a:off x="1392480" y="3102840"/>
            <a:ext cx="1219320" cy="1414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3" descr="GRSHPPR"/>
          <p:cNvPicPr/>
          <p:nvPr/>
        </p:nvPicPr>
        <p:blipFill>
          <a:blip r:embed="rId7"/>
          <a:stretch/>
        </p:blipFill>
        <p:spPr>
          <a:xfrm>
            <a:off x="609480" y="5029200"/>
            <a:ext cx="2286000" cy="1025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7" descr="u"/>
          <p:cNvPicPr/>
          <p:nvPr/>
        </p:nvPicPr>
        <p:blipFill>
          <a:blip r:embed="rId8">
            <a:lum contrast="20000"/>
          </a:blip>
          <a:stretch/>
        </p:blipFill>
        <p:spPr>
          <a:xfrm>
            <a:off x="6705720" y="5105520"/>
            <a:ext cx="2057400" cy="13809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8" descr=""/>
          <p:cNvPicPr/>
          <p:nvPr/>
        </p:nvPicPr>
        <p:blipFill>
          <a:blip r:embed="rId9">
            <a:lum contrast="30000"/>
          </a:blip>
          <a:stretch/>
        </p:blipFill>
        <p:spPr>
          <a:xfrm>
            <a:off x="6553080" y="3352680"/>
            <a:ext cx="1295640" cy="15973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9" descr="BUMBLBEE"/>
          <p:cNvPicPr/>
          <p:nvPr/>
        </p:nvPicPr>
        <p:blipFill>
          <a:blip r:embed="rId10"/>
          <a:stretch/>
        </p:blipFill>
        <p:spPr>
          <a:xfrm>
            <a:off x="7391520" y="2209680"/>
            <a:ext cx="144756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7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C:\Documents and Settings\User\Мои документы\Мои рисунки\Изображение 308.jpg"/>
          <p:cNvPicPr/>
          <p:nvPr/>
        </p:nvPicPr>
        <p:blipFill>
          <a:blip r:embed="rId1"/>
          <a:stretch/>
        </p:blipFill>
        <p:spPr>
          <a:xfrm>
            <a:off x="0" y="0"/>
            <a:ext cx="297180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4" name="Прямоугольник 4"/>
          <p:cNvSpPr/>
          <p:nvPr/>
        </p:nvSpPr>
        <p:spPr>
          <a:xfrm>
            <a:off x="2971800" y="0"/>
            <a:ext cx="3048120" cy="3429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Овал 5"/>
          <p:cNvSpPr/>
          <p:nvPr/>
        </p:nvSpPr>
        <p:spPr>
          <a:xfrm rot="20493000">
            <a:off x="4111560" y="1028880"/>
            <a:ext cx="403200" cy="1969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Овал 6"/>
          <p:cNvSpPr/>
          <p:nvPr/>
        </p:nvSpPr>
        <p:spPr>
          <a:xfrm>
            <a:off x="3657600" y="533520"/>
            <a:ext cx="45720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ая соединительная линия 14"/>
          <p:cNvSpPr/>
          <p:nvPr/>
        </p:nvSpPr>
        <p:spPr>
          <a:xfrm flipH="1" flipV="1">
            <a:off x="3352320" y="304560"/>
            <a:ext cx="228600" cy="228600"/>
          </a:xfrm>
          <a:prstGeom prst="line">
            <a:avLst/>
          </a:prstGeom>
          <a:ln w="936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Дуга 19"/>
          <p:cNvSpPr/>
          <p:nvPr/>
        </p:nvSpPr>
        <p:spPr>
          <a:xfrm>
            <a:off x="3124080" y="533520"/>
            <a:ext cx="457200" cy="152280"/>
          </a:xfrm>
          <a:custGeom>
            <a:avLst/>
            <a:gdLst/>
            <a:ahLst/>
            <a:rect l="l" t="t" r="r" b="b"/>
            <a:pathLst>
              <a:path stroke="0" w="457200" h="152400">
                <a:moveTo>
                  <a:pt x="228600" y="0"/>
                </a:moveTo>
                <a:cubicBezTo>
                  <a:pt x="354852" y="0"/>
                  <a:pt x="457200" y="34116"/>
                  <a:pt x="457200" y="76200"/>
                </a:cubicBezTo>
                <a:lnTo>
                  <a:pt x="228600" y="76200"/>
                </a:lnTo>
                <a:lnTo>
                  <a:pt x="228600" y="0"/>
                </a:lnTo>
                <a:close/>
              </a:path>
              <a:path fill="none" w="457200" h="152400">
                <a:moveTo>
                  <a:pt x="228600" y="0"/>
                </a:moveTo>
                <a:cubicBezTo>
                  <a:pt x="354852" y="0"/>
                  <a:pt x="457200" y="34116"/>
                  <a:pt x="457200" y="762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Дуга 20"/>
          <p:cNvSpPr/>
          <p:nvPr/>
        </p:nvSpPr>
        <p:spPr>
          <a:xfrm>
            <a:off x="3809880" y="228600"/>
            <a:ext cx="76320" cy="457200"/>
          </a:xfrm>
          <a:custGeom>
            <a:avLst/>
            <a:gdLst/>
            <a:ahLst/>
            <a:rect l="l" t="t" r="r" b="b"/>
            <a:pathLst>
              <a:path stroke="0" w="76200" h="457200">
                <a:moveTo>
                  <a:pt x="38100" y="0"/>
                </a:moveTo>
                <a:cubicBezTo>
                  <a:pt x="59142" y="0"/>
                  <a:pt x="76200" y="102348"/>
                  <a:pt x="76200" y="228600"/>
                </a:cubicBezTo>
                <a:lnTo>
                  <a:pt x="38100" y="228600"/>
                </a:lnTo>
                <a:lnTo>
                  <a:pt x="38100" y="0"/>
                </a:lnTo>
                <a:close/>
              </a:path>
              <a:path fill="none" w="76200" h="457200">
                <a:moveTo>
                  <a:pt x="38100" y="0"/>
                </a:moveTo>
                <a:cubicBezTo>
                  <a:pt x="59142" y="0"/>
                  <a:pt x="76200" y="102348"/>
                  <a:pt x="76200" y="228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ая соединительная линия 22"/>
          <p:cNvSpPr/>
          <p:nvPr/>
        </p:nvSpPr>
        <p:spPr>
          <a:xfrm flipH="1">
            <a:off x="3352680" y="159948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ая соединительная линия 24"/>
          <p:cNvSpPr/>
          <p:nvPr/>
        </p:nvSpPr>
        <p:spPr>
          <a:xfrm flipH="1">
            <a:off x="3505320" y="205668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ая соединительная линия 26"/>
          <p:cNvSpPr/>
          <p:nvPr/>
        </p:nvSpPr>
        <p:spPr>
          <a:xfrm flipH="1">
            <a:off x="3657600" y="25138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ая соединительная линия 27"/>
          <p:cNvSpPr/>
          <p:nvPr/>
        </p:nvSpPr>
        <p:spPr>
          <a:xfrm flipH="1">
            <a:off x="4419720" y="9907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ая соединительная линия 28"/>
          <p:cNvSpPr/>
          <p:nvPr/>
        </p:nvSpPr>
        <p:spPr>
          <a:xfrm flipH="1">
            <a:off x="4648320" y="144720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ая соединительная линия 29"/>
          <p:cNvSpPr/>
          <p:nvPr/>
        </p:nvSpPr>
        <p:spPr>
          <a:xfrm flipH="1">
            <a:off x="4800600" y="19810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35"/>
          <p:cNvSpPr/>
          <p:nvPr/>
        </p:nvSpPr>
        <p:spPr>
          <a:xfrm>
            <a:off x="6019920" y="0"/>
            <a:ext cx="3124080" cy="3429000"/>
          </a:xfrm>
          <a:prstGeom prst="rect">
            <a:avLst/>
          </a:prstGeom>
          <a:solidFill>
            <a:srgbClr val="2a94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36"/>
          <p:cNvSpPr/>
          <p:nvPr/>
        </p:nvSpPr>
        <p:spPr>
          <a:xfrm>
            <a:off x="6477120" y="1905120"/>
            <a:ext cx="761760" cy="1295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37"/>
          <p:cNvSpPr/>
          <p:nvPr/>
        </p:nvSpPr>
        <p:spPr>
          <a:xfrm>
            <a:off x="7696080" y="228600"/>
            <a:ext cx="1143000" cy="2971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1" descr="C:\Documents and Settings\User\Мои документы\Мои рисунки\Копия Изображение 309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0" y="3429000"/>
            <a:ext cx="297180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0" name="Picture 21" descr=""/>
          <p:cNvPicPr/>
          <p:nvPr/>
        </p:nvPicPr>
        <p:blipFill>
          <a:blip r:embed="rId3"/>
          <a:stretch/>
        </p:blipFill>
        <p:spPr>
          <a:xfrm>
            <a:off x="2971800" y="3429000"/>
            <a:ext cx="304812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1" name="Picture 22" descr="G:\сканирование0006.jpg"/>
          <p:cNvPicPr/>
          <p:nvPr/>
        </p:nvPicPr>
        <p:blipFill>
          <a:blip r:embed="rId4"/>
          <a:stretch/>
        </p:blipFill>
        <p:spPr>
          <a:xfrm>
            <a:off x="6019920" y="3429000"/>
            <a:ext cx="312408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solidFill>
            <a:srgbClr val="c5f49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228240"/>
            <a:ext cx="8382240" cy="1523880"/>
          </a:xfrm>
          <a:prstGeom prst="rect">
            <a:avLst/>
          </a:prstGeom>
          <a:solidFill>
            <a:srgbClr val="c5f49a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Ай, ай, ай! Ой! Ой! Ой!   Как же мне идти домо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ожку я себе ушиб,   Как же ноженька болит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 ночи бы поспеть домой,   Ведь закроют домик мой!    А впереди ещё ручеёк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Ребята, как помочь муравьишке перебраться через ручеёк?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457200" y="1981080"/>
            <a:ext cx="8305920" cy="703800"/>
          </a:xfrm>
          <a:prstGeom prst="rect">
            <a:avLst/>
          </a:prstGeom>
          <a:solidFill>
            <a:srgbClr val="c5f4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учейке нет совсем дорог . А мы по камням  скок да скок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Физкультурная минут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2" descr=""/>
          <p:cNvPicPr/>
          <p:nvPr/>
        </p:nvPicPr>
        <p:blipFill>
          <a:blip r:embed="rId1"/>
          <a:stretch/>
        </p:blipFill>
        <p:spPr>
          <a:xfrm>
            <a:off x="380880" y="3048120"/>
            <a:ext cx="8382240" cy="36576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6705720" y="3581280"/>
            <a:ext cx="114300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98 0.17619 C -0.01441 0.15076 -0.01476 0.11168 -0.03281 0.09573 C -0.03559 0.08486 -0.04323 0.07769 -0.04983 0.07052 C -0.06753 0.05087 -0.04462 0.07492 -0.0592 0.0555 C -0.06076 0.05342 -0.06319 0.05226 -0.06493 0.05041 C -0.07049 0.0444 -0.07552 0.03515 -0.08003 0.02775 C -0.08594 0.0185 -0.08993 0.00671 -0.09878 0.00278 C -0.10833 -0.01641 -0.14184 -0.02589 -0.1592 -0.02751 C -0.17049 -0.02867 -0.18194 -0.02913 -0.19323 -0.03005 C -0.20017 -0.02913 -0.20712 -0.0289 -0.21389 -0.02751 C -0.2158 -0.02705 -0.2184 -0.02705 -0.21962 -0.02497 C -0.22309 -0.01849 -0.22326 -0.00994 -0.22517 -0.00231 C -0.22587 0.00024 -0.22708 0.00532 -0.22708 0.00532 C -0.22778 0.0111 -0.22656 0.01804 -0.22899 0.02289 C -0.23003 0.02521 -0.23299 0.02174 -0.2349 0.02035 C -0.23698 0.01827 -0.23819 0.0148 -0.24028 0.01272 C -0.24653 0.00625 -0.25573 -0.00046 -0.26302 -0.00485 C -0.28819 -0.01988 -0.31753 -0.01803 -0.3441 -0.01988 C -0.34757 -0.01919 -0.35833 -0.01826 -0.36302 -0.01479 C -0.36701 -0.01179 -0.37431 -0.00485 -0.37431 -0.00485 C -0.38281 0.01249 -0.38038 0.0044 -0.38368 0.01781 C -0.38437 0.02868 -0.38403 0.03977 -0.38559 0.05041 C -0.38594 0.05295 -0.38628 0.04509 -0.3875 0.04301 C -0.38889 0.0407 -0.39115 0.03931 -0.39323 0.03792 C -0.39913 0.03399 -0.40833 0.03376 -0.41389 0.03284 C -0.44062 0.03885 -0.46667 0.04278 -0.48941 0.06313 C -0.49861 0.05989 -0.50399 0.06105 -0.51198 0.06798 C -0.51788 0.07954 -0.52344 0.09619 -0.5309 0.10567 C -0.53368 0.11677 -0.53767 0.12532 -0.54028 0.13596 C -0.54167 0.14821 -0.54514 0.15954 -0.54219 0.1711 C -0.5441 0.17272 -0.54635 0.1785 -0.54792 0.17619 C -0.55122 0.17087 -0.55174 0.15607 -0.55174 0.15607 C -0.5526 0.13711 -0.55243 0.12093 -0.55538 0.10313 C -0.55816 0.08694 -0.56302 0.07145 -0.56667 0.0555 C -0.56875 0.03677 -0.57014 0.01434 -0.58559 0.00787 C -0.58681 0.00532 -0.58785 0.00232 -0.58941 0.00024 C -0.59097 -0.00185 -0.59358 -0.00254 -0.59497 -0.00485 C -0.60503 -0.02173 -0.58646 -0.003 -0.6026 -0.01734 C -0.63524 -0.01641 -0.66806 -0.01711 -0.70069 -0.01479 C -0.7066 -0.01433 -0.71771 -0.00739 -0.71771 -0.00739 C -0.71962 -0.00578 -0.72118 -0.00369 -0.72326 -0.00231 C -0.725 -0.00115 -0.72743 -0.00138 -0.72899 0.00024 C -0.7375 0.00925 -0.7283 0.00787 -0.73663 0.00787 E">
                                      <p:cBhvr>
                                        <p:cTn id="191" dur="3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7086600" cy="1752480"/>
          </a:xfrm>
          <a:prstGeom prst="rect">
            <a:avLst/>
          </a:prstGeom>
          <a:solidFill>
            <a:srgbClr val="c5f49a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 Дом стоит под старой елкой,   В нем живет моя семья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 несу туда иголки,  Приношу добычу я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ы в работе поминутно : От зари и до зари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с в лесу найти нетрудно,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ишь под ноги посмотри ».</a:t>
            </a:r>
            <a:br>
              <a:rPr sz="2000"/>
            </a:br>
            <a:br>
              <a:rPr sz="16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38098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чевое упражн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рузья помогли»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0" descr="mur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828800" y="5029200"/>
            <a:ext cx="1801800" cy="6951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mur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5562720" y="914400"/>
            <a:ext cx="1089000" cy="3952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2" descr="mur"/>
          <p:cNvPicPr/>
          <p:nvPr/>
        </p:nvPicPr>
        <p:blipFill>
          <a:blip r:embed="rId3">
            <a:lum contrast="10000"/>
          </a:blip>
          <a:stretch/>
        </p:blipFill>
        <p:spPr>
          <a:xfrm>
            <a:off x="6705720" y="1600200"/>
            <a:ext cx="1752480" cy="695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3" descr="mur"/>
          <p:cNvPicPr/>
          <p:nvPr/>
        </p:nvPicPr>
        <p:blipFill>
          <a:blip r:embed="rId4">
            <a:lum contrast="10000"/>
          </a:blip>
          <a:stretch/>
        </p:blipFill>
        <p:spPr>
          <a:xfrm>
            <a:off x="3276720" y="3657600"/>
            <a:ext cx="1230120" cy="468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4" descr="anthill1"/>
          <p:cNvPicPr/>
          <p:nvPr/>
        </p:nvPicPr>
        <p:blipFill>
          <a:blip r:embed="rId5">
            <a:lum contrast="10000"/>
          </a:blip>
          <a:stretch/>
        </p:blipFill>
        <p:spPr>
          <a:xfrm>
            <a:off x="5791320" y="2895480"/>
            <a:ext cx="3122640" cy="33894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"/>
          <p:cNvPicPr/>
          <p:nvPr/>
        </p:nvPicPr>
        <p:blipFill>
          <a:blip r:embed="rId6">
            <a:lum contrast="10000"/>
          </a:blip>
          <a:stretch/>
        </p:blipFill>
        <p:spPr>
          <a:xfrm>
            <a:off x="7696080" y="5029200"/>
            <a:ext cx="1067040" cy="1368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mur"/>
          <p:cNvPicPr/>
          <p:nvPr/>
        </p:nvPicPr>
        <p:blipFill>
          <a:blip r:embed="rId7">
            <a:lum contrast="20000"/>
          </a:blip>
          <a:stretch/>
        </p:blipFill>
        <p:spPr>
          <a:xfrm rot="20040600">
            <a:off x="4176720" y="5803560"/>
            <a:ext cx="1801800" cy="6951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" descr="mur"/>
          <p:cNvPicPr/>
          <p:nvPr/>
        </p:nvPicPr>
        <p:blipFill>
          <a:blip r:embed="rId8">
            <a:lum contrast="30000"/>
          </a:blip>
          <a:stretch/>
        </p:blipFill>
        <p:spPr>
          <a:xfrm>
            <a:off x="533520" y="6095880"/>
            <a:ext cx="1191960" cy="466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8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7848360" cy="5410440"/>
          </a:xfrm>
          <a:prstGeom prst="rect">
            <a:avLst/>
          </a:prstGeom>
          <a:solidFill>
            <a:srgbClr val="c5f49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ОДЦЫ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0" descr="mur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3733920" y="3429000"/>
            <a:ext cx="1801800" cy="6951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0" descr="mur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6553080" y="762120"/>
            <a:ext cx="1801800" cy="6951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0" descr="mur"/>
          <p:cNvPicPr/>
          <p:nvPr/>
        </p:nvPicPr>
        <p:blipFill>
          <a:blip r:embed="rId3">
            <a:lum contrast="20000"/>
          </a:blip>
          <a:stretch/>
        </p:blipFill>
        <p:spPr>
          <a:xfrm>
            <a:off x="609480" y="5257800"/>
            <a:ext cx="1801800" cy="69516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9" descr="MCj01933320000[1]"/>
          <p:cNvPicPr/>
          <p:nvPr/>
        </p:nvPicPr>
        <p:blipFill>
          <a:blip r:embed="rId1"/>
          <a:stretch/>
        </p:blipFill>
        <p:spPr>
          <a:xfrm>
            <a:off x="304920" y="1676520"/>
            <a:ext cx="3047760" cy="4495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7" descr="anthill1"/>
          <p:cNvPicPr/>
          <p:nvPr/>
        </p:nvPicPr>
        <p:blipFill>
          <a:blip r:embed="rId2"/>
          <a:stretch/>
        </p:blipFill>
        <p:spPr>
          <a:xfrm>
            <a:off x="4495680" y="2362320"/>
            <a:ext cx="4341960" cy="4074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8" descr=""/>
          <p:cNvPicPr/>
          <p:nvPr/>
        </p:nvPicPr>
        <p:blipFill>
          <a:blip r:embed="rId3"/>
          <a:stretch/>
        </p:blipFill>
        <p:spPr>
          <a:xfrm>
            <a:off x="7924680" y="5486400"/>
            <a:ext cx="990720" cy="137160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10" descr="mur"/>
          <p:cNvPicPr/>
          <p:nvPr/>
        </p:nvPicPr>
        <p:blipFill>
          <a:blip r:embed="rId4"/>
          <a:stretch/>
        </p:blipFill>
        <p:spPr>
          <a:xfrm rot="21085800">
            <a:off x="1412640" y="4930920"/>
            <a:ext cx="1801800" cy="69516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12" descr="mur"/>
          <p:cNvPicPr/>
          <p:nvPr/>
        </p:nvPicPr>
        <p:blipFill>
          <a:blip r:embed="rId5"/>
          <a:stretch/>
        </p:blipFill>
        <p:spPr>
          <a:xfrm rot="20900400">
            <a:off x="3328560" y="4670280"/>
            <a:ext cx="1801800" cy="69552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13" descr="mur"/>
          <p:cNvPicPr/>
          <p:nvPr/>
        </p:nvPicPr>
        <p:blipFill>
          <a:blip r:embed="rId6"/>
          <a:stretch/>
        </p:blipFill>
        <p:spPr>
          <a:xfrm>
            <a:off x="762120" y="6019920"/>
            <a:ext cx="1801800" cy="695160"/>
          </a:xfrm>
          <a:prstGeom prst="rect">
            <a:avLst/>
          </a:prstGeom>
          <a:ln w="0">
            <a:noFill/>
          </a:ln>
        </p:spPr>
      </p:pic>
      <p:pic>
        <p:nvPicPr>
          <p:cNvPr id="58" name="Содержимое 15" descr="mur"/>
          <p:cNvPicPr/>
          <p:nvPr/>
        </p:nvPicPr>
        <p:blipFill>
          <a:blip r:embed="rId7"/>
          <a:stretch/>
        </p:blipFill>
        <p:spPr>
          <a:xfrm rot="20630400">
            <a:off x="2650680" y="5925960"/>
            <a:ext cx="1801800" cy="6955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6" descr="mur"/>
          <p:cNvPicPr/>
          <p:nvPr/>
        </p:nvPicPr>
        <p:blipFill>
          <a:blip r:embed="rId8"/>
          <a:stretch/>
        </p:blipFill>
        <p:spPr>
          <a:xfrm rot="19837800">
            <a:off x="4168440" y="6035400"/>
            <a:ext cx="1801800" cy="69516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9" descr="mur"/>
          <p:cNvPicPr/>
          <p:nvPr/>
        </p:nvPicPr>
        <p:blipFill>
          <a:blip r:embed="rId9"/>
          <a:stretch/>
        </p:blipFill>
        <p:spPr>
          <a:xfrm>
            <a:off x="0" y="5257800"/>
            <a:ext cx="1801800" cy="6951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1"/>
          <p:cNvSpPr/>
          <p:nvPr/>
        </p:nvSpPr>
        <p:spPr>
          <a:xfrm>
            <a:off x="609480" y="233640"/>
            <a:ext cx="8153640" cy="1313640"/>
          </a:xfrm>
          <a:prstGeom prst="rect">
            <a:avLst/>
          </a:prstGeom>
          <a:solidFill>
            <a:srgbClr val="c5f4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ит под ёлкой городок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нему 100 тропок, 100 дорог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тем дорожкам, взад-вперёд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одец крохотный снуёт. Что за городок? Что за народ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8" descr="">
            <a:hlinkClick r:id="" action="ppaction://hlinkshowjump?jump=nextslide"/>
          </p:cNvPr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219320" y="4495680"/>
            <a:ext cx="1450800" cy="18907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781680" y="1219320"/>
            <a:ext cx="1981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По берёзке ввер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зберус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 листочек зацеплю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сё увижу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ес и луг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то находится вокруг!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" descr="000803_1055_8542_vuvv"/>
          <p:cNvPicPr/>
          <p:nvPr/>
        </p:nvPicPr>
        <p:blipFill>
          <a:blip r:embed="rId2"/>
          <a:stretch/>
        </p:blipFill>
        <p:spPr>
          <a:xfrm>
            <a:off x="2438280" y="685800"/>
            <a:ext cx="3014640" cy="5715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000803_1055_8542_vuvv"/>
          <p:cNvPicPr/>
          <p:nvPr/>
        </p:nvPicPr>
        <p:blipFill>
          <a:blip r:embed="rId3"/>
          <a:stretch/>
        </p:blipFill>
        <p:spPr>
          <a:xfrm>
            <a:off x="5410080" y="3048120"/>
            <a:ext cx="1447920" cy="350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000803_1065_2411_vnvv"/>
          <p:cNvPicPr/>
          <p:nvPr/>
        </p:nvPicPr>
        <p:blipFill>
          <a:blip r:embed="rId1"/>
          <a:stretch/>
        </p:blipFill>
        <p:spPr>
          <a:xfrm>
            <a:off x="2438280" y="2666880"/>
            <a:ext cx="6172200" cy="3200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j0293828"/>
          <p:cNvPicPr/>
          <p:nvPr/>
        </p:nvPicPr>
        <p:blipFill>
          <a:blip r:embed="rId2"/>
          <a:stretch/>
        </p:blipFill>
        <p:spPr>
          <a:xfrm>
            <a:off x="533520" y="990720"/>
            <a:ext cx="3047760" cy="1836720"/>
          </a:xfrm>
          <a:prstGeom prst="rect">
            <a:avLst/>
          </a:prstGeom>
          <a:ln w="0">
            <a:noFill/>
          </a:ln>
        </p:spPr>
      </p:pic>
      <p:pic>
        <p:nvPicPr>
          <p:cNvPr id="69" name="Содержимое 9" descr=""/>
          <p:cNvPicPr/>
          <p:nvPr/>
        </p:nvPicPr>
        <p:blipFill>
          <a:blip r:embed="rId3">
            <a:lum contrast="10000"/>
          </a:blip>
          <a:stretch/>
        </p:blipFill>
        <p:spPr>
          <a:xfrm>
            <a:off x="3124080" y="2895480"/>
            <a:ext cx="12193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33 0.08326 L 0.08334 -0.04995 E">
                                      <p:cBhvr>
                                        <p:cTn id="26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2" descr="000803_1080_8808_vuvv"/>
          <p:cNvPicPr/>
          <p:nvPr/>
        </p:nvPicPr>
        <p:blipFill>
          <a:blip r:embed="rId1"/>
          <a:stretch/>
        </p:blipFill>
        <p:spPr>
          <a:xfrm>
            <a:off x="4876920" y="3200400"/>
            <a:ext cx="2868480" cy="2286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2" descr="000803_1080_8808_vuvv"/>
          <p:cNvPicPr/>
          <p:nvPr/>
        </p:nvPicPr>
        <p:blipFill>
          <a:blip r:embed="rId2"/>
          <a:stretch/>
        </p:blipFill>
        <p:spPr>
          <a:xfrm>
            <a:off x="990720" y="1905120"/>
            <a:ext cx="3962160" cy="3429000"/>
          </a:xfrm>
          <a:prstGeom prst="rect">
            <a:avLst/>
          </a:prstGeom>
          <a:ln w="0">
            <a:noFill/>
          </a:ln>
        </p:spPr>
      </p:pic>
      <p:pic>
        <p:nvPicPr>
          <p:cNvPr id="72" name="Содержимое 9" descr=""/>
          <p:cNvPicPr/>
          <p:nvPr/>
        </p:nvPicPr>
        <p:blipFill>
          <a:blip r:embed="rId3">
            <a:lum contrast="10000"/>
          </a:blip>
          <a:stretch/>
        </p:blipFill>
        <p:spPr>
          <a:xfrm>
            <a:off x="380880" y="5029200"/>
            <a:ext cx="1219320" cy="1676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" descr="000803_1080_8808_vuvv"/>
          <p:cNvPicPr/>
          <p:nvPr/>
        </p:nvPicPr>
        <p:blipFill>
          <a:blip r:embed="rId4"/>
          <a:stretch/>
        </p:blipFill>
        <p:spPr>
          <a:xfrm>
            <a:off x="7010280" y="2209680"/>
            <a:ext cx="182880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020600"/>
          </a:xfrm>
          <a:prstGeom prst="rect">
            <a:avLst/>
          </a:prstGeom>
          <a:solidFill>
            <a:srgbClr val="c5f49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ловесная игра « Исправь ошибку»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абушка летает около цветка. (Бабочка летает около цвет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0" descr="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3581280" y="4495680"/>
            <a:ext cx="2133720" cy="2171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" descr="Дерево Весной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533520" y="2286000"/>
            <a:ext cx="2793960" cy="4267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2" descr="Дерево Весной"/>
          <p:cNvPicPr/>
          <p:nvPr/>
        </p:nvPicPr>
        <p:blipFill>
          <a:blip r:embed="rId3">
            <a:lum contrast="10000"/>
          </a:blip>
          <a:stretch/>
        </p:blipFill>
        <p:spPr>
          <a:xfrm>
            <a:off x="5943600" y="2514600"/>
            <a:ext cx="2693880" cy="411480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8" descr="бабушка.jpg"/>
          <p:cNvPicPr/>
          <p:nvPr/>
        </p:nvPicPr>
        <p:blipFill>
          <a:blip r:embed="rId4">
            <a:lum contrast="20000"/>
          </a:blip>
          <a:stretch/>
        </p:blipFill>
        <p:spPr>
          <a:xfrm rot="4004400">
            <a:off x="3740040" y="1077840"/>
            <a:ext cx="1981440" cy="34768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BUTRFLY3"/>
          <p:cNvPicPr/>
          <p:nvPr/>
        </p:nvPicPr>
        <p:blipFill>
          <a:blip r:embed="rId5"/>
          <a:stretch/>
        </p:blipFill>
        <p:spPr>
          <a:xfrm rot="1345200">
            <a:off x="3428640" y="1981080"/>
            <a:ext cx="19810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6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58 0.125 0.16647 C 0.125 0.25837 0.069 0.33295 0 0.33295 C -0.069 0.33295 -0.125 0.25837 -0.125 0.16647 C -0.125 0.07458 -0.069 0 0 0 Z">
                                      <p:cBhvr>
                                        <p:cTn id="37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1" nodeType="afterEffect" fill="hold" presetClass="path" presetID="4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46994E-006 C 0.00208 0.10615 0.0092 0.18224 0.01632 0.18224 C 0.02361 0.18224 0.02986 0.10615 0.03211 -2.46994E-006 C 0.03507 0.10615 0.04114 0.18224 0.04843 0.18224 C 0.05573 0.18224 0.06198 0.10615 0.06406 -2.46994E-006 C 0.06718 0.10615 0.07326 0.18224 0.08073 0.18224 C 0.08802 0.18224 0.09514 0.10615 0.09705 -2.46994E-006 C 0.0993 0.10615 0.10555 0.18224 0.11389 0.18224 C 0.11996 0.18224 0.12708 0.10615 0.12951 -2.46994E-006 C 0.13159 0.10615 0.13871 0.18224 0.14583 0.18224 C 0.15312 0.18224 0.15937 0.10615 0.16163 -2.46994E-006 C 0.16458 0.10615 0.17066 0.18224 0.17795 0.18224 C 0.18524 0.18224 0.19149 0.10615 0.19461 -2.46994E-006 C 0.1967 0.10615 0.20277 0.18224 0.21024 0.18224 C 0.21753 0.18224 0.22465 0.10615 0.22656 -2.46994E-006 C 0.22882 0.10615 0.23507 0.18224 0.2434 0.18224 C 0.25069 0.18224 0.25659 0.10615 0.25902 -2.46994E-006 E">
                                      <p:cBhvr>
                                        <p:cTn id="52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0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8686800" cy="53337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solidFill>
            <a:srgbClr val="c5f49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ила летит и жужжит. (Пчела летит и жужжи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76920" y="1905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0003-005-Pila"/>
          <p:cNvPicPr/>
          <p:nvPr/>
        </p:nvPicPr>
        <p:blipFill>
          <a:blip r:embed="rId2"/>
          <a:stretch/>
        </p:blipFill>
        <p:spPr>
          <a:xfrm rot="21099600">
            <a:off x="3322440" y="1785960"/>
            <a:ext cx="2700000" cy="29750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BUMBLBEE"/>
          <p:cNvPicPr/>
          <p:nvPr/>
        </p:nvPicPr>
        <p:blipFill>
          <a:blip r:embed="rId3"/>
          <a:stretch/>
        </p:blipFill>
        <p:spPr>
          <a:xfrm>
            <a:off x="3809880" y="2438280"/>
            <a:ext cx="1828800" cy="167652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"/>
          <p:cNvSpPr/>
          <p:nvPr/>
        </p:nvSpPr>
        <p:spPr>
          <a:xfrm>
            <a:off x="380880" y="1676520"/>
            <a:ext cx="4038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4" nodeType="afterEffect" fill="hold" presetClass="path" presetID="4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 -0.08923 0.046 -0.16647 0.113 -0.1718 C 0.177 -0.17846 0.237 -0.11853 0.241 -0.03196 C 0.246 0.04794 0.204 0.12252 0.144 0.12785 C 0.089 0.13185 0.037 0.08257 0.033 0.00799 C 0.029 -0.05993 0.064 -0.12386 0.115 -0.12918 C 0.162 -0.13318 0.206 -0.09189 0.209 -0.0293 C 0.212 0.02664 0.184 0.08124 0.142 0.0839 C 0.104 0.0879 0.068 0.05594 0.065 0.00533 C 0.063 -0.03995 0.084 -0.0839 0.117 -0.08657 C 0.146 -0.08923 0.175 -0.06526 0.177 -0.02664 C 0.179 0.00666 0.164 0.03862 0.14 0.04129 C 0.12 0.04395 0.099 0.0293 0.098 0.00266 C 0.096 -0.01865 0.104 -0.04129 0.119 -0.04395 C 0.131 -0.04395 0.143 -0.03862 0.145 -0.02397 C 0.146 -0.01465 0.144 -0.00533 0.138 -0.00133 C 0.135 0 0.133 0 0.13 -0.00133 E">
                                      <p:cBhvr>
                                        <p:cTn id="75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c5f49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ук ползёт по веточке. (Жук  ползёт по веточк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LADYBUG1"/>
          <p:cNvPicPr/>
          <p:nvPr/>
        </p:nvPicPr>
        <p:blipFill>
          <a:blip r:embed="rId1"/>
          <a:stretch/>
        </p:blipFill>
        <p:spPr>
          <a:xfrm rot="3746400">
            <a:off x="3533400" y="1510920"/>
            <a:ext cx="1841760" cy="19749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MCj01233430000[1]"/>
          <p:cNvPicPr/>
          <p:nvPr/>
        </p:nvPicPr>
        <p:blipFill>
          <a:blip r:embed="rId2"/>
          <a:stretch/>
        </p:blipFill>
        <p:spPr>
          <a:xfrm rot="21067800">
            <a:off x="2238480" y="2085840"/>
            <a:ext cx="6629400" cy="4102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6"/>
          <p:cNvPicPr/>
          <p:nvPr/>
        </p:nvPicPr>
        <p:blipFill>
          <a:blip r:embed="rId3">
            <a:lum contrast="10000"/>
          </a:blip>
          <a:stretch/>
        </p:blipFill>
        <p:spPr>
          <a:xfrm rot="538200">
            <a:off x="3068640" y="816120"/>
            <a:ext cx="1854360" cy="23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302 0.07562 L 0.25468 -0.02429 E">
                                      <p:cBhvr>
                                        <p:cTn id="81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61760"/>
          </a:xfrm>
          <a:prstGeom prst="rect">
            <a:avLst/>
          </a:prstGeom>
          <a:solidFill>
            <a:srgbClr val="c5f49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ура села на гриб. (Муха села на гриб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3" descr="C:\Documents and Settings\User\Мои документы\Мои рисунки\Копия Изображение 285.jpg"/>
          <p:cNvPicPr/>
          <p:nvPr/>
        </p:nvPicPr>
        <p:blipFill>
          <a:blip r:embed="rId1"/>
          <a:stretch/>
        </p:blipFill>
        <p:spPr>
          <a:xfrm>
            <a:off x="3200400" y="3124080"/>
            <a:ext cx="3429000" cy="3500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4" descr="C:\Documents and Settings\User\Мои документы\Мои рисунки\Изображение 285.jpg"/>
          <p:cNvPicPr/>
          <p:nvPr/>
        </p:nvPicPr>
        <p:blipFill>
          <a:blip r:embed="rId2"/>
          <a:stretch/>
        </p:blipFill>
        <p:spPr>
          <a:xfrm>
            <a:off x="3809880" y="1447920"/>
            <a:ext cx="1521000" cy="22161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HOUSEFLY"/>
          <p:cNvPicPr/>
          <p:nvPr/>
        </p:nvPicPr>
        <p:blipFill>
          <a:blip r:embed="rId3"/>
          <a:stretch/>
        </p:blipFill>
        <p:spPr>
          <a:xfrm rot="4840200">
            <a:off x="3580200" y="3048840"/>
            <a:ext cx="96984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4-09-23T12:21:08Z</dcterms:modified>
  <cp:revision>1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