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F48C-EAEB-4BC6-9888-69A223A4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718-F84D-4AFD-9EEC-D090059D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1C4-CF2F-4638-982C-DCE18A24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196B-4AE3-43E9-B540-6682156A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4195-EFC9-4E36-A07B-E4C743D1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6DF2-4422-472A-BAE4-CAC49200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A131-4D29-44F0-A1F1-1D95A415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BD13-F8C9-41E0-A51D-3A3AB3A1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8618-1692-427D-AD87-F8582ABF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07A4-6ECE-4CA7-B5E6-CBBC9C66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4F18-04BB-42FA-90BD-3629340E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855F-6418-47AF-92CE-FAB125DA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0CAD-8E35-42A3-AC7C-8AC068E7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8FD3-A35B-4476-A0CB-ACDBA174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484B-1BF9-4B86-B079-533A9659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5771-8183-4398-95BC-E175D705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432B-0092-4416-A332-15BAC35F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3EA0-9475-4E56-A7E8-9AAB3D73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BB3B-BBFD-4C63-B273-9D39E101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399D-AB24-4FC2-985E-71F988A8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701-41AD-488E-A98B-FC09A862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227F-FA9D-4687-9D03-80A52C24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D7DC-3E6E-4324-9269-B57BEA4F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E822-FB22-43B4-9A7D-5E7EC876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58D3-3A80-4EEC-A519-D16D37DEAE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7353-CD25-4233-AC4B-CCBB4D370F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23840" y="1679400"/>
            <a:ext cx="770904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i="1" lang="en-US" sz="6000" spc="-1" strike="noStrike">
                <a:solidFill>
                  <a:srgbClr val="333399"/>
                </a:solidFill>
                <a:latin typeface="Tahoma"/>
              </a:rPr>
              <a:t>Псковское озеро.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132000" y="3860640"/>
            <a:ext cx="46404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ahoma"/>
              </a:rPr>
              <a:t>Выполнила: Фёдорова Еле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ahoma"/>
              </a:rPr>
              <a:t>Ученица 6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3333cc"/>
                </a:solidFill>
                <a:latin typeface="Tahoma"/>
              </a:rPr>
              <a:t>класс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БОУ «Гимназия №1 г.Никольское» Тосненский район Ленинградская обла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920" y="-1650240"/>
            <a:ext cx="15494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60280"/>
            <a:ext cx="7772400" cy="58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Площадь Псковско-Чудского озера составляет 3555 км², объём — 25 км³. Средняя глубина — 7,1 м наибольшая — 15 м. В озеро впадает около 30 рек, а вытекает река Нарва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264360" cy="44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-9369360"/>
            <a:ext cx="46836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-171720"/>
            <a:ext cx="7772400" cy="63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На эстонских берегах располагаются города Калласте и Муствеэ; в 2 км от восточного российского берега Чудского озера — город Гдов, в 10 км от озера на реке Великая — Псков. Рельеф дна однообразен. Плоское, постепенно поднимающееся к берегам дно у всех озёр большей частью покрыто слоем серого ила, местами — песчаное. Самое глубокое место находится в Тёплом озере, в Мехикоормаской впадине (в 300 м от берега), где глубина достигает 15,3 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6167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920" y="-476640"/>
            <a:ext cx="23414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1890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Берега Псковско-Чудского озера имеют плавные очертания и образует лишь три значительных залива — Раскопельский, Лахта и Желченский. Почти всюду к низким берегам озера, сложенным в основном торфяником, прилегают обширные низменные и заболоченные пространства, затопляемые в периоды весенних половодий. При наиболее значительных разливах площадь затопления достигает 1000 км². Западный берег Псковского озера у села Красная Горка высокий и обрывистый. Западный берег Чудского озера низменный, местами заболочен, восточный — более возвышенный. Встречаются песчаные дюны и холмы, поросшие борами. Вдоль песчаных берегов на 200—300 м тянется полоса мелководь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-11160"/>
            <a:ext cx="414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60280"/>
            <a:ext cx="7772400" cy="58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Рельеф дна однообразен. Плоское, постепенно поднимающееся к берегам дно у всех озёр большей частью покрыто слоем серого ила, местами — песчаное. Самое глубокое место находится в Тёплом озере, в Мехикоормаской впадине (в 300 м от берега), где глубина достигает 15,3 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Псковско-Чудское озеро относится к числу хорошо проточных озёр. Ежегодный приток воды в него равен примерно половине водной массы озер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-1099080"/>
            <a:ext cx="37083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476280"/>
            <a:ext cx="777240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Озеро — это реликт большого ледникового водоёма, находившегося на месте современного. В палеозое 300—400 миллионов лет назад вся территория современного бассейна Финского залива была покрыта морем. Осадочные отложения того времени — песчаники, пески, глины, известняки — покрывают мощной толщей (свыше 200 метров) кристаллический фундамент, состоящий из гранитов, гнейсов и диабаз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920" y="-6715440"/>
            <a:ext cx="61272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6000" y="18864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Псковско-Чудское озеро относится к числу хорошо проточных озёр. Ежегодный приток воды в него равен примерно половине водной массы озера. Большая часть российского побережья Псковско-Чудского озера и ряд островов официально включены в состав пограничной зоны, посещение которой ограничено. На части Псковского озера юго-восточнее условной линии населенный пункт Липно — населенный пункт Литовиж пограничный режим не установлен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-10444320"/>
            <a:ext cx="2523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7280" y="0"/>
            <a:ext cx="77724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Современный рельеф образовался в результате деятельности ледникового покрова (последнее Валдайское оледенение было 12 тысяч лет назад).После отступания ледника образовалось Литориновое море, уровень которого был на 7—9 м выше современного. Уровни ледниковых водоёмов постепенно снижались, а их площадь уменьшалас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771640" y="4292640"/>
            <a:ext cx="3665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920" y="-7755840"/>
            <a:ext cx="612720" cy="88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890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С эстонской стороны пограничной зоны нет, беспрепятственный доступ к побережью озера возможен повсемест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3802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14:46:42Z</dcterms:created>
  <dc:creator>1</dc:creator>
  <dc:description/>
  <dc:language>en-US</dc:language>
  <cp:lastModifiedBy>Светлана</cp:lastModifiedBy>
  <dcterms:modified xsi:type="dcterms:W3CDTF">2015-03-13T20:07:55Z</dcterms:modified>
  <cp:revision>4</cp:revision>
  <dc:subject/>
  <dc:title>Слайд 1</dc:title>
</cp:coreProperties>
</file>