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B35D-F61F-4C33-8607-4E40C7FD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FF4A-3277-4934-9101-4A9C517C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41AD-1811-41FE-9463-9E471A12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2DA-AF6B-447C-8051-1E4DA081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BAC6-6197-4148-A2D9-4947E9DB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CB10-EB5B-41D0-BFC4-935345A5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59AF-D26C-47D8-961A-8D12E98F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27FD-F48C-499B-8489-1E55AFF8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8673-2033-4941-9CA2-33DA168F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121A-EBF7-4D3D-BCF4-AC433F82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9CEA-273B-4CE1-9F45-A8AE79F2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E43-6302-4E02-B07E-E579A39E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BB73-B0B1-45EA-A711-3D2AC039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23BC-6531-4D54-8B04-16211EAE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5FD2-7273-4483-A314-55FEE997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1495-479F-45EA-A7B1-7BADFB18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7051-219F-40C5-A206-D03EA820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ECCE-2B94-4372-A553-01EBA701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BEF-D120-497B-B2EE-515C118A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0D9-2884-4C68-ACBC-CBF25F1C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19C0-717A-4A4C-98D4-06564623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D8D-30CD-4700-AF3A-14BA1F49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584C-4A0E-41CB-AF22-CF6715D8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50B0-343E-41C6-92D8-4AB16BC0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0B94-A4EA-4AAB-8DA7-B53FB28C91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8052-BBEB-4372-A783-55C13987E0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57120" y="114264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азвитие речи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2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:\DCIM\100OLYMP\P9190379.JPG"/>
          <p:cNvPicPr/>
          <p:nvPr/>
        </p:nvPicPr>
        <p:blipFill>
          <a:blip r:embed="rId1"/>
          <a:stretch/>
        </p:blipFill>
        <p:spPr>
          <a:xfrm>
            <a:off x="5473800" y="1994040"/>
            <a:ext cx="3743280" cy="486396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4" descr=""/>
          <p:cNvPicPr/>
          <p:nvPr/>
        </p:nvPicPr>
        <p:blipFill>
          <a:blip r:embed="rId2"/>
          <a:stretch/>
        </p:blipFill>
        <p:spPr>
          <a:xfrm>
            <a:off x="804960" y="2719440"/>
            <a:ext cx="47973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Шалун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ень. Падают листья с деревьев. Пышным ковром они покрыли землю в саду. На крыльцо вышла кошка Бийка. Ветер гонит сухие листья по саду. Кошка стрелой бегает за ними. Она любит играть. Шалунья устала. Она легла на груду сухих листьев и засну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Шалун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071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Осенью в са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ень. Падают листья с деревьев. Пышным ковром они покрыли землю в сад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Кошка игра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крыльцо вышла кошка Бийка. Ветер гонит сухие листья по саду. Кошка стрелой бегает за ними. Она любит игр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Шалунья уст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алунья устала. Она легла на груду сухих листьев и засну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Шалун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928880" y="128592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енью в са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шка играе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алунья ус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Шалун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енью в са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шка игр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алунья уст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ст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с д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в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ышным к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шка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й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н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 за н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 на груду лист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6T15:28:41Z</dcterms:created>
  <dc:creator>Comp</dc:creator>
  <dc:description/>
  <dc:language>en-US</dc:language>
  <cp:lastModifiedBy>1</cp:lastModifiedBy>
  <dcterms:modified xsi:type="dcterms:W3CDTF">2015-03-13T14:29:35Z</dcterms:modified>
  <cp:revision>12</cp:revision>
  <dc:subject/>
  <dc:title>Слайд 1</dc:title>
</cp:coreProperties>
</file>