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9.jpeg" ContentType="image/jpeg"/>
  <Override PartName="/ppt/media/image2.gif" ContentType="image/gif"/>
  <Override PartName="/ppt/media/image8.jpeg" ContentType="image/jpeg"/>
  <Override PartName="/ppt/media/image21.gif" ContentType="image/gif"/>
  <Override PartName="/ppt/media/image10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14.jpeg" ContentType="image/jpeg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DA8-749E-4DA9-A924-9EC6047A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3D9-0F9D-4425-A1A8-D30DBE5D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00F-5879-495D-8E90-652663EF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DC6-ED55-441C-AB7E-48FE6F77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E42-80A9-40BA-A17C-5958CD7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1D5-D6E3-440C-BF1C-43A92008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961-4EC4-4755-9E75-F3BD369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CDC-7EF3-483F-98AC-D278FD71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BFF-0F4B-48D7-8BA7-E3C2FE6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9D4-07D1-487B-B847-916ACC8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4BF-8B22-417C-A82C-96EE6BC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F9E-E0DD-4DB4-9144-579E349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FF31-C0C4-4876-AD5D-5C3BFF57CA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48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ПРАВЛЕНИЕ ОБРАЗОВАНИЯ АДМИНИСТРАЦИИ КЛИНСКОГО МУНИЦИПАЛЬНОГО РАЙОНА МОСКОВ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униципальное общеобразовательное учреждени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яя общеобразовательная школа № 13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рок по предмету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960" y="4642920"/>
            <a:ext cx="48578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 начальных классов Санталова Надежда Викторов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5" descr="D:\ТАША\картинки\бабочки , насекомые\c3c62efbd992ad280b2f29e267db5462.gif"/>
          <p:cNvPicPr/>
          <p:nvPr/>
        </p:nvPicPr>
        <p:blipFill>
          <a:blip r:embed="rId1"/>
          <a:stretch/>
        </p:blipFill>
        <p:spPr>
          <a:xfrm>
            <a:off x="714240" y="4429080"/>
            <a:ext cx="2249640" cy="177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5960" y="542880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хотят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1\Мои документы\Мои рисунки\f_17798743.jpg"/>
          <p:cNvPicPr/>
          <p:nvPr/>
        </p:nvPicPr>
        <p:blipFill>
          <a:blip r:embed="rId1"/>
          <a:srcRect l="0" t="20" r="0" b="20"/>
          <a:stretch/>
        </p:blipFill>
        <p:spPr>
          <a:xfrm>
            <a:off x="1500120" y="571680"/>
            <a:ext cx="5921280" cy="443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red_deer_009.jpg"/>
          <p:cNvPicPr/>
          <p:nvPr/>
        </p:nvPicPr>
        <p:blipFill>
          <a:blip r:embed="rId1"/>
          <a:stretch/>
        </p:blipFill>
        <p:spPr>
          <a:xfrm>
            <a:off x="1143000" y="714240"/>
            <a:ext cx="6786720" cy="452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red_deer_009.jpg"/>
          <p:cNvPicPr/>
          <p:nvPr/>
        </p:nvPicPr>
        <p:blipFill>
          <a:blip r:embed="rId1"/>
          <a:stretch/>
        </p:blipFill>
        <p:spPr>
          <a:xfrm>
            <a:off x="1214280" y="642960"/>
            <a:ext cx="6858000" cy="4568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921400" y="578628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СУ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04fbe81957f5.jpg"/>
          <p:cNvPicPr/>
          <p:nvPr/>
        </p:nvPicPr>
        <p:blipFill>
          <a:blip r:embed="rId1"/>
          <a:stretch/>
        </p:blipFill>
        <p:spPr>
          <a:xfrm>
            <a:off x="1857240" y="357120"/>
            <a:ext cx="485784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71464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бира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Рисунок 5" descr="04fbe81957f5.jpg"/>
          <p:cNvPicPr/>
          <p:nvPr/>
        </p:nvPicPr>
        <p:blipFill>
          <a:blip r:embed="rId1"/>
          <a:srcRect l="0" t="19223" r="0" b="19223"/>
          <a:stretch/>
        </p:blipFill>
        <p:spPr>
          <a:xfrm>
            <a:off x="1357200" y="785880"/>
            <a:ext cx="6429600" cy="482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1\Мои документы\Мои рисунки\79941.jpg"/>
          <p:cNvPicPr/>
          <p:nvPr/>
        </p:nvPicPr>
        <p:blipFill>
          <a:blip r:embed="rId1"/>
          <a:srcRect l="0" t="0" r="0" b="9942"/>
          <a:stretch/>
        </p:blipFill>
        <p:spPr>
          <a:xfrm>
            <a:off x="714240" y="428760"/>
            <a:ext cx="7620120" cy="52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хотит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C:\Documents and Settings\1\Мои документы\Мои рисунки\79941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Как добывают пищу?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РАСТИТЕЛЬНОЯДНЫЕ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ХИЩНИК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СЕЯДНЫЕ</a:t>
            </a:r>
            <a:br>
              <a:rPr sz="2800"/>
            </a:br>
            <a:br>
              <a:rPr sz="28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асутся                       охотятся          охотятся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бирают                                            собирают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28760"/>
            <a:ext cx="5486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D:\ТАША\картинки\бабочки , насекомые\змеюка.gif"/>
          <p:cNvPicPr/>
          <p:nvPr/>
        </p:nvPicPr>
        <p:blipFill>
          <a:blip r:embed="rId1"/>
          <a:stretch/>
        </p:blipFill>
        <p:spPr>
          <a:xfrm>
            <a:off x="1000080" y="6215040"/>
            <a:ext cx="7500960" cy="40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ТАША\картинки\бабочки , насекомые\0535d7c865a41f628068c680d391ab6a.gif"/>
          <p:cNvPicPr/>
          <p:nvPr/>
        </p:nvPicPr>
        <p:blipFill>
          <a:blip r:embed="rId2"/>
          <a:stretch/>
        </p:blipFill>
        <p:spPr>
          <a:xfrm>
            <a:off x="285840" y="285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ТАША\картинки\бабочки , насекомые\99e5edbc5b8d1e61fa6d33d3d136ca01.gif"/>
          <p:cNvPicPr/>
          <p:nvPr/>
        </p:nvPicPr>
        <p:blipFill>
          <a:blip r:embed="rId3"/>
          <a:stretch/>
        </p:blipFill>
        <p:spPr>
          <a:xfrm>
            <a:off x="7786800" y="500040"/>
            <a:ext cx="952560" cy="57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анимашка, анимация, белый медведь ловит рыбу"/>
          <p:cNvPicPr/>
          <p:nvPr/>
        </p:nvPicPr>
        <p:blipFill>
          <a:blip r:embed="rId4"/>
          <a:stretch/>
        </p:blipFill>
        <p:spPr>
          <a:xfrm>
            <a:off x="6215040" y="35719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белая овца ест сено, анимашка"/>
          <p:cNvPicPr/>
          <p:nvPr/>
        </p:nvPicPr>
        <p:blipFill>
          <a:blip r:embed="rId5"/>
          <a:stretch/>
        </p:blipFill>
        <p:spPr>
          <a:xfrm>
            <a:off x="642960" y="2714760"/>
            <a:ext cx="3457440" cy="28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бегущий гепард, анимашка"/>
          <p:cNvPicPr/>
          <p:nvPr/>
        </p:nvPicPr>
        <p:blipFill>
          <a:blip r:embed="rId6"/>
          <a:stretch/>
        </p:blipFill>
        <p:spPr>
          <a:xfrm>
            <a:off x="3429000" y="1285920"/>
            <a:ext cx="43340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440" y="532116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аук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C:\Documents and Settings\1\Мои документы\Мои рисунки\untitled.bmp"/>
          <p:cNvPicPr/>
          <p:nvPr/>
        </p:nvPicPr>
        <p:blipFill>
          <a:blip r:embed="rId1"/>
          <a:srcRect l="0" t="20977" r="0" b="2097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00040" y="35712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Я устраиваюсь ловко: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 меня с собой кладовка.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Где кладовка? За щекой!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Вот я хитренький какой!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C:\Documents and Settings\1\Мои документы\Мои рисунки\f_17798743.jpg"/>
          <p:cNvPicPr/>
          <p:nvPr/>
        </p:nvPicPr>
        <p:blipFill>
          <a:blip r:embed="rId1"/>
          <a:srcRect l="0" t="20" r="0" b="20"/>
          <a:stretch/>
        </p:blipFill>
        <p:spPr>
          <a:xfrm>
            <a:off x="1000080" y="571680"/>
            <a:ext cx="6516720" cy="4887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643360"/>
            <a:ext cx="5486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alibri"/>
              </a:rPr>
              <a:t>ВОЛКИ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C:\Documents and Settings\1\Мои документы\Мои рисунки\3454793.jpg"/>
          <p:cNvPicPr/>
          <p:nvPr/>
        </p:nvPicPr>
        <p:blipFill>
          <a:blip r:embed="rId1"/>
          <a:srcRect l="1109" t="0" r="110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alibri"/>
              </a:rPr>
              <a:t>ГУСЕНИЦА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Documents and Settings\1\Мои документы\Мои рисунки\21.jpg"/>
          <p:cNvPicPr/>
          <p:nvPr/>
        </p:nvPicPr>
        <p:blipFill>
          <a:blip r:embed="rId1"/>
          <a:srcRect l="1890" t="0" r="1890" b="0"/>
          <a:stretch/>
        </p:blipFill>
        <p:spPr>
          <a:xfrm>
            <a:off x="1214280" y="642960"/>
            <a:ext cx="6421680" cy="4816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440" y="5714640"/>
            <a:ext cx="5486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alibri"/>
              </a:rPr>
              <a:t>БАБОЧКА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2" descr="C:\Documents and Settings\1\Мои документы\Мои рисунки\brownbear-1.jpg"/>
          <p:cNvPicPr/>
          <p:nvPr/>
        </p:nvPicPr>
        <p:blipFill>
          <a:blip r:embed="rId1"/>
          <a:srcRect l="6152" t="0" r="6152" b="0"/>
          <a:stretch/>
        </p:blipFill>
        <p:spPr>
          <a:xfrm>
            <a:off x="1143000" y="571680"/>
            <a:ext cx="6516720" cy="4887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440" y="5714640"/>
            <a:ext cx="5486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alibri"/>
              </a:rPr>
              <a:t>МЕДВЕДЬ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440" y="5714640"/>
            <a:ext cx="5486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Calibri"/>
              </a:rPr>
              <a:t>кабан</a:t>
            </a:r>
            <a:endParaRPr b="0" lang="en-US" sz="5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C:\Documents and Settings\1\Мои документы\Мои рисунки\kaban.jpg"/>
          <p:cNvPicPr/>
          <p:nvPr/>
        </p:nvPicPr>
        <p:blipFill>
          <a:blip r:embed="rId1"/>
          <a:srcRect l="0" t="4362" r="0" b="4362"/>
          <a:stretch/>
        </p:blipFill>
        <p:spPr>
          <a:xfrm>
            <a:off x="1428840" y="857160"/>
            <a:ext cx="6325920" cy="474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Documents and Settings\1\Мои документы\Мои рисунки\1-web.jpg"/>
          <p:cNvPicPr/>
          <p:nvPr/>
        </p:nvPicPr>
        <p:blipFill>
          <a:blip r:embed="rId1"/>
          <a:srcRect l="0" t="22911" r="0" b="2291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alibri"/>
              </a:rPr>
              <a:t>ЗАЯЦ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440" y="5714640"/>
            <a:ext cx="5486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Calibri"/>
              </a:rPr>
              <a:t>растения</a:t>
            </a:r>
            <a:endParaRPr b="0" lang="en-US" sz="5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C:\Documents and Settings\1\Мои документы\Мои рисунки\4df7503edc0a.jpg"/>
          <p:cNvPicPr/>
          <p:nvPr/>
        </p:nvPicPr>
        <p:blipFill>
          <a:blip r:embed="rId1"/>
          <a:stretch/>
        </p:blipFill>
        <p:spPr>
          <a:xfrm>
            <a:off x="1143000" y="357120"/>
            <a:ext cx="6897600" cy="517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1\Мои документы\Мои рисунки\0_3131c_9e0f0756_L.jpg"/>
          <p:cNvPicPr/>
          <p:nvPr/>
        </p:nvPicPr>
        <p:blipFill>
          <a:blip r:embed="rId1"/>
          <a:srcRect l="23000" t="20749" r="14003" b="8373"/>
          <a:stretch/>
        </p:blipFill>
        <p:spPr>
          <a:xfrm>
            <a:off x="428760" y="357120"/>
            <a:ext cx="271440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1\Мои документы\Мои рисунки\0_35abe_ca5bf344_-1-L.jpg"/>
          <p:cNvPicPr/>
          <p:nvPr/>
        </p:nvPicPr>
        <p:blipFill>
          <a:blip r:embed="rId2"/>
          <a:stretch/>
        </p:blipFill>
        <p:spPr>
          <a:xfrm>
            <a:off x="6215040" y="357120"/>
            <a:ext cx="2643120" cy="3305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1\Мои документы\Мои рисунки\0_200f0_cbfa6dce_L.jpg"/>
          <p:cNvPicPr/>
          <p:nvPr/>
        </p:nvPicPr>
        <p:blipFill>
          <a:blip r:embed="rId3"/>
          <a:srcRect l="25251" t="29603" r="2750" b="0"/>
          <a:stretch/>
        </p:blipFill>
        <p:spPr>
          <a:xfrm>
            <a:off x="4500720" y="3786120"/>
            <a:ext cx="3857400" cy="2911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Documents and Settings\1\Мои документы\Мои рисунки\0_3a960_3059c411_L.jpg"/>
          <p:cNvPicPr/>
          <p:nvPr/>
        </p:nvPicPr>
        <p:blipFill>
          <a:blip r:embed="rId4"/>
          <a:srcRect l="0" t="24128" r="34641" b="6123"/>
          <a:stretch/>
        </p:blipFill>
        <p:spPr>
          <a:xfrm>
            <a:off x="1285920" y="3786120"/>
            <a:ext cx="2571840" cy="288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Documents and Settings\1\Мои документы\Мои рисунки\0820407add316f8790a0c1947912de73.jpg"/>
          <p:cNvPicPr/>
          <p:nvPr/>
        </p:nvPicPr>
        <p:blipFill>
          <a:blip r:embed="rId5"/>
          <a:srcRect l="4966" t="4997" r="10272" b="18335"/>
          <a:stretch/>
        </p:blipFill>
        <p:spPr>
          <a:xfrm>
            <a:off x="3500280" y="357120"/>
            <a:ext cx="235764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 составлена на основе материалов свободных интернет-источн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\Мои документы\Мои рисунки\12361551615173.jpg"/>
          <p:cNvPicPr/>
          <p:nvPr/>
        </p:nvPicPr>
        <p:blipFill>
          <a:blip r:embed="rId1"/>
          <a:srcRect l="8715" t="0" r="17892" b="0"/>
          <a:stretch/>
        </p:blipFill>
        <p:spPr>
          <a:xfrm>
            <a:off x="285840" y="214200"/>
            <a:ext cx="2286000" cy="400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1\Мои документы\Мои рисунки\711956.jpg"/>
          <p:cNvPicPr/>
          <p:nvPr/>
        </p:nvPicPr>
        <p:blipFill>
          <a:blip r:embed="rId2"/>
          <a:stretch/>
        </p:blipFill>
        <p:spPr>
          <a:xfrm>
            <a:off x="5000760" y="435780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1\Мои документы\Мои рисунки\46575fe9ba71.jpg"/>
          <p:cNvPicPr/>
          <p:nvPr/>
        </p:nvPicPr>
        <p:blipFill>
          <a:blip r:embed="rId3"/>
          <a:srcRect l="50003" t="0" r="0" b="0"/>
          <a:stretch/>
        </p:blipFill>
        <p:spPr>
          <a:xfrm>
            <a:off x="6429240" y="214200"/>
            <a:ext cx="2305080" cy="385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1\Мои документы\Мои рисунки\991588828.jpg"/>
          <p:cNvPicPr/>
          <p:nvPr/>
        </p:nvPicPr>
        <p:blipFill>
          <a:blip r:embed="rId4"/>
          <a:srcRect l="18843" t="27456" r="14390" b="13929"/>
          <a:stretch/>
        </p:blipFill>
        <p:spPr>
          <a:xfrm>
            <a:off x="3571920" y="214200"/>
            <a:ext cx="2308320" cy="400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1\Мои документы\Мои рисунки\bca8946d86ee.jpg"/>
          <p:cNvPicPr/>
          <p:nvPr/>
        </p:nvPicPr>
        <p:blipFill>
          <a:blip r:embed="rId5"/>
          <a:srcRect l="4998" t="3007" r="28440" b="4428"/>
          <a:stretch/>
        </p:blipFill>
        <p:spPr>
          <a:xfrm>
            <a:off x="1357200" y="4357800"/>
            <a:ext cx="3098880" cy="221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</a:t>
            </a:r>
            <a:br>
              <a:rPr sz="44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пособы добычи пищи на суше»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D:\ТАША\картинки\бабочки , насекомые\06-13.gif"/>
          <p:cNvPicPr/>
          <p:nvPr/>
        </p:nvPicPr>
        <p:blipFill>
          <a:blip r:embed="rId1"/>
          <a:stretch/>
        </p:blipFill>
        <p:spPr>
          <a:xfrm>
            <a:off x="500040" y="571680"/>
            <a:ext cx="800280" cy="80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1\Мои документы\Мои рисунки\short.jpg"/>
          <p:cNvPicPr/>
          <p:nvPr/>
        </p:nvPicPr>
        <p:blipFill>
          <a:blip r:embed="rId2"/>
          <a:srcRect l="12231" t="0" r="47585" b="0"/>
          <a:stretch/>
        </p:blipFill>
        <p:spPr>
          <a:xfrm>
            <a:off x="428760" y="3429000"/>
            <a:ext cx="164304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1\Мои документы\Мои рисунки\79941.jpg"/>
          <p:cNvPicPr/>
          <p:nvPr/>
        </p:nvPicPr>
        <p:blipFill>
          <a:blip r:embed="rId3"/>
          <a:srcRect l="23749" t="6382" r="7814" b="19047"/>
          <a:stretch/>
        </p:blipFill>
        <p:spPr>
          <a:xfrm>
            <a:off x="4572000" y="3357720"/>
            <a:ext cx="4357800" cy="316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ы узнаем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питаются животные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животные добывают пищу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омощью чего животные добывают пищу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072640" cy="38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ем питаются?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РАСТИТЕЛЬНОЯДНЫЕ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ХИЩНИК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СЕЯДНЫ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сь                                         лиса                        каба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чела                                       стрекоз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айский жук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age8_b45.jpg"/>
          <p:cNvPicPr/>
          <p:nvPr/>
        </p:nvPicPr>
        <p:blipFill>
          <a:blip r:embed="rId1"/>
          <a:stretch/>
        </p:blipFill>
        <p:spPr>
          <a:xfrm>
            <a:off x="1357200" y="587520"/>
            <a:ext cx="6350040" cy="441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page8_b45.jpg"/>
          <p:cNvPicPr/>
          <p:nvPr/>
        </p:nvPicPr>
        <p:blipFill>
          <a:blip r:embed="rId1"/>
          <a:stretch/>
        </p:blipFill>
        <p:spPr>
          <a:xfrm>
            <a:off x="1643040" y="928800"/>
            <a:ext cx="621504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3071880" y="5643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ХОТИ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\Мои документы\Мои рисунки\f_17798743.jpg"/>
          <p:cNvPicPr/>
          <p:nvPr/>
        </p:nvPicPr>
        <p:blipFill>
          <a:blip r:embed="rId1"/>
          <a:stretch/>
        </p:blipFill>
        <p:spPr>
          <a:xfrm>
            <a:off x="1000080" y="357120"/>
            <a:ext cx="7134120" cy="535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8:44:36Z</dcterms:created>
  <dc:creator>1</dc:creator>
  <dc:description/>
  <dc:language>en-US</dc:language>
  <cp:lastModifiedBy>НС</cp:lastModifiedBy>
  <dcterms:modified xsi:type="dcterms:W3CDTF">2010-05-26T16:34:45Z</dcterms:modified>
  <cp:revision>86</cp:revision>
  <dc:subject/>
  <dc:title>Урок по предмету  ОКРУЖАЮЩИЙ МИР</dc:title>
</cp:coreProperties>
</file>